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4A-4632-4C0A-8398-1434C276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F0A-A3B5-4B27-8F47-38A3FFF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BD3-14E5-45FD-B0BF-1270E360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000-56B5-4291-860F-6929F9AC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268-9A55-4CEA-9816-FE5FB99E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0FC-A336-403F-801D-0F2FCB82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501-8C05-45EA-B176-730D0435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24F-F5D0-4742-A168-15516143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799-9249-4C50-8E48-1E7F93E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877-E14E-438E-BB07-4D2C76D5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F57-7B62-4101-B3CC-E6F8318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860-AFF5-47DF-A9FF-2E31444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D89-5EC0-488C-9DA2-C03381E1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oal 3.01/3.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Interpretations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rix G shows the number of students at a gym in the year 2000. Matrix M shows the number of students at the same gym in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Untitled3"/>
          <p:cNvPicPr/>
          <p:nvPr/>
        </p:nvPicPr>
        <p:blipFill>
          <a:blip r:embed="rId1"/>
          <a:srcRect l="10282" t="1829" r="0" b="0"/>
          <a:stretch/>
        </p:blipFill>
        <p:spPr>
          <a:xfrm>
            <a:off x="228600" y="2286000"/>
            <a:ext cx="8686800" cy="1822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09480" y="41911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matrix that represents the change from 2000 to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4446720" y="4664160"/>
            <a:ext cx="1496880" cy="1600200"/>
          </a:xfrm>
          <a:custGeom>
            <a:avLst/>
            <a:gdLst/>
            <a:ahLst/>
            <a:rect l="l" t="t" r="r" b="b"/>
            <a:pathLst>
              <a:path w="4160" h="4446">
                <a:moveTo>
                  <a:pt x="13398" y="13303"/>
                </a:moveTo>
                <a:cubicBezTo>
                  <a:pt x="13308" y="13294"/>
                  <a:pt x="13351" y="13282"/>
                  <a:pt x="13240" y="13335"/>
                </a:cubicBezTo>
                <a:cubicBezTo>
                  <a:pt x="13174" y="13367"/>
                  <a:pt x="13117" y="13402"/>
                  <a:pt x="13049" y="13430"/>
                </a:cubicBezTo>
                <a:cubicBezTo>
                  <a:pt x="12998" y="13451"/>
                  <a:pt x="12940" y="13470"/>
                  <a:pt x="12890" y="13494"/>
                </a:cubicBezTo>
                <a:cubicBezTo>
                  <a:pt x="12847" y="13515"/>
                  <a:pt x="12797" y="13546"/>
                  <a:pt x="12764" y="13589"/>
                </a:cubicBezTo>
                <a:cubicBezTo>
                  <a:pt x="12733" y="13630"/>
                  <a:pt x="12734" y="13692"/>
                  <a:pt x="12732" y="13748"/>
                </a:cubicBezTo>
                <a:cubicBezTo>
                  <a:pt x="12729" y="13861"/>
                  <a:pt x="12711" y="13957"/>
                  <a:pt x="12700" y="14065"/>
                </a:cubicBezTo>
                <a:cubicBezTo>
                  <a:pt x="12684" y="14215"/>
                  <a:pt x="12693" y="14363"/>
                  <a:pt x="12668" y="14510"/>
                </a:cubicBezTo>
                <a:cubicBezTo>
                  <a:pt x="12640" y="14671"/>
                  <a:pt x="12581" y="14828"/>
                  <a:pt x="12541" y="14986"/>
                </a:cubicBezTo>
                <a:cubicBezTo>
                  <a:pt x="12499" y="15149"/>
                  <a:pt x="12436" y="15327"/>
                  <a:pt x="12414" y="15494"/>
                </a:cubicBezTo>
                <a:cubicBezTo>
                  <a:pt x="12395" y="15639"/>
                  <a:pt x="12405" y="15794"/>
                  <a:pt x="12382" y="15938"/>
                </a:cubicBezTo>
                <a:cubicBezTo>
                  <a:pt x="12361" y="16069"/>
                  <a:pt x="12351" y="16184"/>
                  <a:pt x="12351" y="16320"/>
                </a:cubicBezTo>
                <a:cubicBezTo>
                  <a:pt x="12351" y="16483"/>
                  <a:pt x="12341" y="16652"/>
                  <a:pt x="12382" y="16796"/>
                </a:cubicBezTo>
                <a:cubicBezTo>
                  <a:pt x="12400" y="16858"/>
                  <a:pt x="12386" y="16874"/>
                  <a:pt x="12446" y="16923"/>
                </a:cubicBezTo>
                <a:cubicBezTo>
                  <a:pt x="12481" y="16952"/>
                  <a:pt x="12531" y="16996"/>
                  <a:pt x="12573" y="17018"/>
                </a:cubicBezTo>
                <a:cubicBezTo>
                  <a:pt x="12630" y="17048"/>
                  <a:pt x="12670" y="17074"/>
                  <a:pt x="12732" y="17113"/>
                </a:cubicBezTo>
                <a:cubicBezTo>
                  <a:pt x="12770" y="17137"/>
                  <a:pt x="12816" y="17129"/>
                  <a:pt x="12859" y="17145"/>
                </a:cubicBezTo>
              </a:path>
              <a:path w="4160" h="4446">
                <a:moveTo>
                  <a:pt x="13589" y="13494"/>
                </a:moveTo>
                <a:cubicBezTo>
                  <a:pt x="13589" y="13420"/>
                  <a:pt x="13571" y="13536"/>
                  <a:pt x="13557" y="13557"/>
                </a:cubicBezTo>
                <a:cubicBezTo>
                  <a:pt x="13517" y="13618"/>
                  <a:pt x="13466" y="13649"/>
                  <a:pt x="13430" y="13716"/>
                </a:cubicBezTo>
                <a:cubicBezTo>
                  <a:pt x="13385" y="13801"/>
                  <a:pt x="13340" y="13875"/>
                  <a:pt x="13335" y="13970"/>
                </a:cubicBezTo>
                <a:cubicBezTo>
                  <a:pt x="13330" y="14057"/>
                  <a:pt x="13330" y="14122"/>
                  <a:pt x="13367" y="14192"/>
                </a:cubicBezTo>
                <a:cubicBezTo>
                  <a:pt x="13390" y="14235"/>
                  <a:pt x="13472" y="14335"/>
                  <a:pt x="13526" y="14351"/>
                </a:cubicBezTo>
                <a:cubicBezTo>
                  <a:pt x="13574" y="14365"/>
                  <a:pt x="13680" y="14337"/>
                  <a:pt x="13716" y="14319"/>
                </a:cubicBezTo>
                <a:cubicBezTo>
                  <a:pt x="13738" y="14308"/>
                  <a:pt x="13835" y="14187"/>
                  <a:pt x="13843" y="14160"/>
                </a:cubicBezTo>
                <a:cubicBezTo>
                  <a:pt x="13864" y="14085"/>
                  <a:pt x="13829" y="14057"/>
                  <a:pt x="13811" y="14002"/>
                </a:cubicBezTo>
                <a:cubicBezTo>
                  <a:pt x="13794" y="13950"/>
                  <a:pt x="13779" y="13913"/>
                  <a:pt x="13716" y="13906"/>
                </a:cubicBezTo>
                <a:cubicBezTo>
                  <a:pt x="13650" y="13899"/>
                  <a:pt x="13634" y="13925"/>
                  <a:pt x="13589" y="13970"/>
                </a:cubicBezTo>
                <a:cubicBezTo>
                  <a:pt x="13522" y="14037"/>
                  <a:pt x="13529" y="14085"/>
                  <a:pt x="13494" y="14160"/>
                </a:cubicBezTo>
                <a:cubicBezTo>
                  <a:pt x="13483" y="14171"/>
                  <a:pt x="13473" y="14181"/>
                  <a:pt x="13462" y="14192"/>
                </a:cubicBezTo>
              </a:path>
              <a:path w="4160" h="4446">
                <a:moveTo>
                  <a:pt x="14478" y="13621"/>
                </a:moveTo>
                <a:cubicBezTo>
                  <a:pt x="14575" y="13621"/>
                  <a:pt x="14582" y="13664"/>
                  <a:pt x="14668" y="13684"/>
                </a:cubicBezTo>
                <a:cubicBezTo>
                  <a:pt x="14760" y="13706"/>
                  <a:pt x="14860" y="13741"/>
                  <a:pt x="14954" y="13748"/>
                </a:cubicBezTo>
                <a:cubicBezTo>
                  <a:pt x="14965" y="13748"/>
                  <a:pt x="14975" y="13748"/>
                  <a:pt x="14986" y="13748"/>
                </a:cubicBezTo>
              </a:path>
              <a:path w="4160" h="4446">
                <a:moveTo>
                  <a:pt x="15653" y="13716"/>
                </a:moveTo>
                <a:cubicBezTo>
                  <a:pt x="15664" y="13660"/>
                  <a:pt x="15684" y="13617"/>
                  <a:pt x="15684" y="13557"/>
                </a:cubicBezTo>
                <a:cubicBezTo>
                  <a:pt x="15684" y="13466"/>
                  <a:pt x="15692" y="13343"/>
                  <a:pt x="15621" y="13272"/>
                </a:cubicBezTo>
                <a:cubicBezTo>
                  <a:pt x="15588" y="13239"/>
                  <a:pt x="15503" y="13200"/>
                  <a:pt x="15462" y="13176"/>
                </a:cubicBezTo>
                <a:cubicBezTo>
                  <a:pt x="15432" y="13186"/>
                  <a:pt x="15394" y="13230"/>
                  <a:pt x="15367" y="13272"/>
                </a:cubicBezTo>
                <a:cubicBezTo>
                  <a:pt x="15310" y="13360"/>
                  <a:pt x="15308" y="13518"/>
                  <a:pt x="15304" y="13621"/>
                </a:cubicBezTo>
                <a:cubicBezTo>
                  <a:pt x="15299" y="13754"/>
                  <a:pt x="15353" y="13874"/>
                  <a:pt x="15367" y="14002"/>
                </a:cubicBezTo>
                <a:cubicBezTo>
                  <a:pt x="15376" y="14085"/>
                  <a:pt x="15432" y="14235"/>
                  <a:pt x="15399" y="14319"/>
                </a:cubicBezTo>
                <a:cubicBezTo>
                  <a:pt x="15390" y="14342"/>
                  <a:pt x="15332" y="14420"/>
                  <a:pt x="15304" y="14414"/>
                </a:cubicBezTo>
                <a:cubicBezTo>
                  <a:pt x="15221" y="14396"/>
                  <a:pt x="15237" y="14345"/>
                  <a:pt x="15208" y="14288"/>
                </a:cubicBezTo>
                <a:cubicBezTo>
                  <a:pt x="15168" y="14208"/>
                  <a:pt x="15145" y="14192"/>
                  <a:pt x="15145" y="14097"/>
                </a:cubicBezTo>
                <a:cubicBezTo>
                  <a:pt x="15145" y="14013"/>
                  <a:pt x="15155" y="13976"/>
                  <a:pt x="15208" y="13906"/>
                </a:cubicBezTo>
                <a:cubicBezTo>
                  <a:pt x="15255" y="13844"/>
                  <a:pt x="15362" y="13814"/>
                  <a:pt x="15430" y="13780"/>
                </a:cubicBezTo>
                <a:cubicBezTo>
                  <a:pt x="15521" y="13735"/>
                  <a:pt x="15572" y="13675"/>
                  <a:pt x="15653" y="13621"/>
                </a:cubicBezTo>
                <a:cubicBezTo>
                  <a:pt x="15714" y="13590"/>
                  <a:pt x="15735" y="13582"/>
                  <a:pt x="15716" y="13526"/>
                </a:cubicBezTo>
              </a:path>
              <a:path w="4160" h="4446">
                <a:moveTo>
                  <a:pt x="12732" y="15050"/>
                </a:moveTo>
                <a:lnTo>
                  <a:pt x="12732" y="15050"/>
                </a:lnTo>
              </a:path>
              <a:path w="4160" h="4446">
                <a:moveTo>
                  <a:pt x="13621" y="14827"/>
                </a:moveTo>
                <a:cubicBezTo>
                  <a:pt x="13557" y="14811"/>
                  <a:pt x="13539" y="14796"/>
                  <a:pt x="13462" y="14796"/>
                </a:cubicBezTo>
                <a:cubicBezTo>
                  <a:pt x="13383" y="14796"/>
                  <a:pt x="13335" y="14785"/>
                  <a:pt x="13272" y="14764"/>
                </a:cubicBezTo>
                <a:cubicBezTo>
                  <a:pt x="13261" y="14764"/>
                  <a:pt x="13251" y="14764"/>
                  <a:pt x="13240" y="14764"/>
                </a:cubicBezTo>
                <a:cubicBezTo>
                  <a:pt x="13240" y="14836"/>
                  <a:pt x="13212" y="14806"/>
                  <a:pt x="13208" y="14859"/>
                </a:cubicBezTo>
                <a:cubicBezTo>
                  <a:pt x="13201" y="14945"/>
                  <a:pt x="13157" y="14976"/>
                  <a:pt x="13113" y="15050"/>
                </a:cubicBezTo>
                <a:cubicBezTo>
                  <a:pt x="13078" y="15108"/>
                  <a:pt x="13081" y="15228"/>
                  <a:pt x="13049" y="15272"/>
                </a:cubicBezTo>
                <a:cubicBezTo>
                  <a:pt x="13013" y="15321"/>
                  <a:pt x="13079" y="15218"/>
                  <a:pt x="13113" y="15208"/>
                </a:cubicBezTo>
                <a:cubicBezTo>
                  <a:pt x="13183" y="15188"/>
                  <a:pt x="13317" y="15199"/>
                  <a:pt x="13367" y="15240"/>
                </a:cubicBezTo>
                <a:cubicBezTo>
                  <a:pt x="13408" y="15273"/>
                  <a:pt x="13481" y="15352"/>
                  <a:pt x="13494" y="15399"/>
                </a:cubicBezTo>
                <a:cubicBezTo>
                  <a:pt x="13513" y="15469"/>
                  <a:pt x="13502" y="15594"/>
                  <a:pt x="13462" y="15653"/>
                </a:cubicBezTo>
                <a:cubicBezTo>
                  <a:pt x="13410" y="15729"/>
                  <a:pt x="13375" y="15758"/>
                  <a:pt x="13303" y="15812"/>
                </a:cubicBezTo>
                <a:cubicBezTo>
                  <a:pt x="13247" y="15854"/>
                  <a:pt x="13204" y="15860"/>
                  <a:pt x="13144" y="15812"/>
                </a:cubicBezTo>
                <a:cubicBezTo>
                  <a:pt x="13078" y="15759"/>
                  <a:pt x="13042" y="15715"/>
                  <a:pt x="12986" y="15653"/>
                </a:cubicBezTo>
                <a:cubicBezTo>
                  <a:pt x="12954" y="15621"/>
                  <a:pt x="12943" y="15610"/>
                  <a:pt x="12922" y="15589"/>
                </a:cubicBezTo>
              </a:path>
              <a:path w="4160" h="4446">
                <a:moveTo>
                  <a:pt x="14414" y="14891"/>
                </a:moveTo>
                <a:cubicBezTo>
                  <a:pt x="14471" y="14905"/>
                  <a:pt x="14511" y="14938"/>
                  <a:pt x="14573" y="14954"/>
                </a:cubicBezTo>
                <a:cubicBezTo>
                  <a:pt x="14641" y="14971"/>
                  <a:pt x="14720" y="15007"/>
                  <a:pt x="14796" y="14986"/>
                </a:cubicBezTo>
                <a:cubicBezTo>
                  <a:pt x="14817" y="14975"/>
                  <a:pt x="14838" y="14965"/>
                  <a:pt x="14859" y="14954"/>
                </a:cubicBezTo>
              </a:path>
              <a:path w="4160" h="4446">
                <a:moveTo>
                  <a:pt x="15018" y="14796"/>
                </a:moveTo>
                <a:cubicBezTo>
                  <a:pt x="15088" y="14796"/>
                  <a:pt x="15108" y="14781"/>
                  <a:pt x="15176" y="14764"/>
                </a:cubicBezTo>
                <a:cubicBezTo>
                  <a:pt x="15254" y="14744"/>
                  <a:pt x="15298" y="14709"/>
                  <a:pt x="15367" y="14764"/>
                </a:cubicBezTo>
                <a:cubicBezTo>
                  <a:pt x="15418" y="14805"/>
                  <a:pt x="15399" y="14862"/>
                  <a:pt x="15399" y="14922"/>
                </a:cubicBezTo>
                <a:cubicBezTo>
                  <a:pt x="15399" y="15016"/>
                  <a:pt x="15338" y="15047"/>
                  <a:pt x="15272" y="15113"/>
                </a:cubicBezTo>
                <a:cubicBezTo>
                  <a:pt x="15235" y="15150"/>
                  <a:pt x="15164" y="15230"/>
                  <a:pt x="15145" y="15240"/>
                </a:cubicBezTo>
                <a:cubicBezTo>
                  <a:pt x="15134" y="15240"/>
                  <a:pt x="15124" y="15240"/>
                  <a:pt x="15113" y="15240"/>
                </a:cubicBezTo>
                <a:cubicBezTo>
                  <a:pt x="15157" y="15173"/>
                  <a:pt x="15196" y="15221"/>
                  <a:pt x="15272" y="15240"/>
                </a:cubicBezTo>
                <a:cubicBezTo>
                  <a:pt x="15322" y="15253"/>
                  <a:pt x="15384" y="15313"/>
                  <a:pt x="15399" y="15367"/>
                </a:cubicBezTo>
                <a:cubicBezTo>
                  <a:pt x="15421" y="15450"/>
                  <a:pt x="15430" y="15532"/>
                  <a:pt x="15430" y="15621"/>
                </a:cubicBezTo>
                <a:cubicBezTo>
                  <a:pt x="15430" y="15737"/>
                  <a:pt x="15383" y="15777"/>
                  <a:pt x="15304" y="15843"/>
                </a:cubicBezTo>
                <a:cubicBezTo>
                  <a:pt x="15260" y="15880"/>
                  <a:pt x="15215" y="15956"/>
                  <a:pt x="15145" y="15938"/>
                </a:cubicBezTo>
                <a:cubicBezTo>
                  <a:pt x="15101" y="15927"/>
                  <a:pt x="14971" y="15891"/>
                  <a:pt x="14954" y="15843"/>
                </a:cubicBezTo>
                <a:cubicBezTo>
                  <a:pt x="14935" y="15791"/>
                  <a:pt x="14930" y="15740"/>
                  <a:pt x="14922" y="15684"/>
                </a:cubicBezTo>
              </a:path>
              <a:path w="4160" h="4446">
                <a:moveTo>
                  <a:pt x="15812" y="13049"/>
                </a:moveTo>
                <a:cubicBezTo>
                  <a:pt x="15858" y="13014"/>
                  <a:pt x="15847" y="12972"/>
                  <a:pt x="15938" y="12954"/>
                </a:cubicBezTo>
                <a:cubicBezTo>
                  <a:pt x="16020" y="12938"/>
                  <a:pt x="16059" y="12978"/>
                  <a:pt x="16129" y="12986"/>
                </a:cubicBezTo>
                <a:cubicBezTo>
                  <a:pt x="16202" y="12994"/>
                  <a:pt x="16253" y="12998"/>
                  <a:pt x="16320" y="13018"/>
                </a:cubicBezTo>
                <a:cubicBezTo>
                  <a:pt x="16328" y="13020"/>
                  <a:pt x="16445" y="13048"/>
                  <a:pt x="16446" y="13049"/>
                </a:cubicBezTo>
                <a:cubicBezTo>
                  <a:pt x="16535" y="13181"/>
                  <a:pt x="16415" y="13610"/>
                  <a:pt x="16415" y="13748"/>
                </a:cubicBezTo>
                <a:cubicBezTo>
                  <a:pt x="16415" y="14310"/>
                  <a:pt x="16413" y="14871"/>
                  <a:pt x="16446" y="15430"/>
                </a:cubicBezTo>
                <a:cubicBezTo>
                  <a:pt x="16459" y="15642"/>
                  <a:pt x="16464" y="15855"/>
                  <a:pt x="16478" y="16066"/>
                </a:cubicBezTo>
                <a:cubicBezTo>
                  <a:pt x="16490" y="16250"/>
                  <a:pt x="16537" y="16452"/>
                  <a:pt x="16510" y="16637"/>
                </a:cubicBezTo>
                <a:cubicBezTo>
                  <a:pt x="16489" y="16775"/>
                  <a:pt x="16446" y="16885"/>
                  <a:pt x="16415" y="17018"/>
                </a:cubicBezTo>
                <a:cubicBezTo>
                  <a:pt x="16400" y="17082"/>
                  <a:pt x="16394" y="17238"/>
                  <a:pt x="16320" y="17272"/>
                </a:cubicBezTo>
                <a:cubicBezTo>
                  <a:pt x="16248" y="17305"/>
                  <a:pt x="16016" y="17296"/>
                  <a:pt x="15938" y="17304"/>
                </a:cubicBezTo>
                <a:cubicBezTo>
                  <a:pt x="15802" y="17318"/>
                  <a:pt x="15689" y="17355"/>
                  <a:pt x="15558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7121520" y="4675320"/>
            <a:ext cx="1303200" cy="34920"/>
          </a:xfrm>
          <a:custGeom>
            <a:avLst/>
            <a:gdLst/>
            <a:ahLst/>
            <a:rect l="l" t="t" r="r" b="b"/>
            <a:pathLst>
              <a:path w="3621" h="96">
                <a:moveTo>
                  <a:pt x="19780" y="13081"/>
                </a:moveTo>
                <a:cubicBezTo>
                  <a:pt x="20111" y="13081"/>
                  <a:pt x="20441" y="13085"/>
                  <a:pt x="20764" y="13049"/>
                </a:cubicBezTo>
                <a:cubicBezTo>
                  <a:pt x="20880" y="13036"/>
                  <a:pt x="21000" y="13031"/>
                  <a:pt x="21114" y="13018"/>
                </a:cubicBezTo>
                <a:cubicBezTo>
                  <a:pt x="21441" y="12981"/>
                  <a:pt x="21775" y="13032"/>
                  <a:pt x="22098" y="12986"/>
                </a:cubicBezTo>
                <a:cubicBezTo>
                  <a:pt x="22371" y="12947"/>
                  <a:pt x="22693" y="12985"/>
                  <a:pt x="22955" y="13018"/>
                </a:cubicBezTo>
                <a:cubicBezTo>
                  <a:pt x="23017" y="13026"/>
                  <a:pt x="23187" y="13054"/>
                  <a:pt x="23241" y="13049"/>
                </a:cubicBezTo>
                <a:cubicBezTo>
                  <a:pt x="23296" y="13044"/>
                  <a:pt x="23344" y="13025"/>
                  <a:pt x="23400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4560840" y="5829480"/>
            <a:ext cx="354240" cy="434880"/>
          </a:xfrm>
          <a:custGeom>
            <a:avLst/>
            <a:gdLst/>
            <a:ahLst/>
            <a:rect l="l" t="t" r="r" b="b"/>
            <a:pathLst>
              <a:path w="985" h="1208">
                <a:moveTo>
                  <a:pt x="12668" y="16351"/>
                </a:moveTo>
                <a:cubicBezTo>
                  <a:pt x="12726" y="16351"/>
                  <a:pt x="12743" y="16377"/>
                  <a:pt x="12795" y="16383"/>
                </a:cubicBezTo>
                <a:cubicBezTo>
                  <a:pt x="12853" y="16389"/>
                  <a:pt x="12841" y="16378"/>
                  <a:pt x="12890" y="16415"/>
                </a:cubicBezTo>
                <a:cubicBezTo>
                  <a:pt x="12904" y="16372"/>
                  <a:pt x="12907" y="16386"/>
                  <a:pt x="12954" y="16351"/>
                </a:cubicBezTo>
              </a:path>
              <a:path w="985" h="1208">
                <a:moveTo>
                  <a:pt x="13208" y="16256"/>
                </a:moveTo>
                <a:cubicBezTo>
                  <a:pt x="13267" y="16256"/>
                  <a:pt x="13283" y="16230"/>
                  <a:pt x="13335" y="16224"/>
                </a:cubicBezTo>
                <a:cubicBezTo>
                  <a:pt x="13399" y="16217"/>
                  <a:pt x="13416" y="16192"/>
                  <a:pt x="13494" y="16192"/>
                </a:cubicBezTo>
                <a:cubicBezTo>
                  <a:pt x="13538" y="16192"/>
                  <a:pt x="13597" y="16175"/>
                  <a:pt x="13621" y="16224"/>
                </a:cubicBezTo>
                <a:cubicBezTo>
                  <a:pt x="13641" y="16265"/>
                  <a:pt x="13669" y="16330"/>
                  <a:pt x="13652" y="16383"/>
                </a:cubicBezTo>
                <a:cubicBezTo>
                  <a:pt x="13628" y="16455"/>
                  <a:pt x="13618" y="16581"/>
                  <a:pt x="13557" y="16637"/>
                </a:cubicBezTo>
                <a:cubicBezTo>
                  <a:pt x="13525" y="16667"/>
                  <a:pt x="13424" y="16758"/>
                  <a:pt x="13398" y="16764"/>
                </a:cubicBezTo>
                <a:cubicBezTo>
                  <a:pt x="13370" y="16770"/>
                  <a:pt x="13332" y="16764"/>
                  <a:pt x="13303" y="16764"/>
                </a:cubicBezTo>
                <a:cubicBezTo>
                  <a:pt x="13350" y="16799"/>
                  <a:pt x="13384" y="16814"/>
                  <a:pt x="13430" y="16859"/>
                </a:cubicBezTo>
                <a:cubicBezTo>
                  <a:pt x="13495" y="16924"/>
                  <a:pt x="13493" y="16983"/>
                  <a:pt x="13526" y="17050"/>
                </a:cubicBezTo>
                <a:cubicBezTo>
                  <a:pt x="13558" y="17115"/>
                  <a:pt x="13560" y="17198"/>
                  <a:pt x="13526" y="17272"/>
                </a:cubicBezTo>
                <a:cubicBezTo>
                  <a:pt x="13499" y="17330"/>
                  <a:pt x="13475" y="17337"/>
                  <a:pt x="13430" y="17367"/>
                </a:cubicBezTo>
                <a:cubicBezTo>
                  <a:pt x="13352" y="17419"/>
                  <a:pt x="13364" y="17390"/>
                  <a:pt x="13272" y="17367"/>
                </a:cubicBezTo>
                <a:cubicBezTo>
                  <a:pt x="13188" y="17346"/>
                  <a:pt x="13094" y="17358"/>
                  <a:pt x="13018" y="17336"/>
                </a:cubicBezTo>
                <a:cubicBezTo>
                  <a:pt x="12982" y="17336"/>
                  <a:pt x="12968" y="17333"/>
                  <a:pt x="12954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5462640" y="5818320"/>
            <a:ext cx="138240" cy="399960"/>
          </a:xfrm>
          <a:custGeom>
            <a:avLst/>
            <a:gdLst/>
            <a:ahLst/>
            <a:rect l="l" t="t" r="r" b="b"/>
            <a:pathLst>
              <a:path w="383" h="1112">
                <a:moveTo>
                  <a:pt x="15462" y="16605"/>
                </a:moveTo>
                <a:cubicBezTo>
                  <a:pt x="15505" y="16595"/>
                  <a:pt x="15548" y="16557"/>
                  <a:pt x="15558" y="16510"/>
                </a:cubicBezTo>
                <a:cubicBezTo>
                  <a:pt x="15573" y="16439"/>
                  <a:pt x="15555" y="16374"/>
                  <a:pt x="15526" y="16320"/>
                </a:cubicBezTo>
                <a:cubicBezTo>
                  <a:pt x="15488" y="16248"/>
                  <a:pt x="15449" y="16188"/>
                  <a:pt x="15367" y="16161"/>
                </a:cubicBezTo>
                <a:cubicBezTo>
                  <a:pt x="15318" y="16145"/>
                  <a:pt x="15225" y="16165"/>
                  <a:pt x="15208" y="16224"/>
                </a:cubicBezTo>
                <a:cubicBezTo>
                  <a:pt x="15186" y="16300"/>
                  <a:pt x="15176" y="16360"/>
                  <a:pt x="15176" y="16446"/>
                </a:cubicBezTo>
                <a:cubicBezTo>
                  <a:pt x="15176" y="16498"/>
                  <a:pt x="15183" y="16549"/>
                  <a:pt x="15240" y="16574"/>
                </a:cubicBezTo>
                <a:cubicBezTo>
                  <a:pt x="15300" y="16601"/>
                  <a:pt x="15363" y="16605"/>
                  <a:pt x="15430" y="16605"/>
                </a:cubicBezTo>
                <a:cubicBezTo>
                  <a:pt x="15549" y="16605"/>
                  <a:pt x="15526" y="16660"/>
                  <a:pt x="15526" y="16764"/>
                </a:cubicBezTo>
                <a:cubicBezTo>
                  <a:pt x="15526" y="16838"/>
                  <a:pt x="15494" y="16915"/>
                  <a:pt x="15462" y="16986"/>
                </a:cubicBezTo>
                <a:cubicBezTo>
                  <a:pt x="15419" y="17083"/>
                  <a:pt x="15403" y="17177"/>
                  <a:pt x="15367" y="17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3246480" y="1508040"/>
            <a:ext cx="4560840" cy="1201680"/>
          </a:xfrm>
          <a:custGeom>
            <a:avLst/>
            <a:gdLst/>
            <a:ahLst/>
            <a:rect l="l" t="t" r="r" b="b"/>
            <a:pathLst>
              <a:path w="12669" h="3335">
                <a:moveTo>
                  <a:pt x="21654" y="7493"/>
                </a:moveTo>
                <a:cubicBezTo>
                  <a:pt x="21664" y="7493"/>
                  <a:pt x="21675" y="7493"/>
                  <a:pt x="21685" y="7493"/>
                </a:cubicBezTo>
                <a:cubicBezTo>
                  <a:pt x="21663" y="7455"/>
                  <a:pt x="21634" y="7420"/>
                  <a:pt x="21622" y="7398"/>
                </a:cubicBezTo>
                <a:cubicBezTo>
                  <a:pt x="21594" y="7346"/>
                  <a:pt x="21556" y="7294"/>
                  <a:pt x="21526" y="7239"/>
                </a:cubicBezTo>
                <a:cubicBezTo>
                  <a:pt x="21490" y="7174"/>
                  <a:pt x="21475" y="7118"/>
                  <a:pt x="21431" y="7048"/>
                </a:cubicBezTo>
                <a:cubicBezTo>
                  <a:pt x="21378" y="6963"/>
                  <a:pt x="21327" y="6879"/>
                  <a:pt x="21272" y="6794"/>
                </a:cubicBezTo>
                <a:cubicBezTo>
                  <a:pt x="21210" y="6698"/>
                  <a:pt x="21149" y="6604"/>
                  <a:pt x="21082" y="6509"/>
                </a:cubicBezTo>
                <a:cubicBezTo>
                  <a:pt x="20944" y="6313"/>
                  <a:pt x="20814" y="6137"/>
                  <a:pt x="20638" y="5969"/>
                </a:cubicBezTo>
                <a:cubicBezTo>
                  <a:pt x="20529" y="5865"/>
                  <a:pt x="20407" y="5775"/>
                  <a:pt x="20288" y="5683"/>
                </a:cubicBezTo>
                <a:cubicBezTo>
                  <a:pt x="19987" y="5451"/>
                  <a:pt x="19638" y="5317"/>
                  <a:pt x="19304" y="5144"/>
                </a:cubicBezTo>
                <a:cubicBezTo>
                  <a:pt x="19126" y="5052"/>
                  <a:pt x="18956" y="4932"/>
                  <a:pt x="18764" y="4858"/>
                </a:cubicBezTo>
                <a:cubicBezTo>
                  <a:pt x="18563" y="4780"/>
                  <a:pt x="18364" y="4710"/>
                  <a:pt x="18161" y="4636"/>
                </a:cubicBezTo>
                <a:cubicBezTo>
                  <a:pt x="17913" y="4545"/>
                  <a:pt x="17656" y="4473"/>
                  <a:pt x="17399" y="4413"/>
                </a:cubicBezTo>
                <a:cubicBezTo>
                  <a:pt x="17084" y="4339"/>
                  <a:pt x="16765" y="4291"/>
                  <a:pt x="16446" y="4254"/>
                </a:cubicBezTo>
                <a:cubicBezTo>
                  <a:pt x="16184" y="4223"/>
                  <a:pt x="15918" y="4200"/>
                  <a:pt x="15653" y="4191"/>
                </a:cubicBezTo>
                <a:cubicBezTo>
                  <a:pt x="15219" y="4177"/>
                  <a:pt x="14782" y="4195"/>
                  <a:pt x="14351" y="4223"/>
                </a:cubicBezTo>
                <a:cubicBezTo>
                  <a:pt x="14091" y="4240"/>
                  <a:pt x="13814" y="4249"/>
                  <a:pt x="13557" y="4286"/>
                </a:cubicBezTo>
                <a:cubicBezTo>
                  <a:pt x="13344" y="4317"/>
                  <a:pt x="13133" y="4347"/>
                  <a:pt x="12922" y="4382"/>
                </a:cubicBezTo>
                <a:cubicBezTo>
                  <a:pt x="12564" y="4442"/>
                  <a:pt x="12215" y="4526"/>
                  <a:pt x="11874" y="4636"/>
                </a:cubicBezTo>
                <a:cubicBezTo>
                  <a:pt x="11689" y="4695"/>
                  <a:pt x="11514" y="4747"/>
                  <a:pt x="11335" y="4826"/>
                </a:cubicBezTo>
                <a:cubicBezTo>
                  <a:pt x="10977" y="4983"/>
                  <a:pt x="10585" y="5182"/>
                  <a:pt x="10287" y="5429"/>
                </a:cubicBezTo>
                <a:cubicBezTo>
                  <a:pt x="10168" y="5527"/>
                  <a:pt x="10106" y="5642"/>
                  <a:pt x="10001" y="5747"/>
                </a:cubicBezTo>
                <a:cubicBezTo>
                  <a:pt x="9826" y="5922"/>
                  <a:pt x="9714" y="6075"/>
                  <a:pt x="9588" y="6286"/>
                </a:cubicBezTo>
                <a:cubicBezTo>
                  <a:pt x="9514" y="6409"/>
                  <a:pt x="9430" y="6539"/>
                  <a:pt x="9366" y="6668"/>
                </a:cubicBezTo>
                <a:cubicBezTo>
                  <a:pt x="9310" y="6782"/>
                  <a:pt x="9262" y="6902"/>
                  <a:pt x="9208" y="7017"/>
                </a:cubicBezTo>
                <a:cubicBezTo>
                  <a:pt x="9160" y="7119"/>
                  <a:pt x="9117" y="7239"/>
                  <a:pt x="9080" y="7334"/>
                </a:cubicBezTo>
                <a:cubicBezTo>
                  <a:pt x="9053" y="7403"/>
                  <a:pt x="9042" y="7463"/>
                  <a:pt x="9017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atrices Basics: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mensions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ws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following mat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609480" y="4114800"/>
                <a:ext cx="1524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5"/>
              <p:cNvSpPr txBox="1"/>
              <p:nvPr/>
            </p:nvSpPr>
            <p:spPr>
              <a:xfrm>
                <a:off x="2859120" y="3797280"/>
                <a:ext cx="1825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6629400" y="3886200"/>
                <a:ext cx="1314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5470560" y="4038480"/>
                <a:ext cx="563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Ink 8"/>
          <p:cNvSpPr/>
          <p:nvPr/>
        </p:nvSpPr>
        <p:spPr>
          <a:xfrm>
            <a:off x="514440" y="4172040"/>
            <a:ext cx="11160" cy="149040"/>
          </a:xfrm>
          <a:custGeom>
            <a:avLst/>
            <a:gdLst/>
            <a:ahLst/>
            <a:rect l="l" t="t" r="r" b="b"/>
            <a:pathLst>
              <a:path w="32" h="414">
                <a:moveTo>
                  <a:pt x="1460" y="11589"/>
                </a:moveTo>
                <a:cubicBezTo>
                  <a:pt x="1460" y="11599"/>
                  <a:pt x="1460" y="11610"/>
                  <a:pt x="1460" y="11620"/>
                </a:cubicBezTo>
                <a:cubicBezTo>
                  <a:pt x="1413" y="11636"/>
                  <a:pt x="1429" y="11660"/>
                  <a:pt x="1429" y="11716"/>
                </a:cubicBezTo>
                <a:cubicBezTo>
                  <a:pt x="1429" y="11814"/>
                  <a:pt x="1433" y="11887"/>
                  <a:pt x="1460" y="11970"/>
                </a:cubicBezTo>
                <a:cubicBezTo>
                  <a:pt x="1460" y="11981"/>
                  <a:pt x="1460" y="11991"/>
                  <a:pt x="146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879480" y="3749760"/>
            <a:ext cx="34920" cy="206280"/>
          </a:xfrm>
          <a:custGeom>
            <a:avLst/>
            <a:gdLst/>
            <a:ahLst/>
            <a:rect l="l" t="t" r="r" b="b"/>
            <a:pathLst>
              <a:path w="96" h="573">
                <a:moveTo>
                  <a:pt x="2540" y="10414"/>
                </a:moveTo>
                <a:cubicBezTo>
                  <a:pt x="2540" y="10475"/>
                  <a:pt x="2518" y="10494"/>
                  <a:pt x="2508" y="10541"/>
                </a:cubicBezTo>
                <a:cubicBezTo>
                  <a:pt x="2491" y="10622"/>
                  <a:pt x="2498" y="10716"/>
                  <a:pt x="2476" y="10795"/>
                </a:cubicBezTo>
                <a:cubicBezTo>
                  <a:pt x="2466" y="10833"/>
                  <a:pt x="2420" y="10907"/>
                  <a:pt x="2445" y="10954"/>
                </a:cubicBezTo>
                <a:cubicBezTo>
                  <a:pt x="2455" y="10965"/>
                  <a:pt x="2466" y="10975"/>
                  <a:pt x="2476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1279440" y="3760920"/>
            <a:ext cx="160560" cy="195120"/>
          </a:xfrm>
          <a:custGeom>
            <a:avLst/>
            <a:gdLst/>
            <a:ahLst/>
            <a:rect l="l" t="t" r="r" b="b"/>
            <a:pathLst>
              <a:path w="445" h="541">
                <a:moveTo>
                  <a:pt x="3556" y="10509"/>
                </a:moveTo>
                <a:cubicBezTo>
                  <a:pt x="3580" y="10491"/>
                  <a:pt x="3651" y="10432"/>
                  <a:pt x="3683" y="10446"/>
                </a:cubicBezTo>
                <a:cubicBezTo>
                  <a:pt x="3716" y="10461"/>
                  <a:pt x="3792" y="10502"/>
                  <a:pt x="3810" y="10541"/>
                </a:cubicBezTo>
                <a:cubicBezTo>
                  <a:pt x="3832" y="10590"/>
                  <a:pt x="3771" y="10667"/>
                  <a:pt x="3746" y="10700"/>
                </a:cubicBezTo>
                <a:cubicBezTo>
                  <a:pt x="3704" y="10757"/>
                  <a:pt x="3643" y="10821"/>
                  <a:pt x="3620" y="10890"/>
                </a:cubicBezTo>
                <a:cubicBezTo>
                  <a:pt x="3605" y="10935"/>
                  <a:pt x="3594" y="10948"/>
                  <a:pt x="3556" y="10986"/>
                </a:cubicBezTo>
                <a:cubicBezTo>
                  <a:pt x="3596" y="10956"/>
                  <a:pt x="3633" y="10928"/>
                  <a:pt x="3683" y="10922"/>
                </a:cubicBezTo>
                <a:cubicBezTo>
                  <a:pt x="3699" y="10920"/>
                  <a:pt x="3793" y="10945"/>
                  <a:pt x="3810" y="10954"/>
                </a:cubicBezTo>
                <a:cubicBezTo>
                  <a:pt x="3848" y="10975"/>
                  <a:pt x="3884" y="11005"/>
                  <a:pt x="3937" y="10986"/>
                </a:cubicBezTo>
                <a:cubicBezTo>
                  <a:pt x="3958" y="10975"/>
                  <a:pt x="3979" y="10965"/>
                  <a:pt x="4000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1852560" y="3760920"/>
            <a:ext cx="147600" cy="206280"/>
          </a:xfrm>
          <a:custGeom>
            <a:avLst/>
            <a:gdLst/>
            <a:ahLst/>
            <a:rect l="l" t="t" r="r" b="b"/>
            <a:pathLst>
              <a:path w="413" h="572">
                <a:moveTo>
                  <a:pt x="5175" y="10478"/>
                </a:moveTo>
                <a:cubicBezTo>
                  <a:pt x="5191" y="10430"/>
                  <a:pt x="5213" y="10446"/>
                  <a:pt x="5270" y="10446"/>
                </a:cubicBezTo>
                <a:cubicBezTo>
                  <a:pt x="5362" y="10446"/>
                  <a:pt x="5450" y="10433"/>
                  <a:pt x="5524" y="10478"/>
                </a:cubicBezTo>
                <a:cubicBezTo>
                  <a:pt x="5514" y="10519"/>
                  <a:pt x="5476" y="10583"/>
                  <a:pt x="5429" y="10604"/>
                </a:cubicBezTo>
                <a:cubicBezTo>
                  <a:pt x="5416" y="10610"/>
                  <a:pt x="5307" y="10630"/>
                  <a:pt x="5302" y="10636"/>
                </a:cubicBezTo>
                <a:cubicBezTo>
                  <a:pt x="5274" y="10671"/>
                  <a:pt x="5321" y="10636"/>
                  <a:pt x="5366" y="10636"/>
                </a:cubicBezTo>
                <a:cubicBezTo>
                  <a:pt x="5429" y="10636"/>
                  <a:pt x="5467" y="10630"/>
                  <a:pt x="5524" y="10668"/>
                </a:cubicBezTo>
                <a:cubicBezTo>
                  <a:pt x="5559" y="10691"/>
                  <a:pt x="5578" y="10788"/>
                  <a:pt x="5556" y="10827"/>
                </a:cubicBezTo>
                <a:cubicBezTo>
                  <a:pt x="5529" y="10875"/>
                  <a:pt x="5525" y="10957"/>
                  <a:pt x="5461" y="10986"/>
                </a:cubicBezTo>
                <a:cubicBezTo>
                  <a:pt x="5388" y="11019"/>
                  <a:pt x="5367" y="10993"/>
                  <a:pt x="5302" y="10986"/>
                </a:cubicBezTo>
                <a:cubicBezTo>
                  <a:pt x="5269" y="10982"/>
                  <a:pt x="5159" y="10944"/>
                  <a:pt x="5144" y="10922"/>
                </a:cubicBezTo>
                <a:cubicBezTo>
                  <a:pt x="5144" y="10911"/>
                  <a:pt x="5144" y="10901"/>
                  <a:pt x="5144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1108080" y="4721400"/>
            <a:ext cx="731880" cy="674640"/>
          </a:xfrm>
          <a:custGeom>
            <a:avLst/>
            <a:gdLst/>
            <a:ahLst/>
            <a:rect l="l" t="t" r="r" b="b"/>
            <a:pathLst>
              <a:path w="2033" h="1874">
                <a:moveTo>
                  <a:pt x="3112" y="13113"/>
                </a:moveTo>
                <a:cubicBezTo>
                  <a:pt x="3131" y="13171"/>
                  <a:pt x="3143" y="13144"/>
                  <a:pt x="3143" y="13240"/>
                </a:cubicBezTo>
                <a:cubicBezTo>
                  <a:pt x="3143" y="13373"/>
                  <a:pt x="3116" y="13491"/>
                  <a:pt x="3112" y="13621"/>
                </a:cubicBezTo>
                <a:cubicBezTo>
                  <a:pt x="3107" y="13794"/>
                  <a:pt x="3080" y="13952"/>
                  <a:pt x="3080" y="14129"/>
                </a:cubicBezTo>
                <a:cubicBezTo>
                  <a:pt x="3080" y="14293"/>
                  <a:pt x="3107" y="14444"/>
                  <a:pt x="3112" y="14605"/>
                </a:cubicBezTo>
                <a:cubicBezTo>
                  <a:pt x="3116" y="14723"/>
                  <a:pt x="3135" y="14812"/>
                  <a:pt x="3143" y="14922"/>
                </a:cubicBezTo>
                <a:cubicBezTo>
                  <a:pt x="3143" y="14954"/>
                  <a:pt x="3143" y="14965"/>
                  <a:pt x="3143" y="14986"/>
                </a:cubicBezTo>
              </a:path>
              <a:path w="2033" h="1874">
                <a:moveTo>
                  <a:pt x="3524" y="13526"/>
                </a:moveTo>
                <a:cubicBezTo>
                  <a:pt x="3524" y="13641"/>
                  <a:pt x="3541" y="13736"/>
                  <a:pt x="3588" y="13843"/>
                </a:cubicBezTo>
                <a:cubicBezTo>
                  <a:pt x="3668" y="14027"/>
                  <a:pt x="3815" y="14179"/>
                  <a:pt x="3905" y="14351"/>
                </a:cubicBezTo>
                <a:cubicBezTo>
                  <a:pt x="3939" y="14417"/>
                  <a:pt x="3949" y="14537"/>
                  <a:pt x="4032" y="14573"/>
                </a:cubicBezTo>
                <a:cubicBezTo>
                  <a:pt x="4064" y="14573"/>
                  <a:pt x="4075" y="14573"/>
                  <a:pt x="4096" y="14573"/>
                </a:cubicBezTo>
              </a:path>
              <a:path w="2033" h="1874">
                <a:moveTo>
                  <a:pt x="3905" y="13716"/>
                </a:moveTo>
                <a:cubicBezTo>
                  <a:pt x="3828" y="13842"/>
                  <a:pt x="3741" y="13980"/>
                  <a:pt x="3651" y="14097"/>
                </a:cubicBezTo>
                <a:cubicBezTo>
                  <a:pt x="3579" y="14191"/>
                  <a:pt x="3503" y="14293"/>
                  <a:pt x="3429" y="14383"/>
                </a:cubicBezTo>
                <a:cubicBezTo>
                  <a:pt x="3380" y="14442"/>
                  <a:pt x="3320" y="14471"/>
                  <a:pt x="3302" y="14542"/>
                </a:cubicBezTo>
              </a:path>
              <a:path w="2033" h="1874">
                <a:moveTo>
                  <a:pt x="4382" y="13272"/>
                </a:moveTo>
                <a:cubicBezTo>
                  <a:pt x="4572" y="13272"/>
                  <a:pt x="4783" y="13253"/>
                  <a:pt x="4953" y="13303"/>
                </a:cubicBezTo>
                <a:cubicBezTo>
                  <a:pt x="4964" y="13303"/>
                  <a:pt x="4974" y="13303"/>
                  <a:pt x="4985" y="13303"/>
                </a:cubicBezTo>
                <a:cubicBezTo>
                  <a:pt x="4959" y="13329"/>
                  <a:pt x="4903" y="13385"/>
                  <a:pt x="4858" y="13430"/>
                </a:cubicBezTo>
                <a:cubicBezTo>
                  <a:pt x="4786" y="13502"/>
                  <a:pt x="4709" y="13552"/>
                  <a:pt x="4636" y="13621"/>
                </a:cubicBezTo>
                <a:cubicBezTo>
                  <a:pt x="4571" y="13682"/>
                  <a:pt x="4509" y="13748"/>
                  <a:pt x="4445" y="13811"/>
                </a:cubicBezTo>
                <a:cubicBezTo>
                  <a:pt x="4461" y="13798"/>
                  <a:pt x="4506" y="13758"/>
                  <a:pt x="4540" y="13748"/>
                </a:cubicBezTo>
                <a:cubicBezTo>
                  <a:pt x="4605" y="13729"/>
                  <a:pt x="4734" y="13785"/>
                  <a:pt x="4794" y="13811"/>
                </a:cubicBezTo>
                <a:cubicBezTo>
                  <a:pt x="4849" y="13835"/>
                  <a:pt x="4950" y="13889"/>
                  <a:pt x="4985" y="13938"/>
                </a:cubicBezTo>
                <a:cubicBezTo>
                  <a:pt x="5046" y="14025"/>
                  <a:pt x="5120" y="14215"/>
                  <a:pt x="5112" y="14319"/>
                </a:cubicBezTo>
                <a:cubicBezTo>
                  <a:pt x="5103" y="14433"/>
                  <a:pt x="5070" y="14595"/>
                  <a:pt x="5016" y="14700"/>
                </a:cubicBezTo>
                <a:cubicBezTo>
                  <a:pt x="4967" y="14796"/>
                  <a:pt x="4899" y="14882"/>
                  <a:pt x="4794" y="14891"/>
                </a:cubicBezTo>
                <a:cubicBezTo>
                  <a:pt x="4674" y="14901"/>
                  <a:pt x="4612" y="14879"/>
                  <a:pt x="4508" y="14827"/>
                </a:cubicBezTo>
                <a:cubicBezTo>
                  <a:pt x="4398" y="14773"/>
                  <a:pt x="4427" y="14756"/>
                  <a:pt x="4382" y="14668"/>
                </a:cubicBezTo>
                <a:cubicBezTo>
                  <a:pt x="4342" y="14589"/>
                  <a:pt x="4350" y="14652"/>
                  <a:pt x="4382" y="14573"/>
                </a:cubicBezTo>
                <a:cubicBezTo>
                  <a:pt x="4441" y="14550"/>
                  <a:pt x="4478" y="14533"/>
                  <a:pt x="4540" y="14605"/>
                </a:cubicBezTo>
                <a:cubicBezTo>
                  <a:pt x="4599" y="14673"/>
                  <a:pt x="4631" y="14746"/>
                  <a:pt x="4667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2664000" y="3954600"/>
            <a:ext cx="10800" cy="160200"/>
          </a:xfrm>
          <a:custGeom>
            <a:avLst/>
            <a:gdLst/>
            <a:ahLst/>
            <a:rect l="l" t="t" r="r" b="b"/>
            <a:pathLst>
              <a:path w="33" h="445">
                <a:moveTo>
                  <a:pt x="7430" y="10986"/>
                </a:moveTo>
                <a:cubicBezTo>
                  <a:pt x="7430" y="11062"/>
                  <a:pt x="7417" y="11113"/>
                  <a:pt x="7398" y="11176"/>
                </a:cubicBezTo>
                <a:cubicBezTo>
                  <a:pt x="7378" y="11244"/>
                  <a:pt x="7398" y="11359"/>
                  <a:pt x="7398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4"/>
          <p:cNvSpPr/>
          <p:nvPr/>
        </p:nvSpPr>
        <p:spPr>
          <a:xfrm>
            <a:off x="2593800" y="4343400"/>
            <a:ext cx="138240" cy="595440"/>
          </a:xfrm>
          <a:custGeom>
            <a:avLst/>
            <a:gdLst/>
            <a:ahLst/>
            <a:rect l="l" t="t" r="r" b="b"/>
            <a:pathLst>
              <a:path w="382" h="1652">
                <a:moveTo>
                  <a:pt x="7239" y="12287"/>
                </a:moveTo>
                <a:cubicBezTo>
                  <a:pt x="7228" y="12287"/>
                  <a:pt x="7218" y="12287"/>
                  <a:pt x="7207" y="12287"/>
                </a:cubicBezTo>
                <a:cubicBezTo>
                  <a:pt x="7208" y="12283"/>
                  <a:pt x="7235" y="12195"/>
                  <a:pt x="7239" y="12192"/>
                </a:cubicBezTo>
                <a:cubicBezTo>
                  <a:pt x="7258" y="12177"/>
                  <a:pt x="7294" y="12115"/>
                  <a:pt x="7334" y="12097"/>
                </a:cubicBezTo>
                <a:cubicBezTo>
                  <a:pt x="7357" y="12087"/>
                  <a:pt x="7386" y="12040"/>
                  <a:pt x="7430" y="12065"/>
                </a:cubicBezTo>
                <a:cubicBezTo>
                  <a:pt x="7485" y="12096"/>
                  <a:pt x="7461" y="12203"/>
                  <a:pt x="7461" y="12256"/>
                </a:cubicBezTo>
                <a:cubicBezTo>
                  <a:pt x="7461" y="12323"/>
                  <a:pt x="7456" y="12421"/>
                  <a:pt x="7430" y="12478"/>
                </a:cubicBezTo>
                <a:cubicBezTo>
                  <a:pt x="7406" y="12530"/>
                  <a:pt x="7351" y="12585"/>
                  <a:pt x="7334" y="12636"/>
                </a:cubicBezTo>
                <a:cubicBezTo>
                  <a:pt x="7315" y="12693"/>
                  <a:pt x="7305" y="12674"/>
                  <a:pt x="7334" y="12636"/>
                </a:cubicBezTo>
                <a:cubicBezTo>
                  <a:pt x="7359" y="12604"/>
                  <a:pt x="7424" y="12577"/>
                  <a:pt x="7461" y="12573"/>
                </a:cubicBezTo>
                <a:cubicBezTo>
                  <a:pt x="7489" y="12570"/>
                  <a:pt x="7574" y="12608"/>
                  <a:pt x="7588" y="12636"/>
                </a:cubicBezTo>
                <a:cubicBezTo>
                  <a:pt x="7588" y="12647"/>
                  <a:pt x="7588" y="12657"/>
                  <a:pt x="7588" y="12668"/>
                </a:cubicBezTo>
              </a:path>
              <a:path w="382" h="1652">
                <a:moveTo>
                  <a:pt x="7207" y="13176"/>
                </a:moveTo>
                <a:cubicBezTo>
                  <a:pt x="7239" y="13134"/>
                  <a:pt x="7249" y="13099"/>
                  <a:pt x="7302" y="13081"/>
                </a:cubicBezTo>
                <a:cubicBezTo>
                  <a:pt x="7350" y="13065"/>
                  <a:pt x="7374" y="13049"/>
                  <a:pt x="7430" y="13049"/>
                </a:cubicBezTo>
                <a:cubicBezTo>
                  <a:pt x="7430" y="13151"/>
                  <a:pt x="7411" y="13250"/>
                  <a:pt x="7398" y="13335"/>
                </a:cubicBezTo>
                <a:cubicBezTo>
                  <a:pt x="7384" y="13429"/>
                  <a:pt x="7419" y="13456"/>
                  <a:pt x="7366" y="13526"/>
                </a:cubicBezTo>
                <a:cubicBezTo>
                  <a:pt x="7381" y="13481"/>
                  <a:pt x="7399" y="13485"/>
                  <a:pt x="7430" y="13430"/>
                </a:cubicBezTo>
                <a:cubicBezTo>
                  <a:pt x="7465" y="13368"/>
                  <a:pt x="7478" y="13351"/>
                  <a:pt x="7525" y="13335"/>
                </a:cubicBezTo>
                <a:cubicBezTo>
                  <a:pt x="7537" y="13372"/>
                  <a:pt x="7577" y="13409"/>
                  <a:pt x="7588" y="13462"/>
                </a:cubicBezTo>
                <a:cubicBezTo>
                  <a:pt x="7604" y="13543"/>
                  <a:pt x="7574" y="13580"/>
                  <a:pt x="7556" y="13652"/>
                </a:cubicBezTo>
                <a:cubicBezTo>
                  <a:pt x="7546" y="13690"/>
                  <a:pt x="7518" y="13748"/>
                  <a:pt x="7461" y="13716"/>
                </a:cubicBezTo>
                <a:cubicBezTo>
                  <a:pt x="7451" y="13705"/>
                  <a:pt x="7440" y="13695"/>
                  <a:pt x="7430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5"/>
          <p:cNvSpPr/>
          <p:nvPr/>
        </p:nvSpPr>
        <p:spPr>
          <a:xfrm>
            <a:off x="3086280" y="3497400"/>
            <a:ext cx="34920" cy="217440"/>
          </a:xfrm>
          <a:custGeom>
            <a:avLst/>
            <a:gdLst/>
            <a:ahLst/>
            <a:rect l="l" t="t" r="r" b="b"/>
            <a:pathLst>
              <a:path w="97" h="604">
                <a:moveTo>
                  <a:pt x="8668" y="9716"/>
                </a:moveTo>
                <a:cubicBezTo>
                  <a:pt x="8632" y="9811"/>
                  <a:pt x="8615" y="9931"/>
                  <a:pt x="8604" y="10033"/>
                </a:cubicBezTo>
                <a:cubicBezTo>
                  <a:pt x="8593" y="10134"/>
                  <a:pt x="8572" y="10216"/>
                  <a:pt x="857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6"/>
          <p:cNvSpPr/>
          <p:nvPr/>
        </p:nvSpPr>
        <p:spPr>
          <a:xfrm>
            <a:off x="3429000" y="3508200"/>
            <a:ext cx="217440" cy="252720"/>
          </a:xfrm>
          <a:custGeom>
            <a:avLst/>
            <a:gdLst/>
            <a:ahLst/>
            <a:rect l="l" t="t" r="r" b="b"/>
            <a:pathLst>
              <a:path w="604" h="700">
                <a:moveTo>
                  <a:pt x="9525" y="9970"/>
                </a:moveTo>
                <a:cubicBezTo>
                  <a:pt x="9525" y="9913"/>
                  <a:pt x="9533" y="9906"/>
                  <a:pt x="9557" y="9874"/>
                </a:cubicBezTo>
                <a:cubicBezTo>
                  <a:pt x="9594" y="9824"/>
                  <a:pt x="9643" y="9806"/>
                  <a:pt x="9684" y="9779"/>
                </a:cubicBezTo>
                <a:cubicBezTo>
                  <a:pt x="9720" y="9755"/>
                  <a:pt x="9780" y="9733"/>
                  <a:pt x="9811" y="9779"/>
                </a:cubicBezTo>
                <a:cubicBezTo>
                  <a:pt x="9836" y="9817"/>
                  <a:pt x="9853" y="9919"/>
                  <a:pt x="9842" y="9970"/>
                </a:cubicBezTo>
                <a:cubicBezTo>
                  <a:pt x="9822" y="10062"/>
                  <a:pt x="9808" y="10170"/>
                  <a:pt x="9779" y="10255"/>
                </a:cubicBezTo>
                <a:cubicBezTo>
                  <a:pt x="9756" y="10324"/>
                  <a:pt x="9747" y="10343"/>
                  <a:pt x="9747" y="10414"/>
                </a:cubicBezTo>
                <a:cubicBezTo>
                  <a:pt x="9747" y="10425"/>
                  <a:pt x="9747" y="10435"/>
                  <a:pt x="9747" y="10446"/>
                </a:cubicBezTo>
                <a:cubicBezTo>
                  <a:pt x="9814" y="10396"/>
                  <a:pt x="9808" y="10418"/>
                  <a:pt x="9874" y="10382"/>
                </a:cubicBezTo>
                <a:cubicBezTo>
                  <a:pt x="9935" y="10349"/>
                  <a:pt x="9925" y="10319"/>
                  <a:pt x="10001" y="10319"/>
                </a:cubicBezTo>
                <a:cubicBezTo>
                  <a:pt x="10078" y="10319"/>
                  <a:pt x="10073" y="10328"/>
                  <a:pt x="10128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7"/>
          <p:cNvSpPr/>
          <p:nvPr/>
        </p:nvSpPr>
        <p:spPr>
          <a:xfrm>
            <a:off x="3851280" y="3486240"/>
            <a:ext cx="127080" cy="331560"/>
          </a:xfrm>
          <a:custGeom>
            <a:avLst/>
            <a:gdLst/>
            <a:ahLst/>
            <a:rect l="l" t="t" r="r" b="b"/>
            <a:pathLst>
              <a:path w="350" h="921">
                <a:moveTo>
                  <a:pt x="10700" y="9747"/>
                </a:moveTo>
                <a:cubicBezTo>
                  <a:pt x="10776" y="9766"/>
                  <a:pt x="10763" y="9798"/>
                  <a:pt x="10763" y="9874"/>
                </a:cubicBezTo>
                <a:cubicBezTo>
                  <a:pt x="10763" y="9971"/>
                  <a:pt x="10752" y="10038"/>
                  <a:pt x="10732" y="10128"/>
                </a:cubicBezTo>
                <a:cubicBezTo>
                  <a:pt x="10726" y="10156"/>
                  <a:pt x="10732" y="10195"/>
                  <a:pt x="10732" y="10224"/>
                </a:cubicBezTo>
                <a:cubicBezTo>
                  <a:pt x="10695" y="10175"/>
                  <a:pt x="10700" y="10158"/>
                  <a:pt x="10700" y="10096"/>
                </a:cubicBezTo>
                <a:cubicBezTo>
                  <a:pt x="10700" y="10009"/>
                  <a:pt x="10709" y="9974"/>
                  <a:pt x="10732" y="9906"/>
                </a:cubicBezTo>
                <a:cubicBezTo>
                  <a:pt x="10745" y="9867"/>
                  <a:pt x="10725" y="9772"/>
                  <a:pt x="10763" y="9747"/>
                </a:cubicBezTo>
                <a:cubicBezTo>
                  <a:pt x="10835" y="9699"/>
                  <a:pt x="10850" y="9692"/>
                  <a:pt x="10922" y="9716"/>
                </a:cubicBezTo>
                <a:cubicBezTo>
                  <a:pt x="10975" y="9734"/>
                  <a:pt x="10954" y="9776"/>
                  <a:pt x="10954" y="9842"/>
                </a:cubicBezTo>
                <a:cubicBezTo>
                  <a:pt x="10954" y="9938"/>
                  <a:pt x="10923" y="9929"/>
                  <a:pt x="10890" y="10001"/>
                </a:cubicBezTo>
                <a:cubicBezTo>
                  <a:pt x="10870" y="10046"/>
                  <a:pt x="10870" y="10060"/>
                  <a:pt x="10858" y="10096"/>
                </a:cubicBezTo>
                <a:cubicBezTo>
                  <a:pt x="10888" y="10104"/>
                  <a:pt x="10959" y="10113"/>
                  <a:pt x="10986" y="10128"/>
                </a:cubicBezTo>
                <a:cubicBezTo>
                  <a:pt x="11015" y="10145"/>
                  <a:pt x="11048" y="10205"/>
                  <a:pt x="11049" y="10224"/>
                </a:cubicBezTo>
                <a:cubicBezTo>
                  <a:pt x="11056" y="10316"/>
                  <a:pt x="11030" y="10340"/>
                  <a:pt x="10986" y="10414"/>
                </a:cubicBezTo>
                <a:cubicBezTo>
                  <a:pt x="10947" y="10479"/>
                  <a:pt x="10912" y="10519"/>
                  <a:pt x="10858" y="10573"/>
                </a:cubicBezTo>
                <a:cubicBezTo>
                  <a:pt x="10816" y="10615"/>
                  <a:pt x="10801" y="10580"/>
                  <a:pt x="10827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8"/>
          <p:cNvSpPr/>
          <p:nvPr/>
        </p:nvSpPr>
        <p:spPr>
          <a:xfrm>
            <a:off x="4251240" y="3406680"/>
            <a:ext cx="184320" cy="297000"/>
          </a:xfrm>
          <a:custGeom>
            <a:avLst/>
            <a:gdLst/>
            <a:ahLst/>
            <a:rect l="l" t="t" r="r" b="b"/>
            <a:pathLst>
              <a:path w="509" h="826">
                <a:moveTo>
                  <a:pt x="11843" y="9557"/>
                </a:moveTo>
                <a:cubicBezTo>
                  <a:pt x="11896" y="9597"/>
                  <a:pt x="11940" y="9628"/>
                  <a:pt x="11906" y="9716"/>
                </a:cubicBezTo>
                <a:cubicBezTo>
                  <a:pt x="11882" y="9778"/>
                  <a:pt x="11829" y="9845"/>
                  <a:pt x="11811" y="9906"/>
                </a:cubicBezTo>
                <a:cubicBezTo>
                  <a:pt x="11811" y="9938"/>
                  <a:pt x="11811" y="9949"/>
                  <a:pt x="11811" y="9970"/>
                </a:cubicBezTo>
                <a:cubicBezTo>
                  <a:pt x="11875" y="9970"/>
                  <a:pt x="11886" y="9955"/>
                  <a:pt x="11938" y="9938"/>
                </a:cubicBezTo>
                <a:cubicBezTo>
                  <a:pt x="12024" y="9909"/>
                  <a:pt x="12143" y="9930"/>
                  <a:pt x="12224" y="9906"/>
                </a:cubicBezTo>
                <a:cubicBezTo>
                  <a:pt x="12270" y="9892"/>
                  <a:pt x="12281" y="9880"/>
                  <a:pt x="12319" y="9842"/>
                </a:cubicBezTo>
              </a:path>
              <a:path w="509" h="826">
                <a:moveTo>
                  <a:pt x="12224" y="9462"/>
                </a:moveTo>
                <a:cubicBezTo>
                  <a:pt x="12176" y="9540"/>
                  <a:pt x="12184" y="9650"/>
                  <a:pt x="12160" y="9747"/>
                </a:cubicBezTo>
                <a:cubicBezTo>
                  <a:pt x="12116" y="9922"/>
                  <a:pt x="12107" y="10107"/>
                  <a:pt x="12097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9"/>
          <p:cNvSpPr/>
          <p:nvPr/>
        </p:nvSpPr>
        <p:spPr>
          <a:xfrm>
            <a:off x="3325680" y="5064120"/>
            <a:ext cx="731880" cy="696960"/>
          </a:xfrm>
          <a:custGeom>
            <a:avLst/>
            <a:gdLst/>
            <a:ahLst/>
            <a:rect l="l" t="t" r="r" b="b"/>
            <a:pathLst>
              <a:path w="2033" h="1938">
                <a:moveTo>
                  <a:pt x="9303" y="14700"/>
                </a:moveTo>
                <a:cubicBezTo>
                  <a:pt x="9279" y="14660"/>
                  <a:pt x="9254" y="14628"/>
                  <a:pt x="9271" y="14573"/>
                </a:cubicBezTo>
                <a:cubicBezTo>
                  <a:pt x="9293" y="14502"/>
                  <a:pt x="9350" y="14407"/>
                  <a:pt x="9398" y="14351"/>
                </a:cubicBezTo>
                <a:cubicBezTo>
                  <a:pt x="9437" y="14305"/>
                  <a:pt x="9496" y="14238"/>
                  <a:pt x="9557" y="14224"/>
                </a:cubicBezTo>
                <a:cubicBezTo>
                  <a:pt x="9630" y="14207"/>
                  <a:pt x="9626" y="14247"/>
                  <a:pt x="9652" y="14288"/>
                </a:cubicBezTo>
                <a:cubicBezTo>
                  <a:pt x="9694" y="14355"/>
                  <a:pt x="9668" y="14551"/>
                  <a:pt x="9652" y="14637"/>
                </a:cubicBezTo>
                <a:cubicBezTo>
                  <a:pt x="9636" y="14725"/>
                  <a:pt x="9576" y="14848"/>
                  <a:pt x="9525" y="14922"/>
                </a:cubicBezTo>
                <a:cubicBezTo>
                  <a:pt x="9525" y="14954"/>
                  <a:pt x="9525" y="14965"/>
                  <a:pt x="9493" y="14954"/>
                </a:cubicBezTo>
                <a:cubicBezTo>
                  <a:pt x="9498" y="14949"/>
                  <a:pt x="9551" y="14862"/>
                  <a:pt x="9557" y="14859"/>
                </a:cubicBezTo>
                <a:cubicBezTo>
                  <a:pt x="9605" y="14835"/>
                  <a:pt x="9661" y="14886"/>
                  <a:pt x="9684" y="14922"/>
                </a:cubicBezTo>
                <a:cubicBezTo>
                  <a:pt x="9776" y="15065"/>
                  <a:pt x="9779" y="15202"/>
                  <a:pt x="9779" y="15367"/>
                </a:cubicBezTo>
                <a:cubicBezTo>
                  <a:pt x="9779" y="15507"/>
                  <a:pt x="9770" y="15616"/>
                  <a:pt x="9716" y="15748"/>
                </a:cubicBezTo>
                <a:cubicBezTo>
                  <a:pt x="9670" y="15861"/>
                  <a:pt x="9616" y="15900"/>
                  <a:pt x="9525" y="15970"/>
                </a:cubicBezTo>
                <a:cubicBezTo>
                  <a:pt x="9479" y="16006"/>
                  <a:pt x="9397" y="16022"/>
                  <a:pt x="9334" y="16002"/>
                </a:cubicBezTo>
                <a:cubicBezTo>
                  <a:pt x="9252" y="15976"/>
                  <a:pt x="9241" y="15846"/>
                  <a:pt x="9239" y="15780"/>
                </a:cubicBezTo>
                <a:cubicBezTo>
                  <a:pt x="9239" y="15664"/>
                  <a:pt x="9239" y="15632"/>
                  <a:pt x="9239" y="15558"/>
                </a:cubicBezTo>
              </a:path>
              <a:path w="2033" h="1938">
                <a:moveTo>
                  <a:pt x="9938" y="14827"/>
                </a:moveTo>
                <a:cubicBezTo>
                  <a:pt x="9993" y="14869"/>
                  <a:pt x="10033" y="14850"/>
                  <a:pt x="10096" y="14891"/>
                </a:cubicBezTo>
                <a:cubicBezTo>
                  <a:pt x="10143" y="14922"/>
                  <a:pt x="10223" y="15041"/>
                  <a:pt x="10255" y="15081"/>
                </a:cubicBezTo>
                <a:cubicBezTo>
                  <a:pt x="10306" y="15145"/>
                  <a:pt x="10355" y="15286"/>
                  <a:pt x="10382" y="15367"/>
                </a:cubicBezTo>
                <a:cubicBezTo>
                  <a:pt x="10382" y="15403"/>
                  <a:pt x="10385" y="15417"/>
                  <a:pt x="10414" y="15430"/>
                </a:cubicBezTo>
              </a:path>
              <a:path w="2033" h="1938">
                <a:moveTo>
                  <a:pt x="10319" y="14668"/>
                </a:moveTo>
                <a:cubicBezTo>
                  <a:pt x="10301" y="14740"/>
                  <a:pt x="10276" y="14809"/>
                  <a:pt x="10255" y="14891"/>
                </a:cubicBezTo>
                <a:cubicBezTo>
                  <a:pt x="10209" y="15073"/>
                  <a:pt x="10195" y="15248"/>
                  <a:pt x="10160" y="15430"/>
                </a:cubicBezTo>
                <a:cubicBezTo>
                  <a:pt x="10136" y="15554"/>
                  <a:pt x="10106" y="15657"/>
                  <a:pt x="10096" y="15780"/>
                </a:cubicBezTo>
              </a:path>
              <a:path w="2033" h="1938">
                <a:moveTo>
                  <a:pt x="10636" y="14446"/>
                </a:moveTo>
                <a:cubicBezTo>
                  <a:pt x="10709" y="14446"/>
                  <a:pt x="10727" y="14462"/>
                  <a:pt x="10732" y="14542"/>
                </a:cubicBezTo>
                <a:cubicBezTo>
                  <a:pt x="10742" y="14686"/>
                  <a:pt x="10723" y="14830"/>
                  <a:pt x="10700" y="14954"/>
                </a:cubicBezTo>
                <a:cubicBezTo>
                  <a:pt x="10693" y="14990"/>
                  <a:pt x="10700" y="15042"/>
                  <a:pt x="10700" y="15081"/>
                </a:cubicBezTo>
                <a:cubicBezTo>
                  <a:pt x="10741" y="15051"/>
                  <a:pt x="10790" y="15043"/>
                  <a:pt x="10827" y="15018"/>
                </a:cubicBezTo>
                <a:cubicBezTo>
                  <a:pt x="10886" y="14978"/>
                  <a:pt x="10908" y="14986"/>
                  <a:pt x="10986" y="14986"/>
                </a:cubicBezTo>
                <a:cubicBezTo>
                  <a:pt x="11081" y="14986"/>
                  <a:pt x="11131" y="14980"/>
                  <a:pt x="11208" y="14954"/>
                </a:cubicBezTo>
                <a:cubicBezTo>
                  <a:pt x="11251" y="14940"/>
                  <a:pt x="11237" y="14937"/>
                  <a:pt x="11271" y="14891"/>
                </a:cubicBezTo>
              </a:path>
              <a:path w="2033" h="1938">
                <a:moveTo>
                  <a:pt x="11112" y="14065"/>
                </a:moveTo>
                <a:cubicBezTo>
                  <a:pt x="11087" y="14193"/>
                  <a:pt x="11081" y="14308"/>
                  <a:pt x="11081" y="14446"/>
                </a:cubicBezTo>
                <a:cubicBezTo>
                  <a:pt x="11081" y="14721"/>
                  <a:pt x="11087" y="14999"/>
                  <a:pt x="11112" y="15272"/>
                </a:cubicBezTo>
                <a:cubicBezTo>
                  <a:pt x="11131" y="15478"/>
                  <a:pt x="11167" y="15669"/>
                  <a:pt x="11176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0"/>
          <p:cNvSpPr/>
          <p:nvPr/>
        </p:nvSpPr>
        <p:spPr>
          <a:xfrm>
            <a:off x="5429160" y="4960800"/>
            <a:ext cx="239760" cy="754200"/>
          </a:xfrm>
          <a:custGeom>
            <a:avLst/>
            <a:gdLst/>
            <a:ahLst/>
            <a:rect l="l" t="t" r="r" b="b"/>
            <a:pathLst>
              <a:path w="668" h="2096">
                <a:moveTo>
                  <a:pt x="15240" y="13780"/>
                </a:moveTo>
                <a:cubicBezTo>
                  <a:pt x="15189" y="13810"/>
                  <a:pt x="15202" y="13803"/>
                  <a:pt x="15145" y="13811"/>
                </a:cubicBezTo>
                <a:cubicBezTo>
                  <a:pt x="15136" y="13879"/>
                  <a:pt x="15117" y="13933"/>
                  <a:pt x="15113" y="14002"/>
                </a:cubicBezTo>
                <a:cubicBezTo>
                  <a:pt x="15095" y="14331"/>
                  <a:pt x="15111" y="14663"/>
                  <a:pt x="15081" y="14986"/>
                </a:cubicBezTo>
                <a:cubicBezTo>
                  <a:pt x="15059" y="15226"/>
                  <a:pt x="15081" y="15710"/>
                  <a:pt x="15081" y="15843"/>
                </a:cubicBezTo>
              </a:path>
              <a:path w="668" h="2096">
                <a:moveTo>
                  <a:pt x="15335" y="14446"/>
                </a:moveTo>
                <a:cubicBezTo>
                  <a:pt x="15379" y="14461"/>
                  <a:pt x="15381" y="14470"/>
                  <a:pt x="15399" y="14510"/>
                </a:cubicBezTo>
                <a:cubicBezTo>
                  <a:pt x="15472" y="14670"/>
                  <a:pt x="15552" y="14825"/>
                  <a:pt x="15621" y="14986"/>
                </a:cubicBezTo>
                <a:cubicBezTo>
                  <a:pt x="15661" y="15078"/>
                  <a:pt x="15719" y="15176"/>
                  <a:pt x="15748" y="15272"/>
                </a:cubicBezTo>
                <a:cubicBezTo>
                  <a:pt x="15748" y="15283"/>
                  <a:pt x="15748" y="15293"/>
                  <a:pt x="15748" y="15304"/>
                </a:cubicBezTo>
              </a:path>
              <a:path w="668" h="2096">
                <a:moveTo>
                  <a:pt x="15716" y="14478"/>
                </a:moveTo>
                <a:cubicBezTo>
                  <a:pt x="15664" y="14569"/>
                  <a:pt x="15630" y="14655"/>
                  <a:pt x="15621" y="14764"/>
                </a:cubicBezTo>
                <a:cubicBezTo>
                  <a:pt x="15605" y="14964"/>
                  <a:pt x="15586" y="15168"/>
                  <a:pt x="15558" y="15367"/>
                </a:cubicBezTo>
                <a:cubicBezTo>
                  <a:pt x="15537" y="15518"/>
                  <a:pt x="15501" y="15661"/>
                  <a:pt x="15494" y="15812"/>
                </a:cubicBezTo>
                <a:cubicBezTo>
                  <a:pt x="15494" y="15833"/>
                  <a:pt x="15494" y="15854"/>
                  <a:pt x="1549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1"/>
          <p:cNvSpPr/>
          <p:nvPr/>
        </p:nvSpPr>
        <p:spPr>
          <a:xfrm>
            <a:off x="5818320" y="5018040"/>
            <a:ext cx="114120" cy="879480"/>
          </a:xfrm>
          <a:custGeom>
            <a:avLst/>
            <a:gdLst/>
            <a:ahLst/>
            <a:rect l="l" t="t" r="r" b="b"/>
            <a:pathLst>
              <a:path w="318" h="2446">
                <a:moveTo>
                  <a:pt x="16161" y="13970"/>
                </a:moveTo>
                <a:cubicBezTo>
                  <a:pt x="16240" y="13929"/>
                  <a:pt x="16253" y="14010"/>
                  <a:pt x="16256" y="14097"/>
                </a:cubicBezTo>
                <a:cubicBezTo>
                  <a:pt x="16263" y="14316"/>
                  <a:pt x="16267" y="14546"/>
                  <a:pt x="16288" y="14764"/>
                </a:cubicBezTo>
                <a:cubicBezTo>
                  <a:pt x="16316" y="15059"/>
                  <a:pt x="16365" y="15357"/>
                  <a:pt x="16383" y="15653"/>
                </a:cubicBezTo>
                <a:cubicBezTo>
                  <a:pt x="16398" y="15903"/>
                  <a:pt x="16439" y="16134"/>
                  <a:pt x="16478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2"/>
          <p:cNvSpPr/>
          <p:nvPr/>
        </p:nvSpPr>
        <p:spPr>
          <a:xfrm>
            <a:off x="7108920" y="4879800"/>
            <a:ext cx="858600" cy="698760"/>
          </a:xfrm>
          <a:custGeom>
            <a:avLst/>
            <a:gdLst/>
            <a:ahLst/>
            <a:rect l="l" t="t" r="r" b="b"/>
            <a:pathLst>
              <a:path w="2383" h="1938">
                <a:moveTo>
                  <a:pt x="19748" y="14319"/>
                </a:moveTo>
                <a:cubicBezTo>
                  <a:pt x="19755" y="14268"/>
                  <a:pt x="19760" y="14236"/>
                  <a:pt x="19780" y="14192"/>
                </a:cubicBezTo>
                <a:cubicBezTo>
                  <a:pt x="19822" y="14098"/>
                  <a:pt x="19867" y="14043"/>
                  <a:pt x="19939" y="13970"/>
                </a:cubicBezTo>
                <a:cubicBezTo>
                  <a:pt x="19979" y="13930"/>
                  <a:pt x="20040" y="13924"/>
                  <a:pt x="20098" y="13938"/>
                </a:cubicBezTo>
                <a:cubicBezTo>
                  <a:pt x="20185" y="13960"/>
                  <a:pt x="20191" y="14100"/>
                  <a:pt x="20193" y="14160"/>
                </a:cubicBezTo>
                <a:cubicBezTo>
                  <a:pt x="20200" y="14338"/>
                  <a:pt x="20170" y="14495"/>
                  <a:pt x="20130" y="14668"/>
                </a:cubicBezTo>
                <a:cubicBezTo>
                  <a:pt x="20088" y="14850"/>
                  <a:pt x="20019" y="15025"/>
                  <a:pt x="19971" y="15208"/>
                </a:cubicBezTo>
                <a:cubicBezTo>
                  <a:pt x="19951" y="15284"/>
                  <a:pt x="19943" y="15340"/>
                  <a:pt x="19907" y="15399"/>
                </a:cubicBezTo>
                <a:cubicBezTo>
                  <a:pt x="19933" y="15353"/>
                  <a:pt x="19958" y="15316"/>
                  <a:pt x="20002" y="15272"/>
                </a:cubicBezTo>
                <a:cubicBezTo>
                  <a:pt x="20063" y="15211"/>
                  <a:pt x="20126" y="15164"/>
                  <a:pt x="20193" y="15113"/>
                </a:cubicBezTo>
                <a:cubicBezTo>
                  <a:pt x="20239" y="15077"/>
                  <a:pt x="20353" y="15057"/>
                  <a:pt x="20415" y="15081"/>
                </a:cubicBezTo>
                <a:cubicBezTo>
                  <a:pt x="20471" y="15103"/>
                  <a:pt x="20513" y="15278"/>
                  <a:pt x="20542" y="15335"/>
                </a:cubicBezTo>
                <a:cubicBezTo>
                  <a:pt x="20574" y="15398"/>
                  <a:pt x="20547" y="15423"/>
                  <a:pt x="20606" y="15462"/>
                </a:cubicBezTo>
              </a:path>
              <a:path w="2383" h="1938">
                <a:moveTo>
                  <a:pt x="20923" y="14351"/>
                </a:moveTo>
                <a:cubicBezTo>
                  <a:pt x="20913" y="14362"/>
                  <a:pt x="20902" y="14372"/>
                  <a:pt x="20892" y="14383"/>
                </a:cubicBezTo>
                <a:cubicBezTo>
                  <a:pt x="20957" y="14448"/>
                  <a:pt x="20951" y="14490"/>
                  <a:pt x="20987" y="14573"/>
                </a:cubicBezTo>
                <a:cubicBezTo>
                  <a:pt x="21012" y="14631"/>
                  <a:pt x="21036" y="14678"/>
                  <a:pt x="21050" y="14732"/>
                </a:cubicBezTo>
                <a:cubicBezTo>
                  <a:pt x="21082" y="14732"/>
                  <a:pt x="21093" y="14732"/>
                  <a:pt x="21114" y="14732"/>
                </a:cubicBezTo>
              </a:path>
              <a:path w="2383" h="1938">
                <a:moveTo>
                  <a:pt x="21177" y="14097"/>
                </a:moveTo>
                <a:cubicBezTo>
                  <a:pt x="21134" y="14171"/>
                  <a:pt x="21083" y="14297"/>
                  <a:pt x="21050" y="14383"/>
                </a:cubicBezTo>
                <a:cubicBezTo>
                  <a:pt x="20989" y="14544"/>
                  <a:pt x="20936" y="14702"/>
                  <a:pt x="20860" y="14859"/>
                </a:cubicBezTo>
                <a:cubicBezTo>
                  <a:pt x="20828" y="14922"/>
                  <a:pt x="20817" y="14944"/>
                  <a:pt x="20796" y="14986"/>
                </a:cubicBezTo>
              </a:path>
              <a:path w="2383" h="1938">
                <a:moveTo>
                  <a:pt x="21463" y="13811"/>
                </a:moveTo>
                <a:cubicBezTo>
                  <a:pt x="21525" y="13775"/>
                  <a:pt x="21565" y="13773"/>
                  <a:pt x="21622" y="13716"/>
                </a:cubicBezTo>
                <a:cubicBezTo>
                  <a:pt x="21670" y="13668"/>
                  <a:pt x="21738" y="13623"/>
                  <a:pt x="21780" y="13589"/>
                </a:cubicBezTo>
                <a:cubicBezTo>
                  <a:pt x="21809" y="13560"/>
                  <a:pt x="21815" y="13549"/>
                  <a:pt x="21844" y="13557"/>
                </a:cubicBezTo>
                <a:cubicBezTo>
                  <a:pt x="21836" y="13653"/>
                  <a:pt x="21830" y="13749"/>
                  <a:pt x="21812" y="13843"/>
                </a:cubicBezTo>
                <a:cubicBezTo>
                  <a:pt x="21783" y="13994"/>
                  <a:pt x="21681" y="14103"/>
                  <a:pt x="21654" y="14256"/>
                </a:cubicBezTo>
                <a:cubicBezTo>
                  <a:pt x="21644" y="14311"/>
                  <a:pt x="21637" y="14360"/>
                  <a:pt x="21622" y="14414"/>
                </a:cubicBezTo>
                <a:cubicBezTo>
                  <a:pt x="21671" y="14365"/>
                  <a:pt x="21774" y="14218"/>
                  <a:pt x="21844" y="14224"/>
                </a:cubicBezTo>
                <a:cubicBezTo>
                  <a:pt x="21907" y="14229"/>
                  <a:pt x="21957" y="14382"/>
                  <a:pt x="21971" y="14414"/>
                </a:cubicBezTo>
                <a:cubicBezTo>
                  <a:pt x="22024" y="14531"/>
                  <a:pt x="22003" y="14667"/>
                  <a:pt x="22003" y="14796"/>
                </a:cubicBezTo>
                <a:cubicBezTo>
                  <a:pt x="22003" y="14925"/>
                  <a:pt x="22002" y="15029"/>
                  <a:pt x="21939" y="15145"/>
                </a:cubicBezTo>
                <a:cubicBezTo>
                  <a:pt x="21901" y="15215"/>
                  <a:pt x="21834" y="15344"/>
                  <a:pt x="21749" y="15367"/>
                </a:cubicBezTo>
                <a:cubicBezTo>
                  <a:pt x="21683" y="15385"/>
                  <a:pt x="21642" y="15352"/>
                  <a:pt x="21590" y="15335"/>
                </a:cubicBezTo>
                <a:cubicBezTo>
                  <a:pt x="21620" y="15261"/>
                  <a:pt x="21651" y="15172"/>
                  <a:pt x="21717" y="15113"/>
                </a:cubicBezTo>
                <a:cubicBezTo>
                  <a:pt x="21787" y="15051"/>
                  <a:pt x="21876" y="15079"/>
                  <a:pt x="21939" y="15113"/>
                </a:cubicBezTo>
                <a:cubicBezTo>
                  <a:pt x="22018" y="15155"/>
                  <a:pt x="22067" y="15209"/>
                  <a:pt x="22130" y="15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f matrix M equals matrix N, find the valu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2209680" y="1981080"/>
                <a:ext cx="44960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Ink 5"/>
          <p:cNvSpPr/>
          <p:nvPr/>
        </p:nvSpPr>
        <p:spPr>
          <a:xfrm>
            <a:off x="6675480" y="2857680"/>
            <a:ext cx="1577880" cy="846000"/>
          </a:xfrm>
          <a:custGeom>
            <a:avLst/>
            <a:gdLst/>
            <a:ahLst/>
            <a:rect l="l" t="t" r="r" b="b"/>
            <a:pathLst>
              <a:path w="4383" h="2350">
                <a:moveTo>
                  <a:pt x="18574" y="8604"/>
                </a:moveTo>
                <a:cubicBezTo>
                  <a:pt x="18563" y="8604"/>
                  <a:pt x="18553" y="8604"/>
                  <a:pt x="18542" y="8604"/>
                </a:cubicBezTo>
                <a:cubicBezTo>
                  <a:pt x="18542" y="8604"/>
                  <a:pt x="18554" y="8575"/>
                  <a:pt x="18574" y="8572"/>
                </a:cubicBezTo>
                <a:cubicBezTo>
                  <a:pt x="18637" y="8561"/>
                  <a:pt x="18709" y="8569"/>
                  <a:pt x="18764" y="8541"/>
                </a:cubicBezTo>
                <a:cubicBezTo>
                  <a:pt x="18851" y="8498"/>
                  <a:pt x="18895" y="8502"/>
                  <a:pt x="18986" y="8477"/>
                </a:cubicBezTo>
                <a:cubicBezTo>
                  <a:pt x="19057" y="8458"/>
                  <a:pt x="19168" y="8405"/>
                  <a:pt x="19240" y="8414"/>
                </a:cubicBezTo>
                <a:cubicBezTo>
                  <a:pt x="19280" y="8419"/>
                  <a:pt x="19272" y="8427"/>
                  <a:pt x="19304" y="8446"/>
                </a:cubicBezTo>
                <a:cubicBezTo>
                  <a:pt x="19277" y="8518"/>
                  <a:pt x="19238" y="8593"/>
                  <a:pt x="19209" y="8668"/>
                </a:cubicBezTo>
                <a:cubicBezTo>
                  <a:pt x="19167" y="8776"/>
                  <a:pt x="19110" y="8883"/>
                  <a:pt x="19050" y="8985"/>
                </a:cubicBezTo>
                <a:cubicBezTo>
                  <a:pt x="19001" y="9068"/>
                  <a:pt x="18973" y="9162"/>
                  <a:pt x="18923" y="9239"/>
                </a:cubicBezTo>
                <a:cubicBezTo>
                  <a:pt x="18891" y="9239"/>
                  <a:pt x="18880" y="9239"/>
                  <a:pt x="18891" y="9271"/>
                </a:cubicBezTo>
                <a:cubicBezTo>
                  <a:pt x="18911" y="9252"/>
                  <a:pt x="18942" y="9204"/>
                  <a:pt x="18986" y="9176"/>
                </a:cubicBezTo>
                <a:cubicBezTo>
                  <a:pt x="19036" y="9144"/>
                  <a:pt x="19058" y="9136"/>
                  <a:pt x="19114" y="9080"/>
                </a:cubicBezTo>
                <a:cubicBezTo>
                  <a:pt x="19168" y="9146"/>
                  <a:pt x="19223" y="9132"/>
                  <a:pt x="19272" y="9208"/>
                </a:cubicBezTo>
                <a:cubicBezTo>
                  <a:pt x="19341" y="9315"/>
                  <a:pt x="19332" y="9368"/>
                  <a:pt x="19336" y="9493"/>
                </a:cubicBezTo>
                <a:cubicBezTo>
                  <a:pt x="19340" y="9614"/>
                  <a:pt x="19296" y="9766"/>
                  <a:pt x="19240" y="9874"/>
                </a:cubicBezTo>
                <a:cubicBezTo>
                  <a:pt x="19191" y="9968"/>
                  <a:pt x="19097" y="10123"/>
                  <a:pt x="19018" y="10192"/>
                </a:cubicBezTo>
                <a:cubicBezTo>
                  <a:pt x="18940" y="10260"/>
                  <a:pt x="18849" y="10281"/>
                  <a:pt x="18764" y="10255"/>
                </a:cubicBezTo>
                <a:cubicBezTo>
                  <a:pt x="18678" y="10229"/>
                  <a:pt x="18643" y="10218"/>
                  <a:pt x="18606" y="10128"/>
                </a:cubicBezTo>
                <a:cubicBezTo>
                  <a:pt x="18582" y="10069"/>
                  <a:pt x="18555" y="9974"/>
                  <a:pt x="18574" y="9906"/>
                </a:cubicBezTo>
                <a:cubicBezTo>
                  <a:pt x="18585" y="9885"/>
                  <a:pt x="18595" y="9863"/>
                  <a:pt x="18606" y="9842"/>
                </a:cubicBezTo>
              </a:path>
              <a:path w="4383" h="2350">
                <a:moveTo>
                  <a:pt x="19653" y="9366"/>
                </a:moveTo>
                <a:cubicBezTo>
                  <a:pt x="19720" y="9326"/>
                  <a:pt x="19828" y="9309"/>
                  <a:pt x="19907" y="9303"/>
                </a:cubicBezTo>
                <a:cubicBezTo>
                  <a:pt x="19918" y="9303"/>
                  <a:pt x="19928" y="9303"/>
                  <a:pt x="19939" y="9303"/>
                </a:cubicBezTo>
              </a:path>
              <a:path w="4383" h="2350">
                <a:moveTo>
                  <a:pt x="20574" y="8795"/>
                </a:moveTo>
                <a:cubicBezTo>
                  <a:pt x="20574" y="8860"/>
                  <a:pt x="20555" y="8863"/>
                  <a:pt x="20542" y="8890"/>
                </a:cubicBezTo>
                <a:cubicBezTo>
                  <a:pt x="20542" y="8922"/>
                  <a:pt x="20542" y="8933"/>
                  <a:pt x="20510" y="8922"/>
                </a:cubicBezTo>
                <a:cubicBezTo>
                  <a:pt x="20495" y="8876"/>
                  <a:pt x="20441" y="8884"/>
                  <a:pt x="20415" y="8826"/>
                </a:cubicBezTo>
                <a:cubicBezTo>
                  <a:pt x="20400" y="8793"/>
                  <a:pt x="20395" y="8768"/>
                  <a:pt x="20352" y="8763"/>
                </a:cubicBezTo>
                <a:cubicBezTo>
                  <a:pt x="20286" y="8755"/>
                  <a:pt x="20237" y="8870"/>
                  <a:pt x="20225" y="8922"/>
                </a:cubicBezTo>
                <a:cubicBezTo>
                  <a:pt x="20197" y="9049"/>
                  <a:pt x="20165" y="9170"/>
                  <a:pt x="20161" y="9303"/>
                </a:cubicBezTo>
                <a:cubicBezTo>
                  <a:pt x="20156" y="9465"/>
                  <a:pt x="20130" y="9663"/>
                  <a:pt x="20193" y="9811"/>
                </a:cubicBezTo>
                <a:cubicBezTo>
                  <a:pt x="20234" y="9906"/>
                  <a:pt x="20288" y="9962"/>
                  <a:pt x="20384" y="9970"/>
                </a:cubicBezTo>
                <a:cubicBezTo>
                  <a:pt x="20442" y="9975"/>
                  <a:pt x="20560" y="9910"/>
                  <a:pt x="20606" y="9874"/>
                </a:cubicBezTo>
                <a:cubicBezTo>
                  <a:pt x="20676" y="9820"/>
                  <a:pt x="20778" y="9760"/>
                  <a:pt x="20828" y="9684"/>
                </a:cubicBezTo>
                <a:cubicBezTo>
                  <a:pt x="20871" y="9619"/>
                  <a:pt x="20916" y="9561"/>
                  <a:pt x="20955" y="9493"/>
                </a:cubicBezTo>
              </a:path>
              <a:path w="4383" h="2350">
                <a:moveTo>
                  <a:pt x="21241" y="9017"/>
                </a:moveTo>
                <a:cubicBezTo>
                  <a:pt x="21291" y="9004"/>
                  <a:pt x="21311" y="8985"/>
                  <a:pt x="21368" y="8985"/>
                </a:cubicBezTo>
                <a:cubicBezTo>
                  <a:pt x="21429" y="8985"/>
                  <a:pt x="21508" y="8979"/>
                  <a:pt x="21558" y="8954"/>
                </a:cubicBezTo>
                <a:cubicBezTo>
                  <a:pt x="21607" y="8930"/>
                  <a:pt x="21666" y="8907"/>
                  <a:pt x="21717" y="8890"/>
                </a:cubicBezTo>
                <a:cubicBezTo>
                  <a:pt x="21728" y="8890"/>
                  <a:pt x="21738" y="8890"/>
                  <a:pt x="21749" y="8890"/>
                </a:cubicBezTo>
              </a:path>
              <a:path w="4383" h="2350">
                <a:moveTo>
                  <a:pt x="21272" y="9525"/>
                </a:moveTo>
                <a:cubicBezTo>
                  <a:pt x="21341" y="9525"/>
                  <a:pt x="21361" y="9497"/>
                  <a:pt x="21431" y="9493"/>
                </a:cubicBezTo>
                <a:cubicBezTo>
                  <a:pt x="21533" y="9487"/>
                  <a:pt x="21568" y="9451"/>
                  <a:pt x="21654" y="9398"/>
                </a:cubicBezTo>
                <a:cubicBezTo>
                  <a:pt x="21706" y="9372"/>
                  <a:pt x="21714" y="9361"/>
                  <a:pt x="21749" y="9366"/>
                </a:cubicBezTo>
              </a:path>
              <a:path w="4383" h="2350">
                <a:moveTo>
                  <a:pt x="22257" y="8255"/>
                </a:moveTo>
                <a:cubicBezTo>
                  <a:pt x="22257" y="8314"/>
                  <a:pt x="22292" y="8402"/>
                  <a:pt x="22288" y="8446"/>
                </a:cubicBezTo>
                <a:cubicBezTo>
                  <a:pt x="22276" y="8583"/>
                  <a:pt x="22257" y="8716"/>
                  <a:pt x="22257" y="8858"/>
                </a:cubicBezTo>
                <a:cubicBezTo>
                  <a:pt x="22257" y="8880"/>
                  <a:pt x="22251" y="9055"/>
                  <a:pt x="22257" y="9049"/>
                </a:cubicBezTo>
                <a:cubicBezTo>
                  <a:pt x="22289" y="9017"/>
                  <a:pt x="22282" y="9017"/>
                  <a:pt x="22352" y="9017"/>
                </a:cubicBezTo>
                <a:cubicBezTo>
                  <a:pt x="22415" y="9017"/>
                  <a:pt x="22462" y="9039"/>
                  <a:pt x="22511" y="9049"/>
                </a:cubicBezTo>
                <a:cubicBezTo>
                  <a:pt x="22590" y="9065"/>
                  <a:pt x="22739" y="9063"/>
                  <a:pt x="22796" y="9017"/>
                </a:cubicBezTo>
                <a:cubicBezTo>
                  <a:pt x="22866" y="8961"/>
                  <a:pt x="22871" y="8935"/>
                  <a:pt x="22892" y="8858"/>
                </a:cubicBezTo>
                <a:cubicBezTo>
                  <a:pt x="22903" y="8826"/>
                  <a:pt x="22913" y="8795"/>
                  <a:pt x="22924" y="8763"/>
                </a:cubicBezTo>
              </a:path>
              <a:path w="4383" h="2350">
                <a:moveTo>
                  <a:pt x="22765" y="7938"/>
                </a:moveTo>
                <a:cubicBezTo>
                  <a:pt x="22733" y="8097"/>
                  <a:pt x="22765" y="8301"/>
                  <a:pt x="22765" y="8477"/>
                </a:cubicBezTo>
                <a:cubicBezTo>
                  <a:pt x="22765" y="8879"/>
                  <a:pt x="22765" y="9282"/>
                  <a:pt x="22765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6"/>
          <p:cNvSpPr/>
          <p:nvPr/>
        </p:nvSpPr>
        <p:spPr>
          <a:xfrm>
            <a:off x="6869160" y="3633840"/>
            <a:ext cx="1371600" cy="1670040"/>
          </a:xfrm>
          <a:custGeom>
            <a:avLst/>
            <a:gdLst/>
            <a:ahLst/>
            <a:rect l="l" t="t" r="r" b="b"/>
            <a:pathLst>
              <a:path w="3811" h="4637">
                <a:moveTo>
                  <a:pt x="21908" y="10319"/>
                </a:moveTo>
                <a:cubicBezTo>
                  <a:pt x="21897" y="10319"/>
                  <a:pt x="21887" y="10319"/>
                  <a:pt x="21876" y="10319"/>
                </a:cubicBezTo>
                <a:cubicBezTo>
                  <a:pt x="21879" y="10329"/>
                  <a:pt x="21904" y="10443"/>
                  <a:pt x="21908" y="10446"/>
                </a:cubicBezTo>
                <a:cubicBezTo>
                  <a:pt x="21939" y="10446"/>
                  <a:pt x="21950" y="10446"/>
                  <a:pt x="21939" y="10478"/>
                </a:cubicBezTo>
                <a:cubicBezTo>
                  <a:pt x="22003" y="10440"/>
                  <a:pt x="22063" y="10459"/>
                  <a:pt x="22130" y="10414"/>
                </a:cubicBezTo>
                <a:cubicBezTo>
                  <a:pt x="22193" y="10372"/>
                  <a:pt x="22211" y="10360"/>
                  <a:pt x="22288" y="10350"/>
                </a:cubicBezTo>
              </a:path>
              <a:path w="3811" h="4637">
                <a:moveTo>
                  <a:pt x="22511" y="10192"/>
                </a:moveTo>
                <a:cubicBezTo>
                  <a:pt x="22541" y="10184"/>
                  <a:pt x="22611" y="10175"/>
                  <a:pt x="22638" y="10160"/>
                </a:cubicBezTo>
                <a:cubicBezTo>
                  <a:pt x="22684" y="10135"/>
                  <a:pt x="22711" y="10102"/>
                  <a:pt x="22765" y="10096"/>
                </a:cubicBezTo>
                <a:cubicBezTo>
                  <a:pt x="22775" y="10096"/>
                  <a:pt x="22786" y="10096"/>
                  <a:pt x="22796" y="10096"/>
                </a:cubicBezTo>
                <a:cubicBezTo>
                  <a:pt x="22796" y="10190"/>
                  <a:pt x="22795" y="10262"/>
                  <a:pt x="22765" y="10350"/>
                </a:cubicBezTo>
                <a:cubicBezTo>
                  <a:pt x="22733" y="10442"/>
                  <a:pt x="22696" y="10527"/>
                  <a:pt x="22638" y="10604"/>
                </a:cubicBezTo>
                <a:cubicBezTo>
                  <a:pt x="22627" y="10615"/>
                  <a:pt x="22617" y="10625"/>
                  <a:pt x="22606" y="10636"/>
                </a:cubicBezTo>
                <a:cubicBezTo>
                  <a:pt x="22606" y="10584"/>
                  <a:pt x="22614" y="10534"/>
                  <a:pt x="22670" y="10509"/>
                </a:cubicBezTo>
                <a:cubicBezTo>
                  <a:pt x="22740" y="10477"/>
                  <a:pt x="22732" y="10492"/>
                  <a:pt x="22765" y="10509"/>
                </a:cubicBezTo>
                <a:cubicBezTo>
                  <a:pt x="22823" y="10538"/>
                  <a:pt x="22827" y="10555"/>
                  <a:pt x="22860" y="10604"/>
                </a:cubicBezTo>
                <a:cubicBezTo>
                  <a:pt x="22882" y="10636"/>
                  <a:pt x="22884" y="10746"/>
                  <a:pt x="22860" y="10795"/>
                </a:cubicBezTo>
                <a:cubicBezTo>
                  <a:pt x="22820" y="10875"/>
                  <a:pt x="22751" y="10895"/>
                  <a:pt x="22701" y="10954"/>
                </a:cubicBezTo>
                <a:cubicBezTo>
                  <a:pt x="22661" y="11001"/>
                  <a:pt x="22598" y="11104"/>
                  <a:pt x="22511" y="11081"/>
                </a:cubicBezTo>
                <a:cubicBezTo>
                  <a:pt x="22433" y="11060"/>
                  <a:pt x="22393" y="11002"/>
                  <a:pt x="22416" y="10922"/>
                </a:cubicBezTo>
                <a:cubicBezTo>
                  <a:pt x="22426" y="10901"/>
                  <a:pt x="22437" y="10879"/>
                  <a:pt x="22447" y="10858"/>
                </a:cubicBezTo>
              </a:path>
              <a:path w="3811" h="4637">
                <a:moveTo>
                  <a:pt x="19082" y="12605"/>
                </a:moveTo>
                <a:lnTo>
                  <a:pt x="19082" y="12605"/>
                </a:lnTo>
              </a:path>
              <a:path w="3811" h="4637">
                <a:moveTo>
                  <a:pt x="19082" y="12605"/>
                </a:moveTo>
                <a:cubicBezTo>
                  <a:pt x="19082" y="12615"/>
                  <a:pt x="19082" y="12626"/>
                  <a:pt x="19082" y="12636"/>
                </a:cubicBezTo>
              </a:path>
              <a:path w="3811" h="4637">
                <a:moveTo>
                  <a:pt x="19082" y="12636"/>
                </a:moveTo>
                <a:cubicBezTo>
                  <a:pt x="19114" y="12636"/>
                  <a:pt x="19124" y="12636"/>
                  <a:pt x="19114" y="12605"/>
                </a:cubicBezTo>
                <a:cubicBezTo>
                  <a:pt x="19183" y="12656"/>
                  <a:pt x="19167" y="12613"/>
                  <a:pt x="19240" y="12605"/>
                </a:cubicBezTo>
                <a:cubicBezTo>
                  <a:pt x="19304" y="12598"/>
                  <a:pt x="19318" y="12619"/>
                  <a:pt x="19368" y="12636"/>
                </a:cubicBezTo>
                <a:cubicBezTo>
                  <a:pt x="19392" y="12644"/>
                  <a:pt x="19437" y="12636"/>
                  <a:pt x="19463" y="12636"/>
                </a:cubicBezTo>
              </a:path>
              <a:path w="3811" h="4637">
                <a:moveTo>
                  <a:pt x="20320" y="12002"/>
                </a:moveTo>
                <a:cubicBezTo>
                  <a:pt x="20320" y="12105"/>
                  <a:pt x="20304" y="12201"/>
                  <a:pt x="20288" y="12287"/>
                </a:cubicBezTo>
                <a:cubicBezTo>
                  <a:pt x="20273" y="12366"/>
                  <a:pt x="20302" y="12349"/>
                  <a:pt x="20256" y="12256"/>
                </a:cubicBezTo>
                <a:cubicBezTo>
                  <a:pt x="20233" y="12210"/>
                  <a:pt x="20231" y="12169"/>
                  <a:pt x="20193" y="12128"/>
                </a:cubicBezTo>
                <a:cubicBezTo>
                  <a:pt x="20126" y="12055"/>
                  <a:pt x="20138" y="12072"/>
                  <a:pt x="20066" y="12097"/>
                </a:cubicBezTo>
                <a:cubicBezTo>
                  <a:pt x="19975" y="12128"/>
                  <a:pt x="19954" y="12134"/>
                  <a:pt x="19907" y="12224"/>
                </a:cubicBezTo>
                <a:cubicBezTo>
                  <a:pt x="19852" y="12329"/>
                  <a:pt x="19848" y="12486"/>
                  <a:pt x="19844" y="12605"/>
                </a:cubicBezTo>
                <a:cubicBezTo>
                  <a:pt x="19839" y="12754"/>
                  <a:pt x="19850" y="12904"/>
                  <a:pt x="19876" y="13049"/>
                </a:cubicBezTo>
                <a:cubicBezTo>
                  <a:pt x="19893" y="13146"/>
                  <a:pt x="19939" y="13286"/>
                  <a:pt x="20002" y="13367"/>
                </a:cubicBezTo>
                <a:cubicBezTo>
                  <a:pt x="20066" y="13448"/>
                  <a:pt x="20129" y="13499"/>
                  <a:pt x="20225" y="13430"/>
                </a:cubicBezTo>
                <a:cubicBezTo>
                  <a:pt x="20293" y="13381"/>
                  <a:pt x="20343" y="13315"/>
                  <a:pt x="20415" y="13272"/>
                </a:cubicBezTo>
                <a:cubicBezTo>
                  <a:pt x="20471" y="13239"/>
                  <a:pt x="20497" y="13221"/>
                  <a:pt x="20542" y="13176"/>
                </a:cubicBezTo>
                <a:cubicBezTo>
                  <a:pt x="20512" y="13127"/>
                  <a:pt x="20522" y="13163"/>
                  <a:pt x="20510" y="13081"/>
                </a:cubicBezTo>
              </a:path>
              <a:path w="3811" h="4637">
                <a:moveTo>
                  <a:pt x="20892" y="12128"/>
                </a:moveTo>
                <a:cubicBezTo>
                  <a:pt x="20998" y="12128"/>
                  <a:pt x="21086" y="12124"/>
                  <a:pt x="21177" y="12097"/>
                </a:cubicBezTo>
                <a:cubicBezTo>
                  <a:pt x="21226" y="12083"/>
                  <a:pt x="21290" y="12070"/>
                  <a:pt x="21336" y="12065"/>
                </a:cubicBezTo>
                <a:cubicBezTo>
                  <a:pt x="21368" y="12065"/>
                  <a:pt x="21379" y="12065"/>
                  <a:pt x="21368" y="12097"/>
                </a:cubicBezTo>
              </a:path>
              <a:path w="3811" h="4637">
                <a:moveTo>
                  <a:pt x="20923" y="12668"/>
                </a:moveTo>
                <a:cubicBezTo>
                  <a:pt x="21059" y="12668"/>
                  <a:pt x="21177" y="12666"/>
                  <a:pt x="21304" y="12636"/>
                </a:cubicBezTo>
                <a:cubicBezTo>
                  <a:pt x="21349" y="12636"/>
                  <a:pt x="21371" y="12630"/>
                  <a:pt x="21400" y="12605"/>
                </a:cubicBezTo>
              </a:path>
              <a:path w="3811" h="4637">
                <a:moveTo>
                  <a:pt x="22098" y="11589"/>
                </a:moveTo>
                <a:cubicBezTo>
                  <a:pt x="22039" y="11608"/>
                  <a:pt x="22096" y="11706"/>
                  <a:pt x="22098" y="11779"/>
                </a:cubicBezTo>
                <a:cubicBezTo>
                  <a:pt x="22107" y="12089"/>
                  <a:pt x="22083" y="12393"/>
                  <a:pt x="22066" y="12700"/>
                </a:cubicBezTo>
                <a:cubicBezTo>
                  <a:pt x="22052" y="12947"/>
                  <a:pt x="22087" y="13186"/>
                  <a:pt x="22098" y="13430"/>
                </a:cubicBezTo>
              </a:path>
              <a:path w="3811" h="4637">
                <a:moveTo>
                  <a:pt x="19209" y="13716"/>
                </a:moveTo>
                <a:cubicBezTo>
                  <a:pt x="19267" y="13716"/>
                  <a:pt x="19284" y="13744"/>
                  <a:pt x="19336" y="13748"/>
                </a:cubicBezTo>
                <a:cubicBezTo>
                  <a:pt x="19490" y="13759"/>
                  <a:pt x="19636" y="13740"/>
                  <a:pt x="19780" y="13716"/>
                </a:cubicBezTo>
                <a:cubicBezTo>
                  <a:pt x="19876" y="13700"/>
                  <a:pt x="19973" y="13667"/>
                  <a:pt x="20066" y="13652"/>
                </a:cubicBezTo>
                <a:cubicBezTo>
                  <a:pt x="20179" y="13633"/>
                  <a:pt x="20281" y="13667"/>
                  <a:pt x="20384" y="13684"/>
                </a:cubicBezTo>
                <a:cubicBezTo>
                  <a:pt x="20459" y="13697"/>
                  <a:pt x="20500" y="13698"/>
                  <a:pt x="20574" y="13716"/>
                </a:cubicBezTo>
                <a:cubicBezTo>
                  <a:pt x="20611" y="13725"/>
                  <a:pt x="20663" y="13716"/>
                  <a:pt x="20701" y="13716"/>
                </a:cubicBezTo>
              </a:path>
              <a:path w="3811" h="4637">
                <a:moveTo>
                  <a:pt x="19399" y="14383"/>
                </a:moveTo>
                <a:cubicBezTo>
                  <a:pt x="19449" y="14371"/>
                  <a:pt x="19469" y="14351"/>
                  <a:pt x="19526" y="14351"/>
                </a:cubicBezTo>
                <a:cubicBezTo>
                  <a:pt x="19577" y="14351"/>
                  <a:pt x="19596" y="14383"/>
                  <a:pt x="19653" y="14383"/>
                </a:cubicBezTo>
                <a:cubicBezTo>
                  <a:pt x="19685" y="14383"/>
                  <a:pt x="19696" y="14383"/>
                  <a:pt x="19685" y="14351"/>
                </a:cubicBezTo>
                <a:cubicBezTo>
                  <a:pt x="19728" y="14380"/>
                  <a:pt x="19731" y="14370"/>
                  <a:pt x="19748" y="14319"/>
                </a:cubicBezTo>
              </a:path>
              <a:path w="3811" h="4637">
                <a:moveTo>
                  <a:pt x="20002" y="13938"/>
                </a:moveTo>
                <a:cubicBezTo>
                  <a:pt x="20019" y="14006"/>
                  <a:pt x="20034" y="14047"/>
                  <a:pt x="20034" y="14129"/>
                </a:cubicBezTo>
                <a:cubicBezTo>
                  <a:pt x="20034" y="14326"/>
                  <a:pt x="20005" y="14548"/>
                  <a:pt x="20066" y="14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7"/>
          <p:cNvSpPr/>
          <p:nvPr/>
        </p:nvSpPr>
        <p:spPr>
          <a:xfrm>
            <a:off x="3611520" y="3382920"/>
            <a:ext cx="1327320" cy="1074960"/>
          </a:xfrm>
          <a:custGeom>
            <a:avLst/>
            <a:gdLst/>
            <a:ahLst/>
            <a:rect l="l" t="t" r="r" b="b"/>
            <a:pathLst>
              <a:path w="3684" h="2985">
                <a:moveTo>
                  <a:pt x="10414" y="10001"/>
                </a:moveTo>
                <a:cubicBezTo>
                  <a:pt x="10421" y="9950"/>
                  <a:pt x="10426" y="9918"/>
                  <a:pt x="10446" y="9874"/>
                </a:cubicBezTo>
                <a:cubicBezTo>
                  <a:pt x="10501" y="9752"/>
                  <a:pt x="10569" y="9636"/>
                  <a:pt x="10636" y="9525"/>
                </a:cubicBezTo>
                <a:cubicBezTo>
                  <a:pt x="10689" y="9437"/>
                  <a:pt x="10706" y="9420"/>
                  <a:pt x="10795" y="9398"/>
                </a:cubicBezTo>
                <a:cubicBezTo>
                  <a:pt x="10828" y="9464"/>
                  <a:pt x="10875" y="9547"/>
                  <a:pt x="10890" y="9620"/>
                </a:cubicBezTo>
                <a:cubicBezTo>
                  <a:pt x="10913" y="9738"/>
                  <a:pt x="10876" y="9886"/>
                  <a:pt x="10858" y="10001"/>
                </a:cubicBezTo>
                <a:cubicBezTo>
                  <a:pt x="10828" y="10196"/>
                  <a:pt x="10730" y="10357"/>
                  <a:pt x="10668" y="10541"/>
                </a:cubicBezTo>
                <a:cubicBezTo>
                  <a:pt x="10615" y="10700"/>
                  <a:pt x="10558" y="10839"/>
                  <a:pt x="10478" y="10986"/>
                </a:cubicBezTo>
                <a:cubicBezTo>
                  <a:pt x="10446" y="11045"/>
                  <a:pt x="10448" y="11063"/>
                  <a:pt x="10414" y="11112"/>
                </a:cubicBezTo>
                <a:cubicBezTo>
                  <a:pt x="10435" y="11054"/>
                  <a:pt x="10439" y="11002"/>
                  <a:pt x="10478" y="10954"/>
                </a:cubicBezTo>
                <a:cubicBezTo>
                  <a:pt x="10515" y="10908"/>
                  <a:pt x="10612" y="10893"/>
                  <a:pt x="10668" y="10890"/>
                </a:cubicBezTo>
                <a:cubicBezTo>
                  <a:pt x="10738" y="10886"/>
                  <a:pt x="10801" y="10914"/>
                  <a:pt x="10858" y="10954"/>
                </a:cubicBezTo>
                <a:cubicBezTo>
                  <a:pt x="10898" y="10982"/>
                  <a:pt x="10955" y="11025"/>
                  <a:pt x="10986" y="11049"/>
                </a:cubicBezTo>
                <a:cubicBezTo>
                  <a:pt x="11036" y="11087"/>
                  <a:pt x="11060" y="11088"/>
                  <a:pt x="11081" y="11017"/>
                </a:cubicBezTo>
                <a:cubicBezTo>
                  <a:pt x="11081" y="10996"/>
                  <a:pt x="11081" y="10975"/>
                  <a:pt x="11081" y="10954"/>
                </a:cubicBezTo>
              </a:path>
              <a:path w="3684" h="2985">
                <a:moveTo>
                  <a:pt x="11208" y="9557"/>
                </a:moveTo>
                <a:cubicBezTo>
                  <a:pt x="11151" y="9651"/>
                  <a:pt x="11176" y="9792"/>
                  <a:pt x="11176" y="9906"/>
                </a:cubicBezTo>
                <a:cubicBezTo>
                  <a:pt x="11176" y="10154"/>
                  <a:pt x="11188" y="10393"/>
                  <a:pt x="11208" y="10636"/>
                </a:cubicBezTo>
                <a:cubicBezTo>
                  <a:pt x="11222" y="10813"/>
                  <a:pt x="11208" y="10998"/>
                  <a:pt x="11208" y="11176"/>
                </a:cubicBezTo>
                <a:cubicBezTo>
                  <a:pt x="11188" y="11077"/>
                  <a:pt x="11176" y="10997"/>
                  <a:pt x="11176" y="10890"/>
                </a:cubicBezTo>
                <a:cubicBezTo>
                  <a:pt x="11176" y="10739"/>
                  <a:pt x="11161" y="10591"/>
                  <a:pt x="11208" y="10446"/>
                </a:cubicBezTo>
                <a:cubicBezTo>
                  <a:pt x="11244" y="10336"/>
                  <a:pt x="11288" y="10245"/>
                  <a:pt x="11366" y="10160"/>
                </a:cubicBezTo>
                <a:cubicBezTo>
                  <a:pt x="11404" y="10119"/>
                  <a:pt x="11469" y="10114"/>
                  <a:pt x="11525" y="10128"/>
                </a:cubicBezTo>
                <a:cubicBezTo>
                  <a:pt x="11637" y="10156"/>
                  <a:pt x="11648" y="10290"/>
                  <a:pt x="11652" y="10382"/>
                </a:cubicBezTo>
                <a:cubicBezTo>
                  <a:pt x="11658" y="10526"/>
                  <a:pt x="11646" y="10661"/>
                  <a:pt x="11589" y="10795"/>
                </a:cubicBezTo>
                <a:cubicBezTo>
                  <a:pt x="11535" y="10922"/>
                  <a:pt x="11481" y="11037"/>
                  <a:pt x="11398" y="11144"/>
                </a:cubicBezTo>
                <a:cubicBezTo>
                  <a:pt x="11366" y="11176"/>
                  <a:pt x="11356" y="11186"/>
                  <a:pt x="11335" y="11208"/>
                </a:cubicBezTo>
                <a:cubicBezTo>
                  <a:pt x="11292" y="11150"/>
                  <a:pt x="11288" y="11063"/>
                  <a:pt x="11303" y="10986"/>
                </a:cubicBezTo>
                <a:cubicBezTo>
                  <a:pt x="11314" y="10954"/>
                  <a:pt x="11324" y="10922"/>
                  <a:pt x="11335" y="10890"/>
                </a:cubicBezTo>
              </a:path>
              <a:path w="3684" h="2985">
                <a:moveTo>
                  <a:pt x="11970" y="10224"/>
                </a:moveTo>
                <a:cubicBezTo>
                  <a:pt x="11970" y="10213"/>
                  <a:pt x="11970" y="10203"/>
                  <a:pt x="11970" y="10192"/>
                </a:cubicBezTo>
                <a:cubicBezTo>
                  <a:pt x="12011" y="10182"/>
                  <a:pt x="12091" y="10179"/>
                  <a:pt x="12128" y="10160"/>
                </a:cubicBezTo>
                <a:cubicBezTo>
                  <a:pt x="12181" y="10133"/>
                  <a:pt x="12237" y="10105"/>
                  <a:pt x="12287" y="10065"/>
                </a:cubicBezTo>
              </a:path>
              <a:path w="3684" h="2985">
                <a:moveTo>
                  <a:pt x="11938" y="10573"/>
                </a:moveTo>
                <a:cubicBezTo>
                  <a:pt x="12009" y="10559"/>
                  <a:pt x="12052" y="10541"/>
                  <a:pt x="12128" y="10541"/>
                </a:cubicBezTo>
                <a:cubicBezTo>
                  <a:pt x="12219" y="10541"/>
                  <a:pt x="12269" y="10544"/>
                  <a:pt x="12351" y="10509"/>
                </a:cubicBezTo>
              </a:path>
              <a:path w="3684" h="2985">
                <a:moveTo>
                  <a:pt x="12700" y="9906"/>
                </a:moveTo>
                <a:cubicBezTo>
                  <a:pt x="12754" y="9865"/>
                  <a:pt x="12787" y="9874"/>
                  <a:pt x="12859" y="9874"/>
                </a:cubicBezTo>
                <a:cubicBezTo>
                  <a:pt x="12880" y="9874"/>
                  <a:pt x="12901" y="9874"/>
                  <a:pt x="12922" y="9874"/>
                </a:cubicBezTo>
              </a:path>
              <a:path w="3684" h="2985">
                <a:moveTo>
                  <a:pt x="13621" y="9525"/>
                </a:moveTo>
                <a:cubicBezTo>
                  <a:pt x="13580" y="9558"/>
                  <a:pt x="13544" y="9577"/>
                  <a:pt x="13494" y="9588"/>
                </a:cubicBezTo>
                <a:cubicBezTo>
                  <a:pt x="13423" y="9603"/>
                  <a:pt x="13379" y="9616"/>
                  <a:pt x="13303" y="9620"/>
                </a:cubicBezTo>
                <a:cubicBezTo>
                  <a:pt x="13261" y="9622"/>
                  <a:pt x="13218" y="9620"/>
                  <a:pt x="13176" y="9620"/>
                </a:cubicBezTo>
                <a:cubicBezTo>
                  <a:pt x="13176" y="9794"/>
                  <a:pt x="13166" y="9963"/>
                  <a:pt x="13144" y="10128"/>
                </a:cubicBezTo>
                <a:cubicBezTo>
                  <a:pt x="13136" y="10190"/>
                  <a:pt x="13140" y="10292"/>
                  <a:pt x="13113" y="10350"/>
                </a:cubicBezTo>
                <a:cubicBezTo>
                  <a:pt x="13102" y="10361"/>
                  <a:pt x="13092" y="10371"/>
                  <a:pt x="13081" y="10382"/>
                </a:cubicBezTo>
                <a:cubicBezTo>
                  <a:pt x="13110" y="10353"/>
                  <a:pt x="13136" y="10308"/>
                  <a:pt x="13176" y="10255"/>
                </a:cubicBezTo>
                <a:cubicBezTo>
                  <a:pt x="13195" y="10230"/>
                  <a:pt x="13304" y="10137"/>
                  <a:pt x="13335" y="10128"/>
                </a:cubicBezTo>
                <a:cubicBezTo>
                  <a:pt x="13408" y="10107"/>
                  <a:pt x="13471" y="10149"/>
                  <a:pt x="13526" y="10160"/>
                </a:cubicBezTo>
                <a:cubicBezTo>
                  <a:pt x="13617" y="10178"/>
                  <a:pt x="13637" y="10232"/>
                  <a:pt x="13684" y="10319"/>
                </a:cubicBezTo>
                <a:cubicBezTo>
                  <a:pt x="13726" y="10397"/>
                  <a:pt x="13735" y="10516"/>
                  <a:pt x="13716" y="10604"/>
                </a:cubicBezTo>
                <a:cubicBezTo>
                  <a:pt x="13692" y="10719"/>
                  <a:pt x="13632" y="10837"/>
                  <a:pt x="13557" y="10922"/>
                </a:cubicBezTo>
                <a:cubicBezTo>
                  <a:pt x="13503" y="10983"/>
                  <a:pt x="13420" y="11092"/>
                  <a:pt x="13335" y="11112"/>
                </a:cubicBezTo>
                <a:cubicBezTo>
                  <a:pt x="13258" y="11130"/>
                  <a:pt x="13198" y="11098"/>
                  <a:pt x="13144" y="11049"/>
                </a:cubicBezTo>
                <a:cubicBezTo>
                  <a:pt x="13119" y="11027"/>
                  <a:pt x="13088" y="10990"/>
                  <a:pt x="13113" y="10922"/>
                </a:cubicBezTo>
                <a:cubicBezTo>
                  <a:pt x="13144" y="10890"/>
                  <a:pt x="13155" y="10879"/>
                  <a:pt x="13176" y="10858"/>
                </a:cubicBezTo>
              </a:path>
              <a:path w="3684" h="2985">
                <a:moveTo>
                  <a:pt x="10319" y="11271"/>
                </a:moveTo>
                <a:cubicBezTo>
                  <a:pt x="10298" y="11261"/>
                  <a:pt x="10276" y="11250"/>
                  <a:pt x="10255" y="11240"/>
                </a:cubicBezTo>
              </a:path>
              <a:path w="3684" h="2985">
                <a:moveTo>
                  <a:pt x="10065" y="11240"/>
                </a:moveTo>
                <a:cubicBezTo>
                  <a:pt x="10033" y="11240"/>
                  <a:pt x="10023" y="11240"/>
                  <a:pt x="10033" y="11271"/>
                </a:cubicBezTo>
                <a:cubicBezTo>
                  <a:pt x="10051" y="11324"/>
                  <a:pt x="10094" y="11303"/>
                  <a:pt x="10160" y="11303"/>
                </a:cubicBezTo>
                <a:cubicBezTo>
                  <a:pt x="10314" y="11303"/>
                  <a:pt x="10455" y="11288"/>
                  <a:pt x="10604" y="11271"/>
                </a:cubicBezTo>
                <a:cubicBezTo>
                  <a:pt x="10744" y="11255"/>
                  <a:pt x="10873" y="11240"/>
                  <a:pt x="11017" y="11240"/>
                </a:cubicBezTo>
                <a:cubicBezTo>
                  <a:pt x="11162" y="11240"/>
                  <a:pt x="11291" y="11224"/>
                  <a:pt x="11430" y="11208"/>
                </a:cubicBezTo>
                <a:cubicBezTo>
                  <a:pt x="11572" y="11192"/>
                  <a:pt x="11711" y="11209"/>
                  <a:pt x="11843" y="11240"/>
                </a:cubicBezTo>
                <a:cubicBezTo>
                  <a:pt x="11879" y="11240"/>
                  <a:pt x="11892" y="11243"/>
                  <a:pt x="11906" y="11271"/>
                </a:cubicBezTo>
              </a:path>
              <a:path w="3684" h="2985">
                <a:moveTo>
                  <a:pt x="10573" y="11589"/>
                </a:moveTo>
                <a:cubicBezTo>
                  <a:pt x="10586" y="11536"/>
                  <a:pt x="10608" y="11500"/>
                  <a:pt x="10668" y="11494"/>
                </a:cubicBezTo>
                <a:cubicBezTo>
                  <a:pt x="10720" y="11488"/>
                  <a:pt x="10737" y="11462"/>
                  <a:pt x="10795" y="11462"/>
                </a:cubicBezTo>
                <a:cubicBezTo>
                  <a:pt x="10861" y="11462"/>
                  <a:pt x="10917" y="11484"/>
                  <a:pt x="10922" y="11557"/>
                </a:cubicBezTo>
                <a:cubicBezTo>
                  <a:pt x="10929" y="11653"/>
                  <a:pt x="10921" y="11724"/>
                  <a:pt x="10890" y="11811"/>
                </a:cubicBezTo>
                <a:cubicBezTo>
                  <a:pt x="10852" y="11918"/>
                  <a:pt x="10783" y="11994"/>
                  <a:pt x="10732" y="12097"/>
                </a:cubicBezTo>
                <a:cubicBezTo>
                  <a:pt x="10695" y="12170"/>
                  <a:pt x="10665" y="12248"/>
                  <a:pt x="10636" y="12319"/>
                </a:cubicBezTo>
                <a:cubicBezTo>
                  <a:pt x="10625" y="12340"/>
                  <a:pt x="10615" y="12361"/>
                  <a:pt x="10604" y="12382"/>
                </a:cubicBezTo>
                <a:cubicBezTo>
                  <a:pt x="10645" y="12352"/>
                  <a:pt x="10695" y="12344"/>
                  <a:pt x="10732" y="12319"/>
                </a:cubicBezTo>
                <a:cubicBezTo>
                  <a:pt x="10755" y="12304"/>
                  <a:pt x="10890" y="12251"/>
                  <a:pt x="10922" y="12256"/>
                </a:cubicBezTo>
                <a:cubicBezTo>
                  <a:pt x="10981" y="12265"/>
                  <a:pt x="11055" y="12336"/>
                  <a:pt x="11112" y="12351"/>
                </a:cubicBezTo>
                <a:cubicBezTo>
                  <a:pt x="11165" y="12365"/>
                  <a:pt x="11248" y="12351"/>
                  <a:pt x="11303" y="12351"/>
                </a:cubicBezTo>
              </a:path>
              <a:path w="3684" h="2985">
                <a:moveTo>
                  <a:pt x="12478" y="11335"/>
                </a:moveTo>
                <a:cubicBezTo>
                  <a:pt x="12546" y="11318"/>
                  <a:pt x="12586" y="11276"/>
                  <a:pt x="12668" y="11271"/>
                </a:cubicBezTo>
                <a:cubicBezTo>
                  <a:pt x="12776" y="11265"/>
                  <a:pt x="12911" y="11260"/>
                  <a:pt x="13018" y="11240"/>
                </a:cubicBezTo>
                <a:cubicBezTo>
                  <a:pt x="13154" y="11215"/>
                  <a:pt x="13293" y="11194"/>
                  <a:pt x="13430" y="11176"/>
                </a:cubicBezTo>
                <a:cubicBezTo>
                  <a:pt x="13522" y="11164"/>
                  <a:pt x="13623" y="11176"/>
                  <a:pt x="13716" y="11176"/>
                </a:cubicBezTo>
              </a:path>
              <a:path w="3684" h="2985">
                <a:moveTo>
                  <a:pt x="12795" y="11620"/>
                </a:moveTo>
                <a:cubicBezTo>
                  <a:pt x="12722" y="11620"/>
                  <a:pt x="12840" y="11602"/>
                  <a:pt x="12859" y="11589"/>
                </a:cubicBezTo>
                <a:cubicBezTo>
                  <a:pt x="12908" y="11556"/>
                  <a:pt x="12985" y="11515"/>
                  <a:pt x="13049" y="11494"/>
                </a:cubicBezTo>
                <a:cubicBezTo>
                  <a:pt x="13135" y="11466"/>
                  <a:pt x="13138" y="11471"/>
                  <a:pt x="13208" y="11494"/>
                </a:cubicBezTo>
                <a:cubicBezTo>
                  <a:pt x="13236" y="11503"/>
                  <a:pt x="13266" y="11543"/>
                  <a:pt x="13240" y="11589"/>
                </a:cubicBezTo>
                <a:cubicBezTo>
                  <a:pt x="13204" y="11653"/>
                  <a:pt x="13193" y="11713"/>
                  <a:pt x="13144" y="11779"/>
                </a:cubicBezTo>
                <a:cubicBezTo>
                  <a:pt x="13103" y="11834"/>
                  <a:pt x="13061" y="11911"/>
                  <a:pt x="13049" y="11970"/>
                </a:cubicBezTo>
                <a:cubicBezTo>
                  <a:pt x="13034" y="12043"/>
                  <a:pt x="13007" y="12098"/>
                  <a:pt x="12986" y="12160"/>
                </a:cubicBezTo>
                <a:cubicBezTo>
                  <a:pt x="12961" y="12235"/>
                  <a:pt x="12998" y="12220"/>
                  <a:pt x="13018" y="12160"/>
                </a:cubicBezTo>
                <a:cubicBezTo>
                  <a:pt x="13032" y="12119"/>
                  <a:pt x="13065" y="12055"/>
                  <a:pt x="13113" y="12033"/>
                </a:cubicBezTo>
                <a:cubicBezTo>
                  <a:pt x="13179" y="12003"/>
                  <a:pt x="13278" y="12051"/>
                  <a:pt x="13335" y="12065"/>
                </a:cubicBezTo>
                <a:cubicBezTo>
                  <a:pt x="13390" y="12079"/>
                  <a:pt x="13388" y="12092"/>
                  <a:pt x="13430" y="12097"/>
                </a:cubicBezTo>
                <a:cubicBezTo>
                  <a:pt x="13462" y="12097"/>
                  <a:pt x="13473" y="12097"/>
                  <a:pt x="1349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8"/>
          <p:cNvSpPr/>
          <p:nvPr/>
        </p:nvSpPr>
        <p:spPr>
          <a:xfrm>
            <a:off x="6492960" y="3828960"/>
            <a:ext cx="468360" cy="424080"/>
          </a:xfrm>
          <a:custGeom>
            <a:avLst/>
            <a:gdLst/>
            <a:ahLst/>
            <a:rect l="l" t="t" r="r" b="b"/>
            <a:pathLst>
              <a:path w="1303" h="1176">
                <a:moveTo>
                  <a:pt x="18066" y="11049"/>
                </a:moveTo>
                <a:cubicBezTo>
                  <a:pt x="18055" y="11060"/>
                  <a:pt x="18045" y="11070"/>
                  <a:pt x="18034" y="11081"/>
                </a:cubicBezTo>
                <a:cubicBezTo>
                  <a:pt x="18097" y="11142"/>
                  <a:pt x="18104" y="11144"/>
                  <a:pt x="18193" y="11144"/>
                </a:cubicBezTo>
                <a:cubicBezTo>
                  <a:pt x="18272" y="11144"/>
                  <a:pt x="18310" y="11123"/>
                  <a:pt x="18383" y="11112"/>
                </a:cubicBezTo>
              </a:path>
              <a:path w="1303" h="1176">
                <a:moveTo>
                  <a:pt x="18796" y="10858"/>
                </a:moveTo>
                <a:cubicBezTo>
                  <a:pt x="18845" y="10846"/>
                  <a:pt x="18884" y="10830"/>
                  <a:pt x="18923" y="10795"/>
                </a:cubicBezTo>
                <a:cubicBezTo>
                  <a:pt x="18964" y="10759"/>
                  <a:pt x="18960" y="10694"/>
                  <a:pt x="19018" y="10668"/>
                </a:cubicBezTo>
                <a:cubicBezTo>
                  <a:pt x="19091" y="10635"/>
                  <a:pt x="19079" y="10646"/>
                  <a:pt x="19145" y="10668"/>
                </a:cubicBezTo>
                <a:cubicBezTo>
                  <a:pt x="19189" y="10683"/>
                  <a:pt x="19205" y="10767"/>
                  <a:pt x="19209" y="10827"/>
                </a:cubicBezTo>
                <a:cubicBezTo>
                  <a:pt x="19214" y="10905"/>
                  <a:pt x="19176" y="11044"/>
                  <a:pt x="19145" y="11112"/>
                </a:cubicBezTo>
                <a:cubicBezTo>
                  <a:pt x="19127" y="11152"/>
                  <a:pt x="19074" y="11200"/>
                  <a:pt x="19050" y="11208"/>
                </a:cubicBezTo>
                <a:cubicBezTo>
                  <a:pt x="19050" y="11156"/>
                  <a:pt x="19057" y="11106"/>
                  <a:pt x="19114" y="11081"/>
                </a:cubicBezTo>
                <a:cubicBezTo>
                  <a:pt x="19170" y="11056"/>
                  <a:pt x="19223" y="11089"/>
                  <a:pt x="19240" y="11112"/>
                </a:cubicBezTo>
                <a:cubicBezTo>
                  <a:pt x="19301" y="11193"/>
                  <a:pt x="19276" y="11178"/>
                  <a:pt x="19304" y="11271"/>
                </a:cubicBezTo>
                <a:cubicBezTo>
                  <a:pt x="19331" y="11363"/>
                  <a:pt x="19314" y="11431"/>
                  <a:pt x="19272" y="11525"/>
                </a:cubicBezTo>
                <a:cubicBezTo>
                  <a:pt x="19235" y="11608"/>
                  <a:pt x="19171" y="11740"/>
                  <a:pt x="19082" y="11779"/>
                </a:cubicBezTo>
                <a:cubicBezTo>
                  <a:pt x="19026" y="11804"/>
                  <a:pt x="18945" y="11811"/>
                  <a:pt x="18891" y="11779"/>
                </a:cubicBezTo>
                <a:cubicBezTo>
                  <a:pt x="18834" y="11745"/>
                  <a:pt x="18860" y="11644"/>
                  <a:pt x="18860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9"/>
          <p:cNvSpPr/>
          <p:nvPr/>
        </p:nvSpPr>
        <p:spPr>
          <a:xfrm>
            <a:off x="1074600" y="3451320"/>
            <a:ext cx="1474920" cy="720720"/>
          </a:xfrm>
          <a:custGeom>
            <a:avLst/>
            <a:gdLst/>
            <a:ahLst/>
            <a:rect l="l" t="t" r="r" b="b"/>
            <a:pathLst>
              <a:path w="4097" h="2002">
                <a:moveTo>
                  <a:pt x="3429" y="10096"/>
                </a:moveTo>
                <a:lnTo>
                  <a:pt x="3429" y="10096"/>
                </a:lnTo>
              </a:path>
              <a:path w="4097" h="2002">
                <a:moveTo>
                  <a:pt x="3429" y="10096"/>
                </a:moveTo>
                <a:cubicBezTo>
                  <a:pt x="3429" y="10075"/>
                  <a:pt x="3429" y="10054"/>
                  <a:pt x="3429" y="10033"/>
                </a:cubicBezTo>
              </a:path>
              <a:path w="4097" h="2002">
                <a:moveTo>
                  <a:pt x="3429" y="10033"/>
                </a:moveTo>
                <a:cubicBezTo>
                  <a:pt x="3429" y="9934"/>
                  <a:pt x="3425" y="9862"/>
                  <a:pt x="3397" y="9779"/>
                </a:cubicBezTo>
                <a:cubicBezTo>
                  <a:pt x="3376" y="9718"/>
                  <a:pt x="3370" y="9716"/>
                  <a:pt x="3302" y="9716"/>
                </a:cubicBezTo>
                <a:cubicBezTo>
                  <a:pt x="3247" y="9716"/>
                  <a:pt x="3184" y="9774"/>
                  <a:pt x="3143" y="9811"/>
                </a:cubicBezTo>
                <a:cubicBezTo>
                  <a:pt x="3047" y="9897"/>
                  <a:pt x="3045" y="9950"/>
                  <a:pt x="3016" y="10065"/>
                </a:cubicBezTo>
                <a:cubicBezTo>
                  <a:pt x="2985" y="10187"/>
                  <a:pt x="2984" y="10288"/>
                  <a:pt x="2984" y="10414"/>
                </a:cubicBezTo>
                <a:cubicBezTo>
                  <a:pt x="2984" y="10481"/>
                  <a:pt x="3008" y="10573"/>
                  <a:pt x="3080" y="10604"/>
                </a:cubicBezTo>
                <a:cubicBezTo>
                  <a:pt x="3160" y="10639"/>
                  <a:pt x="3219" y="10587"/>
                  <a:pt x="3270" y="10541"/>
                </a:cubicBezTo>
                <a:cubicBezTo>
                  <a:pt x="3358" y="10460"/>
                  <a:pt x="3363" y="10377"/>
                  <a:pt x="3429" y="10287"/>
                </a:cubicBezTo>
                <a:cubicBezTo>
                  <a:pt x="3494" y="10199"/>
                  <a:pt x="3472" y="10120"/>
                  <a:pt x="3524" y="10033"/>
                </a:cubicBezTo>
                <a:cubicBezTo>
                  <a:pt x="3556" y="10001"/>
                  <a:pt x="3567" y="9991"/>
                  <a:pt x="3524" y="9970"/>
                </a:cubicBezTo>
                <a:cubicBezTo>
                  <a:pt x="3524" y="9889"/>
                  <a:pt x="3524" y="10039"/>
                  <a:pt x="3524" y="10065"/>
                </a:cubicBezTo>
                <a:cubicBezTo>
                  <a:pt x="3524" y="10255"/>
                  <a:pt x="3505" y="10467"/>
                  <a:pt x="3556" y="10636"/>
                </a:cubicBezTo>
                <a:cubicBezTo>
                  <a:pt x="3556" y="10672"/>
                  <a:pt x="3559" y="10686"/>
                  <a:pt x="3588" y="10700"/>
                </a:cubicBezTo>
                <a:cubicBezTo>
                  <a:pt x="3648" y="10685"/>
                  <a:pt x="3691" y="10637"/>
                  <a:pt x="3746" y="10604"/>
                </a:cubicBezTo>
                <a:cubicBezTo>
                  <a:pt x="3835" y="10551"/>
                  <a:pt x="3916" y="10502"/>
                  <a:pt x="4000" y="10446"/>
                </a:cubicBezTo>
                <a:cubicBezTo>
                  <a:pt x="4021" y="10435"/>
                  <a:pt x="4043" y="10425"/>
                  <a:pt x="4064" y="10414"/>
                </a:cubicBezTo>
              </a:path>
              <a:path w="4097" h="2002">
                <a:moveTo>
                  <a:pt x="4604" y="9811"/>
                </a:moveTo>
                <a:cubicBezTo>
                  <a:pt x="4562" y="9880"/>
                  <a:pt x="4572" y="9946"/>
                  <a:pt x="4572" y="10033"/>
                </a:cubicBezTo>
                <a:cubicBezTo>
                  <a:pt x="4572" y="10153"/>
                  <a:pt x="4540" y="10256"/>
                  <a:pt x="4540" y="10382"/>
                </a:cubicBezTo>
                <a:cubicBezTo>
                  <a:pt x="4540" y="10456"/>
                  <a:pt x="4540" y="10530"/>
                  <a:pt x="4540" y="10604"/>
                </a:cubicBezTo>
              </a:path>
              <a:path w="4097" h="2002">
                <a:moveTo>
                  <a:pt x="4318" y="10160"/>
                </a:moveTo>
                <a:cubicBezTo>
                  <a:pt x="4383" y="10176"/>
                  <a:pt x="4399" y="10192"/>
                  <a:pt x="4477" y="10192"/>
                </a:cubicBezTo>
                <a:cubicBezTo>
                  <a:pt x="4583" y="10192"/>
                  <a:pt x="4688" y="10192"/>
                  <a:pt x="4794" y="10192"/>
                </a:cubicBezTo>
              </a:path>
              <a:path w="4097" h="2002">
                <a:moveTo>
                  <a:pt x="5207" y="9588"/>
                </a:moveTo>
                <a:cubicBezTo>
                  <a:pt x="5279" y="9612"/>
                  <a:pt x="5219" y="9651"/>
                  <a:pt x="5207" y="9716"/>
                </a:cubicBezTo>
                <a:cubicBezTo>
                  <a:pt x="5187" y="9830"/>
                  <a:pt x="5197" y="9952"/>
                  <a:pt x="5175" y="10065"/>
                </a:cubicBezTo>
                <a:cubicBezTo>
                  <a:pt x="5147" y="10206"/>
                  <a:pt x="5144" y="10332"/>
                  <a:pt x="5144" y="10478"/>
                </a:cubicBezTo>
                <a:cubicBezTo>
                  <a:pt x="5144" y="10552"/>
                  <a:pt x="5144" y="10626"/>
                  <a:pt x="5144" y="10700"/>
                </a:cubicBezTo>
              </a:path>
              <a:path w="4097" h="2002">
                <a:moveTo>
                  <a:pt x="5620" y="10033"/>
                </a:moveTo>
                <a:cubicBezTo>
                  <a:pt x="5666" y="10022"/>
                  <a:pt x="5705" y="9979"/>
                  <a:pt x="5747" y="9970"/>
                </a:cubicBezTo>
                <a:cubicBezTo>
                  <a:pt x="5814" y="9956"/>
                  <a:pt x="5872" y="9943"/>
                  <a:pt x="5937" y="9938"/>
                </a:cubicBezTo>
                <a:cubicBezTo>
                  <a:pt x="6000" y="9933"/>
                  <a:pt x="5996" y="9936"/>
                  <a:pt x="6064" y="9906"/>
                </a:cubicBezTo>
              </a:path>
              <a:path w="4097" h="2002">
                <a:moveTo>
                  <a:pt x="5588" y="10192"/>
                </a:moveTo>
                <a:cubicBezTo>
                  <a:pt x="5686" y="10192"/>
                  <a:pt x="5750" y="10181"/>
                  <a:pt x="5842" y="10160"/>
                </a:cubicBezTo>
                <a:cubicBezTo>
                  <a:pt x="5908" y="10145"/>
                  <a:pt x="5996" y="10160"/>
                  <a:pt x="6064" y="10160"/>
                </a:cubicBezTo>
              </a:path>
              <a:path w="4097" h="2002">
                <a:moveTo>
                  <a:pt x="6794" y="9652"/>
                </a:moveTo>
                <a:cubicBezTo>
                  <a:pt x="6698" y="9666"/>
                  <a:pt x="6647" y="9708"/>
                  <a:pt x="6572" y="9779"/>
                </a:cubicBezTo>
                <a:cubicBezTo>
                  <a:pt x="6491" y="9855"/>
                  <a:pt x="6411" y="9943"/>
                  <a:pt x="6350" y="10033"/>
                </a:cubicBezTo>
                <a:cubicBezTo>
                  <a:pt x="6306" y="10098"/>
                  <a:pt x="6300" y="10244"/>
                  <a:pt x="6318" y="10319"/>
                </a:cubicBezTo>
                <a:cubicBezTo>
                  <a:pt x="6337" y="10398"/>
                  <a:pt x="6411" y="10494"/>
                  <a:pt x="6477" y="10541"/>
                </a:cubicBezTo>
                <a:cubicBezTo>
                  <a:pt x="6558" y="10598"/>
                  <a:pt x="6696" y="10627"/>
                  <a:pt x="6794" y="10604"/>
                </a:cubicBezTo>
                <a:cubicBezTo>
                  <a:pt x="6893" y="10581"/>
                  <a:pt x="6978" y="10505"/>
                  <a:pt x="7017" y="10414"/>
                </a:cubicBezTo>
                <a:cubicBezTo>
                  <a:pt x="7081" y="10266"/>
                  <a:pt x="7091" y="10155"/>
                  <a:pt x="7048" y="10001"/>
                </a:cubicBezTo>
                <a:cubicBezTo>
                  <a:pt x="7004" y="9847"/>
                  <a:pt x="6915" y="9819"/>
                  <a:pt x="6826" y="9716"/>
                </a:cubicBezTo>
                <a:cubicBezTo>
                  <a:pt x="6767" y="9648"/>
                  <a:pt x="6747" y="9623"/>
                  <a:pt x="6668" y="9684"/>
                </a:cubicBezTo>
              </a:path>
              <a:path w="4097" h="2002">
                <a:moveTo>
                  <a:pt x="4223" y="11176"/>
                </a:moveTo>
                <a:cubicBezTo>
                  <a:pt x="4273" y="11189"/>
                  <a:pt x="4293" y="11208"/>
                  <a:pt x="4350" y="11208"/>
                </a:cubicBezTo>
                <a:cubicBezTo>
                  <a:pt x="4420" y="11208"/>
                  <a:pt x="4439" y="11230"/>
                  <a:pt x="4508" y="11240"/>
                </a:cubicBezTo>
              </a:path>
              <a:path w="4097" h="2002">
                <a:moveTo>
                  <a:pt x="4921" y="10922"/>
                </a:moveTo>
                <a:cubicBezTo>
                  <a:pt x="4974" y="10940"/>
                  <a:pt x="4953" y="10983"/>
                  <a:pt x="4953" y="11049"/>
                </a:cubicBezTo>
                <a:cubicBezTo>
                  <a:pt x="4953" y="11149"/>
                  <a:pt x="4904" y="11235"/>
                  <a:pt x="4890" y="11335"/>
                </a:cubicBezTo>
                <a:cubicBezTo>
                  <a:pt x="4875" y="11442"/>
                  <a:pt x="4865" y="11457"/>
                  <a:pt x="4890" y="11557"/>
                </a:cubicBezTo>
                <a:cubicBezTo>
                  <a:pt x="4890" y="11589"/>
                  <a:pt x="4890" y="11599"/>
                  <a:pt x="4921" y="11589"/>
                </a:cubicBezTo>
              </a:path>
              <a:path w="4097" h="2002">
                <a:moveTo>
                  <a:pt x="5969" y="11017"/>
                </a:moveTo>
                <a:cubicBezTo>
                  <a:pt x="5969" y="11007"/>
                  <a:pt x="5969" y="10996"/>
                  <a:pt x="5969" y="10986"/>
                </a:cubicBezTo>
                <a:cubicBezTo>
                  <a:pt x="6027" y="10986"/>
                  <a:pt x="6044" y="10958"/>
                  <a:pt x="6096" y="10954"/>
                </a:cubicBezTo>
                <a:cubicBezTo>
                  <a:pt x="6166" y="10949"/>
                  <a:pt x="6217" y="10931"/>
                  <a:pt x="6286" y="10922"/>
                </a:cubicBezTo>
              </a:path>
              <a:path w="4097" h="2002">
                <a:moveTo>
                  <a:pt x="6636" y="10732"/>
                </a:moveTo>
                <a:cubicBezTo>
                  <a:pt x="6688" y="10749"/>
                  <a:pt x="6668" y="10793"/>
                  <a:pt x="6668" y="10858"/>
                </a:cubicBezTo>
                <a:cubicBezTo>
                  <a:pt x="6668" y="10932"/>
                  <a:pt x="6652" y="11037"/>
                  <a:pt x="6636" y="11112"/>
                </a:cubicBezTo>
                <a:cubicBezTo>
                  <a:pt x="6612" y="11221"/>
                  <a:pt x="6586" y="11322"/>
                  <a:pt x="6572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0"/>
          <p:cNvSpPr/>
          <p:nvPr/>
        </p:nvSpPr>
        <p:spPr>
          <a:xfrm>
            <a:off x="1039680" y="4079880"/>
            <a:ext cx="1509840" cy="984240"/>
          </a:xfrm>
          <a:custGeom>
            <a:avLst/>
            <a:gdLst/>
            <a:ahLst/>
            <a:rect l="l" t="t" r="r" b="b"/>
            <a:pathLst>
              <a:path w="4192" h="2731">
                <a:moveTo>
                  <a:pt x="4413" y="12700"/>
                </a:moveTo>
                <a:cubicBezTo>
                  <a:pt x="4413" y="12641"/>
                  <a:pt x="4441" y="12625"/>
                  <a:pt x="4445" y="12573"/>
                </a:cubicBezTo>
                <a:cubicBezTo>
                  <a:pt x="4454" y="12449"/>
                  <a:pt x="4442" y="12339"/>
                  <a:pt x="4413" y="12224"/>
                </a:cubicBezTo>
                <a:cubicBezTo>
                  <a:pt x="4400" y="12171"/>
                  <a:pt x="4378" y="12135"/>
                  <a:pt x="4318" y="12128"/>
                </a:cubicBezTo>
                <a:cubicBezTo>
                  <a:pt x="4261" y="12122"/>
                  <a:pt x="4188" y="12212"/>
                  <a:pt x="4159" y="12256"/>
                </a:cubicBezTo>
                <a:cubicBezTo>
                  <a:pt x="4104" y="12340"/>
                  <a:pt x="4067" y="12448"/>
                  <a:pt x="4032" y="12541"/>
                </a:cubicBezTo>
                <a:cubicBezTo>
                  <a:pt x="3986" y="12663"/>
                  <a:pt x="3979" y="12721"/>
                  <a:pt x="4000" y="12827"/>
                </a:cubicBezTo>
                <a:cubicBezTo>
                  <a:pt x="4019" y="12921"/>
                  <a:pt x="4024" y="12945"/>
                  <a:pt x="4128" y="12954"/>
                </a:cubicBezTo>
                <a:cubicBezTo>
                  <a:pt x="4171" y="12958"/>
                  <a:pt x="4260" y="12895"/>
                  <a:pt x="4286" y="12859"/>
                </a:cubicBezTo>
                <a:cubicBezTo>
                  <a:pt x="4336" y="12790"/>
                  <a:pt x="4374" y="12713"/>
                  <a:pt x="4413" y="12636"/>
                </a:cubicBezTo>
                <a:cubicBezTo>
                  <a:pt x="4440" y="12581"/>
                  <a:pt x="4464" y="12531"/>
                  <a:pt x="4477" y="12478"/>
                </a:cubicBezTo>
                <a:cubicBezTo>
                  <a:pt x="4547" y="12430"/>
                  <a:pt x="4482" y="12511"/>
                  <a:pt x="4477" y="12573"/>
                </a:cubicBezTo>
                <a:cubicBezTo>
                  <a:pt x="4472" y="12633"/>
                  <a:pt x="4462" y="12736"/>
                  <a:pt x="4445" y="12795"/>
                </a:cubicBezTo>
                <a:cubicBezTo>
                  <a:pt x="4423" y="12875"/>
                  <a:pt x="4421" y="12947"/>
                  <a:pt x="4477" y="13018"/>
                </a:cubicBezTo>
                <a:cubicBezTo>
                  <a:pt x="4529" y="13084"/>
                  <a:pt x="4612" y="13047"/>
                  <a:pt x="4667" y="13018"/>
                </a:cubicBezTo>
                <a:cubicBezTo>
                  <a:pt x="4773" y="12962"/>
                  <a:pt x="4825" y="12929"/>
                  <a:pt x="4890" y="12827"/>
                </a:cubicBezTo>
              </a:path>
              <a:path w="4192" h="2731">
                <a:moveTo>
                  <a:pt x="5048" y="12414"/>
                </a:moveTo>
                <a:cubicBezTo>
                  <a:pt x="5133" y="12465"/>
                  <a:pt x="5159" y="12430"/>
                  <a:pt x="5239" y="12414"/>
                </a:cubicBezTo>
                <a:cubicBezTo>
                  <a:pt x="5306" y="12401"/>
                  <a:pt x="5392" y="12414"/>
                  <a:pt x="5461" y="12414"/>
                </a:cubicBezTo>
              </a:path>
              <a:path w="4192" h="2731">
                <a:moveTo>
                  <a:pt x="5207" y="12700"/>
                </a:moveTo>
                <a:cubicBezTo>
                  <a:pt x="5273" y="12700"/>
                  <a:pt x="5313" y="12684"/>
                  <a:pt x="5366" y="12668"/>
                </a:cubicBezTo>
                <a:cubicBezTo>
                  <a:pt x="5428" y="12649"/>
                  <a:pt x="5494" y="12645"/>
                  <a:pt x="5556" y="12636"/>
                </a:cubicBezTo>
              </a:path>
              <a:path w="4192" h="2731">
                <a:moveTo>
                  <a:pt x="5747" y="12128"/>
                </a:moveTo>
                <a:cubicBezTo>
                  <a:pt x="5813" y="12168"/>
                  <a:pt x="5866" y="12167"/>
                  <a:pt x="5937" y="12192"/>
                </a:cubicBezTo>
                <a:cubicBezTo>
                  <a:pt x="5958" y="12203"/>
                  <a:pt x="5980" y="12213"/>
                  <a:pt x="6001" y="12224"/>
                </a:cubicBezTo>
              </a:path>
              <a:path w="4192" h="2731">
                <a:moveTo>
                  <a:pt x="6350" y="11938"/>
                </a:moveTo>
                <a:cubicBezTo>
                  <a:pt x="6350" y="12032"/>
                  <a:pt x="6329" y="12102"/>
                  <a:pt x="6318" y="12192"/>
                </a:cubicBezTo>
                <a:cubicBezTo>
                  <a:pt x="6300" y="12349"/>
                  <a:pt x="6279" y="12512"/>
                  <a:pt x="6255" y="12668"/>
                </a:cubicBezTo>
                <a:cubicBezTo>
                  <a:pt x="6234" y="12807"/>
                  <a:pt x="6213" y="12941"/>
                  <a:pt x="6191" y="13081"/>
                </a:cubicBezTo>
              </a:path>
              <a:path w="4192" h="2731">
                <a:moveTo>
                  <a:pt x="3429" y="13367"/>
                </a:moveTo>
                <a:cubicBezTo>
                  <a:pt x="3437" y="13424"/>
                  <a:pt x="3456" y="13477"/>
                  <a:pt x="3461" y="13494"/>
                </a:cubicBezTo>
                <a:cubicBezTo>
                  <a:pt x="3478" y="13552"/>
                  <a:pt x="3499" y="13562"/>
                  <a:pt x="3524" y="13589"/>
                </a:cubicBezTo>
                <a:cubicBezTo>
                  <a:pt x="3586" y="13656"/>
                  <a:pt x="3613" y="13651"/>
                  <a:pt x="3683" y="13684"/>
                </a:cubicBezTo>
                <a:cubicBezTo>
                  <a:pt x="3771" y="13726"/>
                  <a:pt x="3847" y="13751"/>
                  <a:pt x="3937" y="13780"/>
                </a:cubicBezTo>
                <a:cubicBezTo>
                  <a:pt x="4097" y="13832"/>
                  <a:pt x="4256" y="13866"/>
                  <a:pt x="4413" y="13906"/>
                </a:cubicBezTo>
                <a:cubicBezTo>
                  <a:pt x="4568" y="13945"/>
                  <a:pt x="4702" y="13982"/>
                  <a:pt x="4858" y="14002"/>
                </a:cubicBezTo>
                <a:cubicBezTo>
                  <a:pt x="5017" y="14023"/>
                  <a:pt x="5170" y="14061"/>
                  <a:pt x="5334" y="14065"/>
                </a:cubicBezTo>
                <a:cubicBezTo>
                  <a:pt x="5499" y="14069"/>
                  <a:pt x="5648" y="14059"/>
                  <a:pt x="5810" y="14034"/>
                </a:cubicBezTo>
                <a:cubicBezTo>
                  <a:pt x="5971" y="14009"/>
                  <a:pt x="6078" y="13975"/>
                  <a:pt x="6223" y="13906"/>
                </a:cubicBezTo>
                <a:cubicBezTo>
                  <a:pt x="6357" y="13842"/>
                  <a:pt x="6453" y="13770"/>
                  <a:pt x="6572" y="13684"/>
                </a:cubicBezTo>
                <a:cubicBezTo>
                  <a:pt x="6718" y="13578"/>
                  <a:pt x="6766" y="13455"/>
                  <a:pt x="6858" y="13303"/>
                </a:cubicBezTo>
                <a:cubicBezTo>
                  <a:pt x="6933" y="13179"/>
                  <a:pt x="6969" y="13059"/>
                  <a:pt x="7017" y="12922"/>
                </a:cubicBezTo>
                <a:cubicBezTo>
                  <a:pt x="7068" y="12775"/>
                  <a:pt x="7075" y="12664"/>
                  <a:pt x="7080" y="12510"/>
                </a:cubicBezTo>
                <a:cubicBezTo>
                  <a:pt x="7084" y="12396"/>
                  <a:pt x="7086" y="12233"/>
                  <a:pt x="7048" y="12128"/>
                </a:cubicBezTo>
                <a:cubicBezTo>
                  <a:pt x="7004" y="12009"/>
                  <a:pt x="6936" y="11909"/>
                  <a:pt x="6858" y="11811"/>
                </a:cubicBezTo>
                <a:cubicBezTo>
                  <a:pt x="6772" y="11703"/>
                  <a:pt x="6679" y="11657"/>
                  <a:pt x="6572" y="11589"/>
                </a:cubicBezTo>
                <a:cubicBezTo>
                  <a:pt x="6460" y="11518"/>
                  <a:pt x="6360" y="11466"/>
                  <a:pt x="6223" y="11430"/>
                </a:cubicBezTo>
                <a:cubicBezTo>
                  <a:pt x="6095" y="11396"/>
                  <a:pt x="5971" y="11387"/>
                  <a:pt x="5842" y="11366"/>
                </a:cubicBezTo>
                <a:cubicBezTo>
                  <a:pt x="5714" y="11345"/>
                  <a:pt x="5595" y="11323"/>
                  <a:pt x="5461" y="11335"/>
                </a:cubicBezTo>
                <a:cubicBezTo>
                  <a:pt x="5283" y="11351"/>
                  <a:pt x="5099" y="11375"/>
                  <a:pt x="4921" y="11398"/>
                </a:cubicBezTo>
                <a:cubicBezTo>
                  <a:pt x="4779" y="11417"/>
                  <a:pt x="4615" y="11429"/>
                  <a:pt x="4477" y="11462"/>
                </a:cubicBezTo>
                <a:cubicBezTo>
                  <a:pt x="4164" y="11538"/>
                  <a:pt x="3860" y="11642"/>
                  <a:pt x="3588" y="11811"/>
                </a:cubicBezTo>
                <a:cubicBezTo>
                  <a:pt x="3478" y="11879"/>
                  <a:pt x="3395" y="11943"/>
                  <a:pt x="3302" y="12033"/>
                </a:cubicBezTo>
                <a:cubicBezTo>
                  <a:pt x="3173" y="12158"/>
                  <a:pt x="3072" y="12266"/>
                  <a:pt x="2984" y="12414"/>
                </a:cubicBezTo>
                <a:cubicBezTo>
                  <a:pt x="2947" y="12477"/>
                  <a:pt x="2889" y="12598"/>
                  <a:pt x="2889" y="12668"/>
                </a:cubicBezTo>
                <a:cubicBezTo>
                  <a:pt x="2889" y="12772"/>
                  <a:pt x="2917" y="12859"/>
                  <a:pt x="2953" y="12954"/>
                </a:cubicBezTo>
                <a:cubicBezTo>
                  <a:pt x="2997" y="13071"/>
                  <a:pt x="3062" y="13097"/>
                  <a:pt x="3143" y="13176"/>
                </a:cubicBezTo>
                <a:cubicBezTo>
                  <a:pt x="3281" y="13310"/>
                  <a:pt x="3400" y="13427"/>
                  <a:pt x="3556" y="13526"/>
                </a:cubicBezTo>
                <a:cubicBezTo>
                  <a:pt x="3666" y="13596"/>
                  <a:pt x="3783" y="13661"/>
                  <a:pt x="3905" y="13716"/>
                </a:cubicBezTo>
                <a:cubicBezTo>
                  <a:pt x="4033" y="13774"/>
                  <a:pt x="4151" y="13782"/>
                  <a:pt x="4286" y="13811"/>
                </a:cubicBezTo>
                <a:cubicBezTo>
                  <a:pt x="4445" y="13846"/>
                  <a:pt x="4603" y="13849"/>
                  <a:pt x="4762" y="13875"/>
                </a:cubicBezTo>
                <a:cubicBezTo>
                  <a:pt x="4888" y="13896"/>
                  <a:pt x="4986" y="13925"/>
                  <a:pt x="5112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1"/>
          <p:cNvSpPr/>
          <p:nvPr/>
        </p:nvSpPr>
        <p:spPr>
          <a:xfrm>
            <a:off x="3646440" y="4457880"/>
            <a:ext cx="1932120" cy="1839600"/>
          </a:xfrm>
          <a:custGeom>
            <a:avLst/>
            <a:gdLst/>
            <a:ahLst/>
            <a:rect l="l" t="t" r="r" b="b"/>
            <a:pathLst>
              <a:path w="5367" h="5113">
                <a:moveTo>
                  <a:pt x="10890" y="13049"/>
                </a:moveTo>
                <a:cubicBezTo>
                  <a:pt x="10932" y="13105"/>
                  <a:pt x="10922" y="13133"/>
                  <a:pt x="10922" y="13208"/>
                </a:cubicBezTo>
                <a:cubicBezTo>
                  <a:pt x="10922" y="13321"/>
                  <a:pt x="10902" y="13418"/>
                  <a:pt x="10890" y="13526"/>
                </a:cubicBezTo>
                <a:cubicBezTo>
                  <a:pt x="10876" y="13652"/>
                  <a:pt x="10863" y="13781"/>
                  <a:pt x="10858" y="13906"/>
                </a:cubicBezTo>
                <a:cubicBezTo>
                  <a:pt x="10853" y="14038"/>
                  <a:pt x="10833" y="14158"/>
                  <a:pt x="10827" y="14288"/>
                </a:cubicBezTo>
                <a:cubicBezTo>
                  <a:pt x="10824" y="14366"/>
                  <a:pt x="10838" y="14358"/>
                  <a:pt x="10795" y="14414"/>
                </a:cubicBezTo>
                <a:cubicBezTo>
                  <a:pt x="10795" y="14250"/>
                  <a:pt x="10809" y="14097"/>
                  <a:pt x="10827" y="13938"/>
                </a:cubicBezTo>
                <a:cubicBezTo>
                  <a:pt x="10843" y="13802"/>
                  <a:pt x="10872" y="13674"/>
                  <a:pt x="10954" y="13557"/>
                </a:cubicBezTo>
                <a:cubicBezTo>
                  <a:pt x="10995" y="13499"/>
                  <a:pt x="11049" y="13479"/>
                  <a:pt x="11112" y="13462"/>
                </a:cubicBezTo>
                <a:cubicBezTo>
                  <a:pt x="11167" y="13447"/>
                  <a:pt x="11243" y="13513"/>
                  <a:pt x="11271" y="13557"/>
                </a:cubicBezTo>
                <a:cubicBezTo>
                  <a:pt x="11331" y="13651"/>
                  <a:pt x="11361" y="13734"/>
                  <a:pt x="11366" y="13843"/>
                </a:cubicBezTo>
                <a:cubicBezTo>
                  <a:pt x="11372" y="13972"/>
                  <a:pt x="11384" y="14032"/>
                  <a:pt x="11366" y="14160"/>
                </a:cubicBezTo>
                <a:cubicBezTo>
                  <a:pt x="11349" y="14281"/>
                  <a:pt x="11306" y="14315"/>
                  <a:pt x="11240" y="14414"/>
                </a:cubicBezTo>
                <a:cubicBezTo>
                  <a:pt x="11174" y="14513"/>
                  <a:pt x="11138" y="14498"/>
                  <a:pt x="11049" y="14542"/>
                </a:cubicBezTo>
                <a:cubicBezTo>
                  <a:pt x="11008" y="14562"/>
                  <a:pt x="10924" y="14593"/>
                  <a:pt x="10890" y="14542"/>
                </a:cubicBezTo>
                <a:cubicBezTo>
                  <a:pt x="10847" y="14477"/>
                  <a:pt x="10878" y="14471"/>
                  <a:pt x="10890" y="14414"/>
                </a:cubicBezTo>
                <a:cubicBezTo>
                  <a:pt x="10906" y="14340"/>
                  <a:pt x="10918" y="14296"/>
                  <a:pt x="10954" y="14224"/>
                </a:cubicBezTo>
              </a:path>
              <a:path w="5367" h="5113">
                <a:moveTo>
                  <a:pt x="11652" y="13811"/>
                </a:moveTo>
                <a:cubicBezTo>
                  <a:pt x="11740" y="13811"/>
                  <a:pt x="11792" y="13800"/>
                  <a:pt x="11874" y="13780"/>
                </a:cubicBezTo>
                <a:cubicBezTo>
                  <a:pt x="11928" y="13767"/>
                  <a:pt x="11978" y="13739"/>
                  <a:pt x="12033" y="13748"/>
                </a:cubicBezTo>
                <a:cubicBezTo>
                  <a:pt x="12044" y="13759"/>
                  <a:pt x="12054" y="13769"/>
                  <a:pt x="12065" y="13780"/>
                </a:cubicBezTo>
              </a:path>
              <a:path w="5367" h="5113">
                <a:moveTo>
                  <a:pt x="11779" y="14192"/>
                </a:moveTo>
                <a:cubicBezTo>
                  <a:pt x="11868" y="14192"/>
                  <a:pt x="11919" y="14203"/>
                  <a:pt x="12002" y="14224"/>
                </a:cubicBezTo>
                <a:cubicBezTo>
                  <a:pt x="12084" y="14245"/>
                  <a:pt x="12119" y="14229"/>
                  <a:pt x="12192" y="14288"/>
                </a:cubicBezTo>
              </a:path>
              <a:path w="5367" h="5113">
                <a:moveTo>
                  <a:pt x="12287" y="13367"/>
                </a:moveTo>
                <a:cubicBezTo>
                  <a:pt x="12336" y="13330"/>
                  <a:pt x="12352" y="13335"/>
                  <a:pt x="12414" y="13335"/>
                </a:cubicBezTo>
                <a:cubicBezTo>
                  <a:pt x="12425" y="13335"/>
                  <a:pt x="12435" y="13335"/>
                  <a:pt x="12446" y="13335"/>
                </a:cubicBezTo>
                <a:cubicBezTo>
                  <a:pt x="12462" y="13287"/>
                  <a:pt x="12484" y="13303"/>
                  <a:pt x="12541" y="13303"/>
                </a:cubicBezTo>
              </a:path>
              <a:path w="5367" h="5113">
                <a:moveTo>
                  <a:pt x="12827" y="13144"/>
                </a:moveTo>
                <a:cubicBezTo>
                  <a:pt x="12778" y="13128"/>
                  <a:pt x="12798" y="13092"/>
                  <a:pt x="12827" y="13049"/>
                </a:cubicBezTo>
                <a:cubicBezTo>
                  <a:pt x="12859" y="13002"/>
                  <a:pt x="12877" y="12967"/>
                  <a:pt x="12922" y="12922"/>
                </a:cubicBezTo>
                <a:cubicBezTo>
                  <a:pt x="12992" y="12852"/>
                  <a:pt x="12974" y="12866"/>
                  <a:pt x="13049" y="12890"/>
                </a:cubicBezTo>
                <a:cubicBezTo>
                  <a:pt x="13103" y="12908"/>
                  <a:pt x="13109" y="12980"/>
                  <a:pt x="13113" y="13049"/>
                </a:cubicBezTo>
                <a:cubicBezTo>
                  <a:pt x="13120" y="13169"/>
                  <a:pt x="13077" y="13346"/>
                  <a:pt x="13049" y="13462"/>
                </a:cubicBezTo>
                <a:cubicBezTo>
                  <a:pt x="13018" y="13591"/>
                  <a:pt x="12981" y="13757"/>
                  <a:pt x="12922" y="13875"/>
                </a:cubicBezTo>
                <a:cubicBezTo>
                  <a:pt x="12870" y="13978"/>
                  <a:pt x="12832" y="14132"/>
                  <a:pt x="12764" y="14224"/>
                </a:cubicBezTo>
                <a:cubicBezTo>
                  <a:pt x="12702" y="14308"/>
                  <a:pt x="12707" y="14330"/>
                  <a:pt x="12636" y="14383"/>
                </a:cubicBezTo>
                <a:cubicBezTo>
                  <a:pt x="12636" y="14320"/>
                  <a:pt x="12630" y="14281"/>
                  <a:pt x="12668" y="14224"/>
                </a:cubicBezTo>
                <a:cubicBezTo>
                  <a:pt x="12700" y="14176"/>
                  <a:pt x="12773" y="14103"/>
                  <a:pt x="12827" y="14097"/>
                </a:cubicBezTo>
                <a:cubicBezTo>
                  <a:pt x="12898" y="14089"/>
                  <a:pt x="12925" y="14114"/>
                  <a:pt x="12954" y="14129"/>
                </a:cubicBezTo>
                <a:cubicBezTo>
                  <a:pt x="12962" y="14133"/>
                  <a:pt x="13026" y="14189"/>
                  <a:pt x="13049" y="14160"/>
                </a:cubicBezTo>
                <a:cubicBezTo>
                  <a:pt x="13049" y="14129"/>
                  <a:pt x="13049" y="14118"/>
                  <a:pt x="13049" y="14097"/>
                </a:cubicBezTo>
              </a:path>
              <a:path w="5367" h="5113">
                <a:moveTo>
                  <a:pt x="13272" y="12890"/>
                </a:moveTo>
                <a:cubicBezTo>
                  <a:pt x="13291" y="12949"/>
                  <a:pt x="13303" y="12922"/>
                  <a:pt x="13303" y="13018"/>
                </a:cubicBezTo>
                <a:cubicBezTo>
                  <a:pt x="13303" y="13166"/>
                  <a:pt x="13303" y="13314"/>
                  <a:pt x="13303" y="13462"/>
                </a:cubicBezTo>
              </a:path>
              <a:path w="5367" h="5113">
                <a:moveTo>
                  <a:pt x="13462" y="12859"/>
                </a:moveTo>
                <a:cubicBezTo>
                  <a:pt x="13502" y="12751"/>
                  <a:pt x="13514" y="12723"/>
                  <a:pt x="13589" y="12668"/>
                </a:cubicBezTo>
                <a:cubicBezTo>
                  <a:pt x="13623" y="12736"/>
                  <a:pt x="13638" y="12801"/>
                  <a:pt x="13621" y="12890"/>
                </a:cubicBezTo>
                <a:cubicBezTo>
                  <a:pt x="13587" y="13068"/>
                  <a:pt x="13567" y="13249"/>
                  <a:pt x="13526" y="13430"/>
                </a:cubicBezTo>
                <a:cubicBezTo>
                  <a:pt x="13486" y="13610"/>
                  <a:pt x="13449" y="13793"/>
                  <a:pt x="13398" y="13970"/>
                </a:cubicBezTo>
                <a:cubicBezTo>
                  <a:pt x="13370" y="14068"/>
                  <a:pt x="13359" y="14161"/>
                  <a:pt x="13335" y="14256"/>
                </a:cubicBezTo>
                <a:cubicBezTo>
                  <a:pt x="13335" y="14288"/>
                  <a:pt x="13335" y="14299"/>
                  <a:pt x="13335" y="14256"/>
                </a:cubicBezTo>
                <a:cubicBezTo>
                  <a:pt x="13344" y="14159"/>
                  <a:pt x="13380" y="14098"/>
                  <a:pt x="13398" y="14002"/>
                </a:cubicBezTo>
                <a:cubicBezTo>
                  <a:pt x="13421" y="13877"/>
                  <a:pt x="13442" y="13737"/>
                  <a:pt x="13494" y="13621"/>
                </a:cubicBezTo>
                <a:cubicBezTo>
                  <a:pt x="13534" y="13532"/>
                  <a:pt x="13576" y="13415"/>
                  <a:pt x="13621" y="13335"/>
                </a:cubicBezTo>
                <a:cubicBezTo>
                  <a:pt x="13643" y="13296"/>
                  <a:pt x="13712" y="13283"/>
                  <a:pt x="13748" y="13272"/>
                </a:cubicBezTo>
                <a:cubicBezTo>
                  <a:pt x="13759" y="13272"/>
                  <a:pt x="13769" y="13272"/>
                  <a:pt x="13780" y="13272"/>
                </a:cubicBezTo>
                <a:cubicBezTo>
                  <a:pt x="13803" y="13350"/>
                  <a:pt x="13806" y="13364"/>
                  <a:pt x="13811" y="13462"/>
                </a:cubicBezTo>
                <a:cubicBezTo>
                  <a:pt x="13816" y="13560"/>
                  <a:pt x="13760" y="13654"/>
                  <a:pt x="13748" y="13748"/>
                </a:cubicBezTo>
                <a:cubicBezTo>
                  <a:pt x="13737" y="13839"/>
                  <a:pt x="13699" y="13893"/>
                  <a:pt x="13684" y="13970"/>
                </a:cubicBezTo>
                <a:cubicBezTo>
                  <a:pt x="13684" y="14002"/>
                  <a:pt x="13684" y="14013"/>
                  <a:pt x="13684" y="14034"/>
                </a:cubicBezTo>
                <a:cubicBezTo>
                  <a:pt x="13715" y="14003"/>
                  <a:pt x="13793" y="13959"/>
                  <a:pt x="13811" y="13938"/>
                </a:cubicBezTo>
                <a:cubicBezTo>
                  <a:pt x="13855" y="13887"/>
                  <a:pt x="13846" y="13905"/>
                  <a:pt x="13906" y="13875"/>
                </a:cubicBezTo>
                <a:cubicBezTo>
                  <a:pt x="13942" y="13857"/>
                  <a:pt x="14004" y="13832"/>
                  <a:pt x="14034" y="13811"/>
                </a:cubicBezTo>
                <a:cubicBezTo>
                  <a:pt x="14082" y="13778"/>
                  <a:pt x="14101" y="13732"/>
                  <a:pt x="14129" y="13684"/>
                </a:cubicBezTo>
              </a:path>
              <a:path w="5367" h="5113">
                <a:moveTo>
                  <a:pt x="11652" y="12573"/>
                </a:moveTo>
                <a:cubicBezTo>
                  <a:pt x="11597" y="12584"/>
                  <a:pt x="11557" y="12593"/>
                  <a:pt x="11494" y="12605"/>
                </a:cubicBezTo>
                <a:cubicBezTo>
                  <a:pt x="11422" y="12619"/>
                  <a:pt x="11340" y="12611"/>
                  <a:pt x="11271" y="12636"/>
                </a:cubicBezTo>
                <a:cubicBezTo>
                  <a:pt x="11083" y="12704"/>
                  <a:pt x="10896" y="12820"/>
                  <a:pt x="10732" y="12922"/>
                </a:cubicBezTo>
                <a:cubicBezTo>
                  <a:pt x="10636" y="12982"/>
                  <a:pt x="10530" y="13040"/>
                  <a:pt x="10446" y="13113"/>
                </a:cubicBezTo>
                <a:cubicBezTo>
                  <a:pt x="10362" y="13185"/>
                  <a:pt x="10273" y="13269"/>
                  <a:pt x="10224" y="13367"/>
                </a:cubicBezTo>
                <a:cubicBezTo>
                  <a:pt x="10154" y="13506"/>
                  <a:pt x="10135" y="13659"/>
                  <a:pt x="10128" y="13811"/>
                </a:cubicBezTo>
                <a:cubicBezTo>
                  <a:pt x="10122" y="13937"/>
                  <a:pt x="10144" y="14014"/>
                  <a:pt x="10192" y="14129"/>
                </a:cubicBezTo>
                <a:cubicBezTo>
                  <a:pt x="10246" y="14258"/>
                  <a:pt x="10310" y="14364"/>
                  <a:pt x="10382" y="14478"/>
                </a:cubicBezTo>
                <a:cubicBezTo>
                  <a:pt x="10466" y="14612"/>
                  <a:pt x="10567" y="14708"/>
                  <a:pt x="10668" y="14827"/>
                </a:cubicBezTo>
                <a:cubicBezTo>
                  <a:pt x="10761" y="14937"/>
                  <a:pt x="10850" y="15014"/>
                  <a:pt x="10954" y="15113"/>
                </a:cubicBezTo>
                <a:cubicBezTo>
                  <a:pt x="11069" y="15223"/>
                  <a:pt x="11178" y="15303"/>
                  <a:pt x="11303" y="15399"/>
                </a:cubicBezTo>
                <a:cubicBezTo>
                  <a:pt x="11470" y="15528"/>
                  <a:pt x="11645" y="15650"/>
                  <a:pt x="11811" y="15780"/>
                </a:cubicBezTo>
                <a:cubicBezTo>
                  <a:pt x="11948" y="15887"/>
                  <a:pt x="12085" y="15991"/>
                  <a:pt x="12224" y="16097"/>
                </a:cubicBezTo>
                <a:cubicBezTo>
                  <a:pt x="12337" y="16184"/>
                  <a:pt x="12438" y="16283"/>
                  <a:pt x="12541" y="16383"/>
                </a:cubicBezTo>
                <a:cubicBezTo>
                  <a:pt x="12650" y="16490"/>
                  <a:pt x="12774" y="16567"/>
                  <a:pt x="12890" y="16669"/>
                </a:cubicBezTo>
                <a:cubicBezTo>
                  <a:pt x="12997" y="16763"/>
                  <a:pt x="13089" y="16865"/>
                  <a:pt x="13208" y="16954"/>
                </a:cubicBezTo>
                <a:cubicBezTo>
                  <a:pt x="13340" y="17052"/>
                  <a:pt x="13475" y="17105"/>
                  <a:pt x="13621" y="17177"/>
                </a:cubicBezTo>
                <a:cubicBezTo>
                  <a:pt x="13761" y="17246"/>
                  <a:pt x="13895" y="17326"/>
                  <a:pt x="14034" y="17399"/>
                </a:cubicBezTo>
                <a:cubicBezTo>
                  <a:pt x="14235" y="17505"/>
                  <a:pt x="14295" y="17491"/>
                  <a:pt x="14510" y="17431"/>
                </a:cubicBezTo>
                <a:cubicBezTo>
                  <a:pt x="14645" y="17393"/>
                  <a:pt x="14744" y="17330"/>
                  <a:pt x="14859" y="17272"/>
                </a:cubicBezTo>
                <a:cubicBezTo>
                  <a:pt x="14995" y="17203"/>
                  <a:pt x="15086" y="17143"/>
                  <a:pt x="15176" y="17018"/>
                </a:cubicBezTo>
                <a:cubicBezTo>
                  <a:pt x="15277" y="16878"/>
                  <a:pt x="15348" y="16699"/>
                  <a:pt x="15399" y="16542"/>
                </a:cubicBezTo>
                <a:cubicBezTo>
                  <a:pt x="15453" y="16374"/>
                  <a:pt x="15479" y="16207"/>
                  <a:pt x="15494" y="16034"/>
                </a:cubicBezTo>
                <a:cubicBezTo>
                  <a:pt x="15510" y="15848"/>
                  <a:pt x="15471" y="15674"/>
                  <a:pt x="15462" y="15494"/>
                </a:cubicBezTo>
                <a:cubicBezTo>
                  <a:pt x="15454" y="15331"/>
                  <a:pt x="15438" y="15144"/>
                  <a:pt x="15399" y="14986"/>
                </a:cubicBezTo>
                <a:cubicBezTo>
                  <a:pt x="15353" y="14799"/>
                  <a:pt x="15269" y="14579"/>
                  <a:pt x="15176" y="14414"/>
                </a:cubicBezTo>
                <a:cubicBezTo>
                  <a:pt x="15108" y="14292"/>
                  <a:pt x="15013" y="14169"/>
                  <a:pt x="14922" y="14065"/>
                </a:cubicBezTo>
                <a:cubicBezTo>
                  <a:pt x="14830" y="13959"/>
                  <a:pt x="14721" y="13888"/>
                  <a:pt x="14605" y="13811"/>
                </a:cubicBezTo>
                <a:cubicBezTo>
                  <a:pt x="14501" y="13742"/>
                  <a:pt x="14391" y="13682"/>
                  <a:pt x="14288" y="13621"/>
                </a:cubicBezTo>
                <a:cubicBezTo>
                  <a:pt x="14181" y="13557"/>
                  <a:pt x="14106" y="13533"/>
                  <a:pt x="14034" y="13430"/>
                </a:cubicBezTo>
                <a:cubicBezTo>
                  <a:pt x="13990" y="13367"/>
                  <a:pt x="13962" y="13279"/>
                  <a:pt x="13938" y="13208"/>
                </a:cubicBezTo>
                <a:cubicBezTo>
                  <a:pt x="13904" y="13107"/>
                  <a:pt x="13918" y="12995"/>
                  <a:pt x="13906" y="12890"/>
                </a:cubicBezTo>
                <a:cubicBezTo>
                  <a:pt x="13895" y="12800"/>
                  <a:pt x="13889" y="12619"/>
                  <a:pt x="13843" y="12541"/>
                </a:cubicBezTo>
                <a:cubicBezTo>
                  <a:pt x="13792" y="12455"/>
                  <a:pt x="13790" y="12453"/>
                  <a:pt x="13716" y="12414"/>
                </a:cubicBezTo>
                <a:cubicBezTo>
                  <a:pt x="13642" y="12375"/>
                  <a:pt x="13583" y="12387"/>
                  <a:pt x="13494" y="12382"/>
                </a:cubicBezTo>
                <a:cubicBezTo>
                  <a:pt x="13360" y="12375"/>
                  <a:pt x="13238" y="12392"/>
                  <a:pt x="13113" y="12414"/>
                </a:cubicBezTo>
                <a:cubicBezTo>
                  <a:pt x="13006" y="12433"/>
                  <a:pt x="12902" y="12456"/>
                  <a:pt x="12795" y="12478"/>
                </a:cubicBezTo>
                <a:cubicBezTo>
                  <a:pt x="12697" y="12498"/>
                  <a:pt x="12578" y="12532"/>
                  <a:pt x="12478" y="12541"/>
                </a:cubicBezTo>
                <a:cubicBezTo>
                  <a:pt x="12358" y="12551"/>
                  <a:pt x="12246" y="12553"/>
                  <a:pt x="12128" y="12573"/>
                </a:cubicBezTo>
                <a:cubicBezTo>
                  <a:pt x="12021" y="12591"/>
                  <a:pt x="11922" y="12603"/>
                  <a:pt x="11811" y="12605"/>
                </a:cubicBezTo>
                <a:cubicBezTo>
                  <a:pt x="11568" y="12610"/>
                  <a:pt x="11324" y="12605"/>
                  <a:pt x="11081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2"/>
          <p:cNvSpPr/>
          <p:nvPr/>
        </p:nvSpPr>
        <p:spPr>
          <a:xfrm>
            <a:off x="7018200" y="4835520"/>
            <a:ext cx="1393920" cy="1314360"/>
          </a:xfrm>
          <a:custGeom>
            <a:avLst/>
            <a:gdLst/>
            <a:ahLst/>
            <a:rect l="l" t="t" r="r" b="b"/>
            <a:pathLst>
              <a:path w="3875" h="3653">
                <a:moveTo>
                  <a:pt x="21685" y="13557"/>
                </a:moveTo>
                <a:cubicBezTo>
                  <a:pt x="21756" y="13543"/>
                  <a:pt x="21801" y="13526"/>
                  <a:pt x="21876" y="13526"/>
                </a:cubicBezTo>
                <a:cubicBezTo>
                  <a:pt x="21962" y="13526"/>
                  <a:pt x="22052" y="13520"/>
                  <a:pt x="22130" y="13494"/>
                </a:cubicBezTo>
                <a:cubicBezTo>
                  <a:pt x="22201" y="13470"/>
                  <a:pt x="22277" y="13435"/>
                  <a:pt x="22352" y="13430"/>
                </a:cubicBezTo>
                <a:cubicBezTo>
                  <a:pt x="22373" y="13430"/>
                  <a:pt x="22395" y="13430"/>
                  <a:pt x="22416" y="13430"/>
                </a:cubicBezTo>
              </a:path>
              <a:path w="3875" h="3653">
                <a:moveTo>
                  <a:pt x="21717" y="14129"/>
                </a:moveTo>
                <a:cubicBezTo>
                  <a:pt x="21774" y="14129"/>
                  <a:pt x="21794" y="14109"/>
                  <a:pt x="21844" y="14097"/>
                </a:cubicBezTo>
              </a:path>
              <a:path w="3875" h="3653">
                <a:moveTo>
                  <a:pt x="22162" y="13716"/>
                </a:moveTo>
                <a:cubicBezTo>
                  <a:pt x="22197" y="13813"/>
                  <a:pt x="22221" y="13897"/>
                  <a:pt x="22225" y="14002"/>
                </a:cubicBezTo>
                <a:cubicBezTo>
                  <a:pt x="22229" y="14118"/>
                  <a:pt x="22225" y="14235"/>
                  <a:pt x="22225" y="14351"/>
                </a:cubicBezTo>
              </a:path>
              <a:path w="3875" h="3653">
                <a:moveTo>
                  <a:pt x="21018" y="15304"/>
                </a:moveTo>
                <a:cubicBezTo>
                  <a:pt x="21007" y="15257"/>
                  <a:pt x="20969" y="15268"/>
                  <a:pt x="20955" y="15240"/>
                </a:cubicBezTo>
                <a:cubicBezTo>
                  <a:pt x="20927" y="15184"/>
                  <a:pt x="20883" y="15158"/>
                  <a:pt x="20860" y="15113"/>
                </a:cubicBezTo>
                <a:cubicBezTo>
                  <a:pt x="20842" y="15077"/>
                  <a:pt x="20786" y="15062"/>
                  <a:pt x="20733" y="15050"/>
                </a:cubicBezTo>
                <a:cubicBezTo>
                  <a:pt x="20700" y="15043"/>
                  <a:pt x="20557" y="15116"/>
                  <a:pt x="20542" y="15145"/>
                </a:cubicBezTo>
                <a:cubicBezTo>
                  <a:pt x="20484" y="15261"/>
                  <a:pt x="20447" y="15432"/>
                  <a:pt x="20415" y="15558"/>
                </a:cubicBezTo>
                <a:cubicBezTo>
                  <a:pt x="20372" y="15727"/>
                  <a:pt x="20325" y="15892"/>
                  <a:pt x="20320" y="16066"/>
                </a:cubicBezTo>
                <a:cubicBezTo>
                  <a:pt x="20317" y="16156"/>
                  <a:pt x="20326" y="16284"/>
                  <a:pt x="20384" y="16351"/>
                </a:cubicBezTo>
                <a:cubicBezTo>
                  <a:pt x="20434" y="16409"/>
                  <a:pt x="20496" y="16441"/>
                  <a:pt x="20574" y="16446"/>
                </a:cubicBezTo>
                <a:cubicBezTo>
                  <a:pt x="20670" y="16452"/>
                  <a:pt x="20747" y="16439"/>
                  <a:pt x="20828" y="16383"/>
                </a:cubicBezTo>
                <a:cubicBezTo>
                  <a:pt x="20874" y="16351"/>
                  <a:pt x="20915" y="16296"/>
                  <a:pt x="20955" y="16256"/>
                </a:cubicBezTo>
              </a:path>
              <a:path w="3875" h="3653">
                <a:moveTo>
                  <a:pt x="21177" y="15621"/>
                </a:moveTo>
                <a:cubicBezTo>
                  <a:pt x="21233" y="15587"/>
                  <a:pt x="21268" y="15589"/>
                  <a:pt x="21336" y="15589"/>
                </a:cubicBezTo>
                <a:cubicBezTo>
                  <a:pt x="21403" y="15589"/>
                  <a:pt x="21446" y="15602"/>
                  <a:pt x="21495" y="15558"/>
                </a:cubicBezTo>
                <a:cubicBezTo>
                  <a:pt x="21505" y="15547"/>
                  <a:pt x="21516" y="15537"/>
                  <a:pt x="21526" y="15526"/>
                </a:cubicBezTo>
              </a:path>
              <a:path w="3875" h="3653">
                <a:moveTo>
                  <a:pt x="21304" y="15938"/>
                </a:moveTo>
                <a:cubicBezTo>
                  <a:pt x="21236" y="15938"/>
                  <a:pt x="21371" y="15883"/>
                  <a:pt x="21400" y="15875"/>
                </a:cubicBezTo>
                <a:cubicBezTo>
                  <a:pt x="21491" y="15851"/>
                  <a:pt x="21561" y="15795"/>
                  <a:pt x="21654" y="15748"/>
                </a:cubicBezTo>
              </a:path>
              <a:path w="3875" h="3653">
                <a:moveTo>
                  <a:pt x="21844" y="15208"/>
                </a:moveTo>
                <a:cubicBezTo>
                  <a:pt x="21898" y="15116"/>
                  <a:pt x="21919" y="15125"/>
                  <a:pt x="22003" y="15081"/>
                </a:cubicBezTo>
                <a:cubicBezTo>
                  <a:pt x="22024" y="15071"/>
                  <a:pt x="22045" y="15060"/>
                  <a:pt x="22066" y="15050"/>
                </a:cubicBezTo>
              </a:path>
              <a:path w="3875" h="3653">
                <a:moveTo>
                  <a:pt x="22479" y="14542"/>
                </a:moveTo>
                <a:cubicBezTo>
                  <a:pt x="22530" y="14641"/>
                  <a:pt x="22511" y="14772"/>
                  <a:pt x="22511" y="14891"/>
                </a:cubicBezTo>
                <a:cubicBezTo>
                  <a:pt x="22511" y="15128"/>
                  <a:pt x="22494" y="15355"/>
                  <a:pt x="22479" y="15589"/>
                </a:cubicBezTo>
                <a:cubicBezTo>
                  <a:pt x="22469" y="15747"/>
                  <a:pt x="22479" y="15908"/>
                  <a:pt x="22479" y="16066"/>
                </a:cubicBezTo>
              </a:path>
              <a:path w="3875" h="3653">
                <a:moveTo>
                  <a:pt x="21018" y="14732"/>
                </a:moveTo>
                <a:cubicBezTo>
                  <a:pt x="21007" y="14734"/>
                  <a:pt x="20919" y="14763"/>
                  <a:pt x="20860" y="14764"/>
                </a:cubicBezTo>
                <a:cubicBezTo>
                  <a:pt x="20690" y="14768"/>
                  <a:pt x="20604" y="14783"/>
                  <a:pt x="20447" y="14859"/>
                </a:cubicBezTo>
                <a:cubicBezTo>
                  <a:pt x="20174" y="14991"/>
                  <a:pt x="20034" y="15134"/>
                  <a:pt x="19844" y="15367"/>
                </a:cubicBezTo>
                <a:cubicBezTo>
                  <a:pt x="19710" y="15532"/>
                  <a:pt x="19597" y="15706"/>
                  <a:pt x="19526" y="15907"/>
                </a:cubicBezTo>
                <a:cubicBezTo>
                  <a:pt x="19475" y="16051"/>
                  <a:pt x="19470" y="16241"/>
                  <a:pt x="19526" y="16383"/>
                </a:cubicBezTo>
                <a:cubicBezTo>
                  <a:pt x="19598" y="16564"/>
                  <a:pt x="19735" y="16704"/>
                  <a:pt x="19907" y="16796"/>
                </a:cubicBezTo>
                <a:cubicBezTo>
                  <a:pt x="20081" y="16889"/>
                  <a:pt x="20319" y="16942"/>
                  <a:pt x="20510" y="16986"/>
                </a:cubicBezTo>
                <a:cubicBezTo>
                  <a:pt x="20759" y="17043"/>
                  <a:pt x="20952" y="17082"/>
                  <a:pt x="21209" y="17082"/>
                </a:cubicBezTo>
                <a:cubicBezTo>
                  <a:pt x="21454" y="17082"/>
                  <a:pt x="21697" y="17052"/>
                  <a:pt x="21939" y="17018"/>
                </a:cubicBezTo>
                <a:cubicBezTo>
                  <a:pt x="22147" y="16989"/>
                  <a:pt x="22462" y="16925"/>
                  <a:pt x="22638" y="16796"/>
                </a:cubicBezTo>
                <a:cubicBezTo>
                  <a:pt x="22834" y="16652"/>
                  <a:pt x="23016" y="16460"/>
                  <a:pt x="23146" y="16256"/>
                </a:cubicBezTo>
                <a:cubicBezTo>
                  <a:pt x="23312" y="15994"/>
                  <a:pt x="23361" y="15704"/>
                  <a:pt x="23368" y="15399"/>
                </a:cubicBezTo>
                <a:cubicBezTo>
                  <a:pt x="23372" y="15207"/>
                  <a:pt x="23326" y="15041"/>
                  <a:pt x="23273" y="14859"/>
                </a:cubicBezTo>
                <a:cubicBezTo>
                  <a:pt x="23230" y="14711"/>
                  <a:pt x="23145" y="14594"/>
                  <a:pt x="23019" y="14510"/>
                </a:cubicBezTo>
                <a:cubicBezTo>
                  <a:pt x="22905" y="14434"/>
                  <a:pt x="22805" y="14396"/>
                  <a:pt x="22670" y="14351"/>
                </a:cubicBezTo>
                <a:cubicBezTo>
                  <a:pt x="22522" y="14302"/>
                  <a:pt x="22349" y="14292"/>
                  <a:pt x="22193" y="14288"/>
                </a:cubicBezTo>
                <a:cubicBezTo>
                  <a:pt x="21989" y="14282"/>
                  <a:pt x="21821" y="14333"/>
                  <a:pt x="21622" y="14351"/>
                </a:cubicBezTo>
                <a:cubicBezTo>
                  <a:pt x="21414" y="14370"/>
                  <a:pt x="21216" y="14426"/>
                  <a:pt x="21018" y="14510"/>
                </a:cubicBezTo>
                <a:cubicBezTo>
                  <a:pt x="20822" y="14594"/>
                  <a:pt x="20645" y="14712"/>
                  <a:pt x="20447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3"/>
          <p:cNvSpPr/>
          <p:nvPr/>
        </p:nvSpPr>
        <p:spPr>
          <a:xfrm>
            <a:off x="4618080" y="5200560"/>
            <a:ext cx="674640" cy="881280"/>
          </a:xfrm>
          <a:custGeom>
            <a:avLst/>
            <a:gdLst/>
            <a:ahLst/>
            <a:rect l="l" t="t" r="r" b="b"/>
            <a:pathLst>
              <a:path w="1874" h="2446">
                <a:moveTo>
                  <a:pt x="12954" y="14796"/>
                </a:moveTo>
                <a:lnTo>
                  <a:pt x="12954" y="14796"/>
                </a:lnTo>
              </a:path>
              <a:path w="1874" h="2446">
                <a:moveTo>
                  <a:pt x="12954" y="14796"/>
                </a:moveTo>
                <a:cubicBezTo>
                  <a:pt x="12943" y="14806"/>
                  <a:pt x="12933" y="14817"/>
                  <a:pt x="12922" y="14827"/>
                </a:cubicBezTo>
              </a:path>
              <a:path w="1874" h="2446">
                <a:moveTo>
                  <a:pt x="12922" y="14827"/>
                </a:moveTo>
                <a:cubicBezTo>
                  <a:pt x="12909" y="14877"/>
                  <a:pt x="12874" y="14907"/>
                  <a:pt x="12859" y="14954"/>
                </a:cubicBezTo>
                <a:cubicBezTo>
                  <a:pt x="12831" y="15042"/>
                  <a:pt x="12827" y="15112"/>
                  <a:pt x="12827" y="15208"/>
                </a:cubicBezTo>
                <a:cubicBezTo>
                  <a:pt x="12827" y="15282"/>
                  <a:pt x="12813" y="15342"/>
                  <a:pt x="12859" y="15399"/>
                </a:cubicBezTo>
                <a:cubicBezTo>
                  <a:pt x="12887" y="15427"/>
                  <a:pt x="12894" y="15438"/>
                  <a:pt x="12922" y="15430"/>
                </a:cubicBezTo>
                <a:cubicBezTo>
                  <a:pt x="12960" y="15381"/>
                  <a:pt x="12986" y="15332"/>
                  <a:pt x="13018" y="15272"/>
                </a:cubicBezTo>
                <a:cubicBezTo>
                  <a:pt x="13062" y="15188"/>
                  <a:pt x="13098" y="15077"/>
                  <a:pt x="13113" y="14986"/>
                </a:cubicBezTo>
                <a:cubicBezTo>
                  <a:pt x="13127" y="14903"/>
                  <a:pt x="13088" y="14863"/>
                  <a:pt x="13081" y="14796"/>
                </a:cubicBezTo>
                <a:cubicBezTo>
                  <a:pt x="13075" y="14743"/>
                  <a:pt x="13065" y="14744"/>
                  <a:pt x="13018" y="14732"/>
                </a:cubicBezTo>
              </a:path>
              <a:path w="1874" h="2446">
                <a:moveTo>
                  <a:pt x="13367" y="14732"/>
                </a:moveTo>
                <a:cubicBezTo>
                  <a:pt x="13381" y="14806"/>
                  <a:pt x="13418" y="14881"/>
                  <a:pt x="13430" y="14954"/>
                </a:cubicBezTo>
                <a:cubicBezTo>
                  <a:pt x="13443" y="15030"/>
                  <a:pt x="13477" y="15079"/>
                  <a:pt x="13494" y="15145"/>
                </a:cubicBezTo>
                <a:cubicBezTo>
                  <a:pt x="13455" y="15132"/>
                  <a:pt x="13420" y="15110"/>
                  <a:pt x="13398" y="15050"/>
                </a:cubicBezTo>
                <a:cubicBezTo>
                  <a:pt x="13362" y="14951"/>
                  <a:pt x="13390" y="14727"/>
                  <a:pt x="13430" y="14637"/>
                </a:cubicBezTo>
                <a:cubicBezTo>
                  <a:pt x="13449" y="14593"/>
                  <a:pt x="13483" y="14468"/>
                  <a:pt x="13526" y="14446"/>
                </a:cubicBezTo>
                <a:cubicBezTo>
                  <a:pt x="13536" y="14446"/>
                  <a:pt x="13547" y="14446"/>
                  <a:pt x="13557" y="14446"/>
                </a:cubicBezTo>
              </a:path>
              <a:path w="1874" h="2446">
                <a:moveTo>
                  <a:pt x="12986" y="15970"/>
                </a:moveTo>
                <a:cubicBezTo>
                  <a:pt x="13033" y="15958"/>
                  <a:pt x="13075" y="15941"/>
                  <a:pt x="13113" y="15907"/>
                </a:cubicBezTo>
                <a:cubicBezTo>
                  <a:pt x="13156" y="15869"/>
                  <a:pt x="13219" y="15856"/>
                  <a:pt x="13272" y="15843"/>
                </a:cubicBezTo>
              </a:path>
              <a:path w="1874" h="2446">
                <a:moveTo>
                  <a:pt x="13716" y="15430"/>
                </a:moveTo>
                <a:cubicBezTo>
                  <a:pt x="13731" y="15373"/>
                  <a:pt x="13754" y="15350"/>
                  <a:pt x="13811" y="15335"/>
                </a:cubicBezTo>
                <a:cubicBezTo>
                  <a:pt x="13776" y="15383"/>
                  <a:pt x="13762" y="15416"/>
                  <a:pt x="13716" y="15462"/>
                </a:cubicBezTo>
                <a:cubicBezTo>
                  <a:pt x="13679" y="15498"/>
                  <a:pt x="13634" y="15543"/>
                  <a:pt x="13589" y="15558"/>
                </a:cubicBezTo>
                <a:cubicBezTo>
                  <a:pt x="13534" y="15576"/>
                  <a:pt x="13503" y="15541"/>
                  <a:pt x="13494" y="15621"/>
                </a:cubicBezTo>
                <a:cubicBezTo>
                  <a:pt x="13486" y="15693"/>
                  <a:pt x="13494" y="15770"/>
                  <a:pt x="13494" y="15843"/>
                </a:cubicBezTo>
                <a:cubicBezTo>
                  <a:pt x="13541" y="15782"/>
                  <a:pt x="13513" y="15725"/>
                  <a:pt x="13557" y="15653"/>
                </a:cubicBezTo>
                <a:cubicBezTo>
                  <a:pt x="13583" y="15610"/>
                  <a:pt x="13638" y="15563"/>
                  <a:pt x="13684" y="15558"/>
                </a:cubicBezTo>
                <a:cubicBezTo>
                  <a:pt x="13765" y="15549"/>
                  <a:pt x="13800" y="15691"/>
                  <a:pt x="13811" y="15748"/>
                </a:cubicBezTo>
                <a:cubicBezTo>
                  <a:pt x="13833" y="15868"/>
                  <a:pt x="13821" y="15985"/>
                  <a:pt x="13811" y="16097"/>
                </a:cubicBezTo>
                <a:cubicBezTo>
                  <a:pt x="13805" y="16166"/>
                  <a:pt x="13787" y="16280"/>
                  <a:pt x="13716" y="16320"/>
                </a:cubicBezTo>
                <a:cubicBezTo>
                  <a:pt x="13684" y="16320"/>
                  <a:pt x="13673" y="16320"/>
                  <a:pt x="13652" y="16320"/>
                </a:cubicBezTo>
                <a:cubicBezTo>
                  <a:pt x="13612" y="16252"/>
                  <a:pt x="13621" y="16218"/>
                  <a:pt x="13621" y="16129"/>
                </a:cubicBezTo>
              </a:path>
              <a:path w="1874" h="2446">
                <a:moveTo>
                  <a:pt x="13843" y="15050"/>
                </a:moveTo>
                <a:cubicBezTo>
                  <a:pt x="13957" y="15066"/>
                  <a:pt x="13933" y="15060"/>
                  <a:pt x="13938" y="15208"/>
                </a:cubicBezTo>
                <a:cubicBezTo>
                  <a:pt x="13943" y="15359"/>
                  <a:pt x="13970" y="15498"/>
                  <a:pt x="13970" y="15653"/>
                </a:cubicBezTo>
                <a:cubicBezTo>
                  <a:pt x="13970" y="15943"/>
                  <a:pt x="13980" y="16224"/>
                  <a:pt x="14002" y="16510"/>
                </a:cubicBezTo>
                <a:cubicBezTo>
                  <a:pt x="14012" y="16635"/>
                  <a:pt x="14002" y="16765"/>
                  <a:pt x="14002" y="16891"/>
                </a:cubicBezTo>
                <a:cubicBezTo>
                  <a:pt x="14002" y="16746"/>
                  <a:pt x="14020" y="16619"/>
                  <a:pt x="14034" y="16478"/>
                </a:cubicBezTo>
                <a:cubicBezTo>
                  <a:pt x="14048" y="16341"/>
                  <a:pt x="14072" y="16231"/>
                  <a:pt x="14097" y="16097"/>
                </a:cubicBezTo>
                <a:cubicBezTo>
                  <a:pt x="14109" y="16030"/>
                  <a:pt x="14114" y="15989"/>
                  <a:pt x="14160" y="15938"/>
                </a:cubicBezTo>
                <a:cubicBezTo>
                  <a:pt x="14183" y="15913"/>
                  <a:pt x="14200" y="15898"/>
                  <a:pt x="14224" y="15875"/>
                </a:cubicBezTo>
                <a:cubicBezTo>
                  <a:pt x="14258" y="15841"/>
                  <a:pt x="14269" y="15836"/>
                  <a:pt x="14319" y="15875"/>
                </a:cubicBezTo>
                <a:cubicBezTo>
                  <a:pt x="14366" y="15912"/>
                  <a:pt x="14380" y="15978"/>
                  <a:pt x="14383" y="16034"/>
                </a:cubicBezTo>
                <a:cubicBezTo>
                  <a:pt x="14391" y="16170"/>
                  <a:pt x="14371" y="16289"/>
                  <a:pt x="14351" y="16415"/>
                </a:cubicBezTo>
                <a:cubicBezTo>
                  <a:pt x="14343" y="16465"/>
                  <a:pt x="14351" y="16523"/>
                  <a:pt x="14351" y="16574"/>
                </a:cubicBezTo>
                <a:cubicBezTo>
                  <a:pt x="14371" y="16553"/>
                  <a:pt x="14409" y="16515"/>
                  <a:pt x="14446" y="16478"/>
                </a:cubicBezTo>
                <a:cubicBezTo>
                  <a:pt x="14511" y="16413"/>
                  <a:pt x="14545" y="16356"/>
                  <a:pt x="14637" y="16351"/>
                </a:cubicBezTo>
                <a:cubicBezTo>
                  <a:pt x="14668" y="16351"/>
                  <a:pt x="14679" y="16351"/>
                  <a:pt x="1470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81480" y="3505320"/>
                <a:ext cx="7225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533520" y="3745080"/>
                <a:ext cx="144756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Ink 11"/>
          <p:cNvSpPr/>
          <p:nvPr/>
        </p:nvSpPr>
        <p:spPr>
          <a:xfrm>
            <a:off x="1714680" y="4365720"/>
            <a:ext cx="331560" cy="1863720"/>
          </a:xfrm>
          <a:custGeom>
            <a:avLst/>
            <a:gdLst/>
            <a:ahLst/>
            <a:rect l="l" t="t" r="r" b="b"/>
            <a:pathLst>
              <a:path w="922" h="5177">
                <a:moveTo>
                  <a:pt x="4762" y="12351"/>
                </a:moveTo>
                <a:cubicBezTo>
                  <a:pt x="4762" y="12340"/>
                  <a:pt x="4762" y="12330"/>
                  <a:pt x="4762" y="12319"/>
                </a:cubicBezTo>
              </a:path>
              <a:path w="922" h="5177">
                <a:moveTo>
                  <a:pt x="4762" y="12351"/>
                </a:moveTo>
                <a:cubicBezTo>
                  <a:pt x="4762" y="12319"/>
                  <a:pt x="4762" y="12288"/>
                  <a:pt x="4762" y="12256"/>
                </a:cubicBezTo>
              </a:path>
              <a:path w="922" h="5177">
                <a:moveTo>
                  <a:pt x="4762" y="12256"/>
                </a:moveTo>
                <a:cubicBezTo>
                  <a:pt x="4805" y="12241"/>
                  <a:pt x="4845" y="12238"/>
                  <a:pt x="4890" y="12224"/>
                </a:cubicBezTo>
                <a:cubicBezTo>
                  <a:pt x="4961" y="12201"/>
                  <a:pt x="5015" y="12182"/>
                  <a:pt x="5080" y="12160"/>
                </a:cubicBezTo>
                <a:cubicBezTo>
                  <a:pt x="5132" y="12142"/>
                  <a:pt x="5184" y="12134"/>
                  <a:pt x="5239" y="12128"/>
                </a:cubicBezTo>
                <a:cubicBezTo>
                  <a:pt x="5317" y="12120"/>
                  <a:pt x="5392" y="12134"/>
                  <a:pt x="5461" y="12160"/>
                </a:cubicBezTo>
                <a:cubicBezTo>
                  <a:pt x="5495" y="12172"/>
                  <a:pt x="5521" y="12185"/>
                  <a:pt x="5556" y="12224"/>
                </a:cubicBezTo>
                <a:cubicBezTo>
                  <a:pt x="5608" y="12281"/>
                  <a:pt x="5607" y="12282"/>
                  <a:pt x="5620" y="12351"/>
                </a:cubicBezTo>
                <a:cubicBezTo>
                  <a:pt x="5643" y="12470"/>
                  <a:pt x="5599" y="12591"/>
                  <a:pt x="5588" y="12700"/>
                </a:cubicBezTo>
                <a:cubicBezTo>
                  <a:pt x="5575" y="12828"/>
                  <a:pt x="5570" y="12956"/>
                  <a:pt x="5556" y="13081"/>
                </a:cubicBezTo>
                <a:cubicBezTo>
                  <a:pt x="5529" y="13324"/>
                  <a:pt x="5568" y="13573"/>
                  <a:pt x="5588" y="13811"/>
                </a:cubicBezTo>
                <a:cubicBezTo>
                  <a:pt x="5602" y="13979"/>
                  <a:pt x="5607" y="14156"/>
                  <a:pt x="5620" y="14319"/>
                </a:cubicBezTo>
                <a:cubicBezTo>
                  <a:pt x="5634" y="14501"/>
                  <a:pt x="5634" y="14680"/>
                  <a:pt x="5652" y="14859"/>
                </a:cubicBezTo>
                <a:cubicBezTo>
                  <a:pt x="5670" y="15047"/>
                  <a:pt x="5667" y="15245"/>
                  <a:pt x="5683" y="15430"/>
                </a:cubicBezTo>
                <a:cubicBezTo>
                  <a:pt x="5719" y="15832"/>
                  <a:pt x="5693" y="16277"/>
                  <a:pt x="5652" y="16669"/>
                </a:cubicBezTo>
                <a:cubicBezTo>
                  <a:pt x="5644" y="16742"/>
                  <a:pt x="5663" y="16771"/>
                  <a:pt x="5620" y="16828"/>
                </a:cubicBezTo>
                <a:cubicBezTo>
                  <a:pt x="5570" y="16893"/>
                  <a:pt x="5525" y="16881"/>
                  <a:pt x="5461" y="16923"/>
                </a:cubicBezTo>
                <a:cubicBezTo>
                  <a:pt x="5397" y="16965"/>
                  <a:pt x="5338" y="17009"/>
                  <a:pt x="5270" y="17050"/>
                </a:cubicBezTo>
                <a:cubicBezTo>
                  <a:pt x="5160" y="17117"/>
                  <a:pt x="5036" y="17148"/>
                  <a:pt x="4921" y="17208"/>
                </a:cubicBezTo>
                <a:cubicBezTo>
                  <a:pt x="4838" y="17264"/>
                  <a:pt x="4819" y="17279"/>
                  <a:pt x="4762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2"/>
          <p:cNvSpPr/>
          <p:nvPr/>
        </p:nvSpPr>
        <p:spPr>
          <a:xfrm>
            <a:off x="1463760" y="4548240"/>
            <a:ext cx="353880" cy="1361880"/>
          </a:xfrm>
          <a:custGeom>
            <a:avLst/>
            <a:gdLst/>
            <a:ahLst/>
            <a:rect l="l" t="t" r="r" b="b"/>
            <a:pathLst>
              <a:path w="985" h="3780">
                <a:moveTo>
                  <a:pt x="4382" y="12732"/>
                </a:moveTo>
                <a:cubicBezTo>
                  <a:pt x="4403" y="12646"/>
                  <a:pt x="4422" y="12699"/>
                  <a:pt x="4477" y="12668"/>
                </a:cubicBezTo>
                <a:cubicBezTo>
                  <a:pt x="4555" y="12624"/>
                  <a:pt x="4527" y="12642"/>
                  <a:pt x="4604" y="12668"/>
                </a:cubicBezTo>
                <a:cubicBezTo>
                  <a:pt x="4649" y="12683"/>
                  <a:pt x="4693" y="12687"/>
                  <a:pt x="4699" y="12732"/>
                </a:cubicBezTo>
                <a:cubicBezTo>
                  <a:pt x="4707" y="12796"/>
                  <a:pt x="4680" y="12816"/>
                  <a:pt x="4636" y="12859"/>
                </a:cubicBezTo>
                <a:cubicBezTo>
                  <a:pt x="4576" y="12918"/>
                  <a:pt x="4469" y="13075"/>
                  <a:pt x="4413" y="13113"/>
                </a:cubicBezTo>
                <a:cubicBezTo>
                  <a:pt x="4377" y="13138"/>
                  <a:pt x="4382" y="13114"/>
                  <a:pt x="4382" y="13176"/>
                </a:cubicBezTo>
                <a:cubicBezTo>
                  <a:pt x="4431" y="13163"/>
                  <a:pt x="4451" y="13144"/>
                  <a:pt x="4508" y="13144"/>
                </a:cubicBezTo>
                <a:cubicBezTo>
                  <a:pt x="4581" y="13144"/>
                  <a:pt x="4608" y="13156"/>
                  <a:pt x="4667" y="13176"/>
                </a:cubicBezTo>
                <a:cubicBezTo>
                  <a:pt x="4699" y="13176"/>
                  <a:pt x="4710" y="13176"/>
                  <a:pt x="4699" y="13208"/>
                </a:cubicBezTo>
              </a:path>
              <a:path w="985" h="3780">
                <a:moveTo>
                  <a:pt x="4953" y="12700"/>
                </a:moveTo>
                <a:cubicBezTo>
                  <a:pt x="4889" y="12721"/>
                  <a:pt x="4912" y="12793"/>
                  <a:pt x="4890" y="12859"/>
                </a:cubicBezTo>
                <a:cubicBezTo>
                  <a:pt x="4854" y="12967"/>
                  <a:pt x="4858" y="13058"/>
                  <a:pt x="4858" y="13176"/>
                </a:cubicBezTo>
                <a:cubicBezTo>
                  <a:pt x="4858" y="13240"/>
                  <a:pt x="4858" y="13303"/>
                  <a:pt x="4858" y="13367"/>
                </a:cubicBezTo>
              </a:path>
              <a:path w="985" h="3780">
                <a:moveTo>
                  <a:pt x="4477" y="13938"/>
                </a:moveTo>
                <a:cubicBezTo>
                  <a:pt x="4514" y="14002"/>
                  <a:pt x="4508" y="14051"/>
                  <a:pt x="4508" y="14129"/>
                </a:cubicBezTo>
                <a:cubicBezTo>
                  <a:pt x="4508" y="14199"/>
                  <a:pt x="4470" y="14317"/>
                  <a:pt x="4445" y="14383"/>
                </a:cubicBezTo>
                <a:cubicBezTo>
                  <a:pt x="4415" y="14460"/>
                  <a:pt x="4382" y="14569"/>
                  <a:pt x="4350" y="14637"/>
                </a:cubicBezTo>
                <a:cubicBezTo>
                  <a:pt x="4327" y="14687"/>
                  <a:pt x="4318" y="14672"/>
                  <a:pt x="4318" y="14732"/>
                </a:cubicBezTo>
              </a:path>
              <a:path w="985" h="3780">
                <a:moveTo>
                  <a:pt x="4699" y="14160"/>
                </a:moveTo>
                <a:cubicBezTo>
                  <a:pt x="4715" y="14113"/>
                  <a:pt x="4738" y="14129"/>
                  <a:pt x="4794" y="14129"/>
                </a:cubicBezTo>
                <a:cubicBezTo>
                  <a:pt x="4852" y="14129"/>
                  <a:pt x="4877" y="14121"/>
                  <a:pt x="4921" y="14160"/>
                </a:cubicBezTo>
                <a:cubicBezTo>
                  <a:pt x="4975" y="14208"/>
                  <a:pt x="4962" y="14267"/>
                  <a:pt x="4921" y="14319"/>
                </a:cubicBezTo>
                <a:cubicBezTo>
                  <a:pt x="4874" y="14379"/>
                  <a:pt x="4803" y="14426"/>
                  <a:pt x="4762" y="14478"/>
                </a:cubicBezTo>
                <a:cubicBezTo>
                  <a:pt x="4714" y="14538"/>
                  <a:pt x="4688" y="14610"/>
                  <a:pt x="4636" y="14668"/>
                </a:cubicBezTo>
                <a:cubicBezTo>
                  <a:pt x="4604" y="14703"/>
                  <a:pt x="4577" y="14749"/>
                  <a:pt x="4572" y="14796"/>
                </a:cubicBezTo>
                <a:cubicBezTo>
                  <a:pt x="4572" y="14806"/>
                  <a:pt x="4572" y="14817"/>
                  <a:pt x="4572" y="14827"/>
                </a:cubicBezTo>
                <a:cubicBezTo>
                  <a:pt x="4602" y="14820"/>
                  <a:pt x="4672" y="14811"/>
                  <a:pt x="4699" y="14796"/>
                </a:cubicBezTo>
                <a:cubicBezTo>
                  <a:pt x="4715" y="14787"/>
                  <a:pt x="4798" y="14730"/>
                  <a:pt x="4826" y="14764"/>
                </a:cubicBezTo>
                <a:cubicBezTo>
                  <a:pt x="4856" y="14802"/>
                  <a:pt x="4858" y="14834"/>
                  <a:pt x="4890" y="14859"/>
                </a:cubicBezTo>
                <a:cubicBezTo>
                  <a:pt x="4953" y="14907"/>
                  <a:pt x="4973" y="14921"/>
                  <a:pt x="5048" y="14954"/>
                </a:cubicBezTo>
              </a:path>
              <a:path w="985" h="3780">
                <a:moveTo>
                  <a:pt x="4064" y="15621"/>
                </a:moveTo>
                <a:lnTo>
                  <a:pt x="4064" y="15621"/>
                </a:lnTo>
              </a:path>
              <a:path w="985" h="3780">
                <a:moveTo>
                  <a:pt x="4064" y="15621"/>
                </a:moveTo>
                <a:cubicBezTo>
                  <a:pt x="4085" y="15621"/>
                  <a:pt x="4107" y="15621"/>
                  <a:pt x="4128" y="15621"/>
                </a:cubicBezTo>
              </a:path>
              <a:path w="985" h="3780">
                <a:moveTo>
                  <a:pt x="4128" y="15621"/>
                </a:moveTo>
                <a:cubicBezTo>
                  <a:pt x="4128" y="15632"/>
                  <a:pt x="4128" y="15642"/>
                  <a:pt x="4128" y="15653"/>
                </a:cubicBezTo>
                <a:cubicBezTo>
                  <a:pt x="4181" y="15653"/>
                  <a:pt x="4233" y="15653"/>
                  <a:pt x="4286" y="15653"/>
                </a:cubicBezTo>
                <a:cubicBezTo>
                  <a:pt x="4306" y="15593"/>
                  <a:pt x="4330" y="15649"/>
                  <a:pt x="4350" y="15589"/>
                </a:cubicBezTo>
              </a:path>
              <a:path w="985" h="3780">
                <a:moveTo>
                  <a:pt x="4572" y="15399"/>
                </a:moveTo>
                <a:cubicBezTo>
                  <a:pt x="4642" y="15422"/>
                  <a:pt x="4589" y="15444"/>
                  <a:pt x="4572" y="15494"/>
                </a:cubicBezTo>
                <a:cubicBezTo>
                  <a:pt x="4557" y="15538"/>
                  <a:pt x="4527" y="15533"/>
                  <a:pt x="4508" y="15589"/>
                </a:cubicBezTo>
                <a:cubicBezTo>
                  <a:pt x="4486" y="15656"/>
                  <a:pt x="4534" y="15566"/>
                  <a:pt x="4540" y="15558"/>
                </a:cubicBezTo>
                <a:cubicBezTo>
                  <a:pt x="4577" y="15509"/>
                  <a:pt x="4581" y="15456"/>
                  <a:pt x="4604" y="15399"/>
                </a:cubicBezTo>
                <a:cubicBezTo>
                  <a:pt x="4625" y="15347"/>
                  <a:pt x="4636" y="15184"/>
                  <a:pt x="4636" y="15240"/>
                </a:cubicBezTo>
                <a:cubicBezTo>
                  <a:pt x="4636" y="15275"/>
                  <a:pt x="4667" y="15300"/>
                  <a:pt x="4699" y="15304"/>
                </a:cubicBezTo>
                <a:cubicBezTo>
                  <a:pt x="4759" y="15311"/>
                  <a:pt x="4774" y="15278"/>
                  <a:pt x="4826" y="15272"/>
                </a:cubicBezTo>
                <a:cubicBezTo>
                  <a:pt x="4880" y="15266"/>
                  <a:pt x="4904" y="15245"/>
                  <a:pt x="4953" y="15240"/>
                </a:cubicBezTo>
                <a:cubicBezTo>
                  <a:pt x="5005" y="15234"/>
                  <a:pt x="5045" y="15290"/>
                  <a:pt x="5048" y="15335"/>
                </a:cubicBezTo>
                <a:cubicBezTo>
                  <a:pt x="5055" y="15431"/>
                  <a:pt x="5031" y="15500"/>
                  <a:pt x="5016" y="15589"/>
                </a:cubicBezTo>
                <a:cubicBezTo>
                  <a:pt x="5001" y="15680"/>
                  <a:pt x="4978" y="15787"/>
                  <a:pt x="4953" y="15875"/>
                </a:cubicBezTo>
                <a:cubicBezTo>
                  <a:pt x="4920" y="15988"/>
                  <a:pt x="4871" y="16115"/>
                  <a:pt x="4826" y="16224"/>
                </a:cubicBezTo>
                <a:cubicBezTo>
                  <a:pt x="4794" y="16301"/>
                  <a:pt x="4756" y="16357"/>
                  <a:pt x="4699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3"/>
          <p:cNvSpPr/>
          <p:nvPr/>
        </p:nvSpPr>
        <p:spPr>
          <a:xfrm>
            <a:off x="993600" y="4468680"/>
            <a:ext cx="252720" cy="800280"/>
          </a:xfrm>
          <a:custGeom>
            <a:avLst/>
            <a:gdLst/>
            <a:ahLst/>
            <a:rect l="l" t="t" r="r" b="b"/>
            <a:pathLst>
              <a:path w="700" h="2224">
                <a:moveTo>
                  <a:pt x="2794" y="12732"/>
                </a:moveTo>
                <a:cubicBezTo>
                  <a:pt x="2783" y="12732"/>
                  <a:pt x="2773" y="12732"/>
                  <a:pt x="2762" y="12732"/>
                </a:cubicBezTo>
                <a:cubicBezTo>
                  <a:pt x="2811" y="12769"/>
                  <a:pt x="2827" y="12764"/>
                  <a:pt x="2889" y="12764"/>
                </a:cubicBezTo>
                <a:cubicBezTo>
                  <a:pt x="2930" y="12764"/>
                  <a:pt x="2946" y="12742"/>
                  <a:pt x="2984" y="12732"/>
                </a:cubicBezTo>
              </a:path>
              <a:path w="700" h="2224">
                <a:moveTo>
                  <a:pt x="3207" y="12414"/>
                </a:moveTo>
                <a:cubicBezTo>
                  <a:pt x="3191" y="12478"/>
                  <a:pt x="3175" y="12496"/>
                  <a:pt x="3175" y="12573"/>
                </a:cubicBezTo>
                <a:cubicBezTo>
                  <a:pt x="3175" y="12654"/>
                  <a:pt x="3134" y="12782"/>
                  <a:pt x="3112" y="12859"/>
                </a:cubicBezTo>
                <a:cubicBezTo>
                  <a:pt x="3091" y="12933"/>
                  <a:pt x="3056" y="13004"/>
                  <a:pt x="3048" y="13081"/>
                </a:cubicBezTo>
                <a:cubicBezTo>
                  <a:pt x="3048" y="13092"/>
                  <a:pt x="3048" y="13102"/>
                  <a:pt x="3048" y="13113"/>
                </a:cubicBezTo>
              </a:path>
              <a:path w="700" h="2224">
                <a:moveTo>
                  <a:pt x="3429" y="12446"/>
                </a:moveTo>
                <a:cubicBezTo>
                  <a:pt x="3487" y="12523"/>
                  <a:pt x="3444" y="12548"/>
                  <a:pt x="3429" y="12636"/>
                </a:cubicBezTo>
                <a:cubicBezTo>
                  <a:pt x="3412" y="12739"/>
                  <a:pt x="3424" y="12853"/>
                  <a:pt x="3397" y="12954"/>
                </a:cubicBezTo>
                <a:cubicBezTo>
                  <a:pt x="3371" y="13053"/>
                  <a:pt x="3366" y="13135"/>
                  <a:pt x="3366" y="13240"/>
                </a:cubicBezTo>
              </a:path>
              <a:path w="700" h="2224">
                <a:moveTo>
                  <a:pt x="3207" y="14256"/>
                </a:moveTo>
                <a:cubicBezTo>
                  <a:pt x="3230" y="14248"/>
                  <a:pt x="3262" y="14197"/>
                  <a:pt x="3270" y="14160"/>
                </a:cubicBezTo>
                <a:cubicBezTo>
                  <a:pt x="3293" y="14056"/>
                  <a:pt x="3264" y="13929"/>
                  <a:pt x="3238" y="13843"/>
                </a:cubicBezTo>
                <a:cubicBezTo>
                  <a:pt x="3222" y="13791"/>
                  <a:pt x="3204" y="13755"/>
                  <a:pt x="3143" y="13748"/>
                </a:cubicBezTo>
                <a:cubicBezTo>
                  <a:pt x="3087" y="13742"/>
                  <a:pt x="3048" y="13762"/>
                  <a:pt x="3016" y="13811"/>
                </a:cubicBezTo>
                <a:cubicBezTo>
                  <a:pt x="2984" y="13860"/>
                  <a:pt x="2958" y="13946"/>
                  <a:pt x="2953" y="14002"/>
                </a:cubicBezTo>
                <a:cubicBezTo>
                  <a:pt x="2950" y="14034"/>
                  <a:pt x="2964" y="14116"/>
                  <a:pt x="2984" y="14129"/>
                </a:cubicBezTo>
                <a:cubicBezTo>
                  <a:pt x="3039" y="14166"/>
                  <a:pt x="3104" y="14110"/>
                  <a:pt x="3143" y="14097"/>
                </a:cubicBezTo>
                <a:cubicBezTo>
                  <a:pt x="3198" y="14079"/>
                  <a:pt x="3186" y="14105"/>
                  <a:pt x="3238" y="14065"/>
                </a:cubicBezTo>
                <a:cubicBezTo>
                  <a:pt x="3238" y="14125"/>
                  <a:pt x="3211" y="14166"/>
                  <a:pt x="3207" y="14224"/>
                </a:cubicBezTo>
                <a:cubicBezTo>
                  <a:pt x="3200" y="14336"/>
                  <a:pt x="3137" y="14433"/>
                  <a:pt x="3112" y="14542"/>
                </a:cubicBezTo>
                <a:cubicBezTo>
                  <a:pt x="3097" y="14608"/>
                  <a:pt x="3082" y="14577"/>
                  <a:pt x="3112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4"/>
          <p:cNvSpPr/>
          <p:nvPr/>
        </p:nvSpPr>
        <p:spPr>
          <a:xfrm>
            <a:off x="971640" y="5578560"/>
            <a:ext cx="274680" cy="261720"/>
          </a:xfrm>
          <a:custGeom>
            <a:avLst/>
            <a:gdLst/>
            <a:ahLst/>
            <a:rect l="l" t="t" r="r" b="b"/>
            <a:pathLst>
              <a:path w="763" h="731">
                <a:moveTo>
                  <a:pt x="2699" y="15780"/>
                </a:moveTo>
                <a:cubicBezTo>
                  <a:pt x="2699" y="15769"/>
                  <a:pt x="2699" y="15759"/>
                  <a:pt x="2699" y="15748"/>
                </a:cubicBezTo>
                <a:cubicBezTo>
                  <a:pt x="2707" y="15773"/>
                  <a:pt x="2756" y="15804"/>
                  <a:pt x="2794" y="15812"/>
                </a:cubicBezTo>
                <a:cubicBezTo>
                  <a:pt x="2840" y="15822"/>
                  <a:pt x="2905" y="15812"/>
                  <a:pt x="2953" y="15812"/>
                </a:cubicBezTo>
              </a:path>
              <a:path w="763" h="731">
                <a:moveTo>
                  <a:pt x="3238" y="15526"/>
                </a:moveTo>
                <a:cubicBezTo>
                  <a:pt x="3287" y="15489"/>
                  <a:pt x="3304" y="15494"/>
                  <a:pt x="3366" y="15494"/>
                </a:cubicBezTo>
                <a:cubicBezTo>
                  <a:pt x="3420" y="15494"/>
                  <a:pt x="3456" y="15540"/>
                  <a:pt x="3461" y="15589"/>
                </a:cubicBezTo>
                <a:cubicBezTo>
                  <a:pt x="3466" y="15630"/>
                  <a:pt x="3423" y="15686"/>
                  <a:pt x="3397" y="15716"/>
                </a:cubicBezTo>
                <a:cubicBezTo>
                  <a:pt x="3355" y="15764"/>
                  <a:pt x="3320" y="15839"/>
                  <a:pt x="3270" y="15875"/>
                </a:cubicBezTo>
                <a:cubicBezTo>
                  <a:pt x="3210" y="15918"/>
                  <a:pt x="3165" y="15949"/>
                  <a:pt x="3112" y="16002"/>
                </a:cubicBezTo>
                <a:cubicBezTo>
                  <a:pt x="3069" y="16045"/>
                  <a:pt x="3025" y="16069"/>
                  <a:pt x="2984" y="16097"/>
                </a:cubicBezTo>
                <a:cubicBezTo>
                  <a:pt x="2906" y="16149"/>
                  <a:pt x="2953" y="16133"/>
                  <a:pt x="2984" y="16129"/>
                </a:cubicBezTo>
                <a:cubicBezTo>
                  <a:pt x="3049" y="16121"/>
                  <a:pt x="3062" y="16144"/>
                  <a:pt x="3112" y="16161"/>
                </a:cubicBezTo>
                <a:cubicBezTo>
                  <a:pt x="3184" y="16185"/>
                  <a:pt x="3143" y="16191"/>
                  <a:pt x="3207" y="16224"/>
                </a:cubicBezTo>
                <a:cubicBezTo>
                  <a:pt x="3240" y="16241"/>
                  <a:pt x="3328" y="16224"/>
                  <a:pt x="336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5"/>
          <p:cNvSpPr/>
          <p:nvPr/>
        </p:nvSpPr>
        <p:spPr>
          <a:xfrm>
            <a:off x="857160" y="4286160"/>
            <a:ext cx="263520" cy="1817640"/>
          </a:xfrm>
          <a:custGeom>
            <a:avLst/>
            <a:gdLst/>
            <a:ahLst/>
            <a:rect l="l" t="t" r="r" b="b"/>
            <a:pathLst>
              <a:path w="732" h="5049">
                <a:moveTo>
                  <a:pt x="3112" y="11906"/>
                </a:moveTo>
                <a:cubicBezTo>
                  <a:pt x="3022" y="11906"/>
                  <a:pt x="2963" y="11916"/>
                  <a:pt x="2889" y="11938"/>
                </a:cubicBezTo>
                <a:cubicBezTo>
                  <a:pt x="2847" y="11950"/>
                  <a:pt x="2795" y="11943"/>
                  <a:pt x="2762" y="11970"/>
                </a:cubicBezTo>
                <a:cubicBezTo>
                  <a:pt x="2746" y="11983"/>
                  <a:pt x="2719" y="12030"/>
                  <a:pt x="2699" y="12065"/>
                </a:cubicBezTo>
                <a:cubicBezTo>
                  <a:pt x="2667" y="12122"/>
                  <a:pt x="2654" y="12197"/>
                  <a:pt x="2635" y="12256"/>
                </a:cubicBezTo>
                <a:cubicBezTo>
                  <a:pt x="2612" y="12325"/>
                  <a:pt x="2580" y="12428"/>
                  <a:pt x="2572" y="12510"/>
                </a:cubicBezTo>
                <a:cubicBezTo>
                  <a:pt x="2560" y="12636"/>
                  <a:pt x="2551" y="12772"/>
                  <a:pt x="2540" y="12890"/>
                </a:cubicBezTo>
                <a:cubicBezTo>
                  <a:pt x="2496" y="13374"/>
                  <a:pt x="2557" y="13869"/>
                  <a:pt x="2508" y="14351"/>
                </a:cubicBezTo>
                <a:cubicBezTo>
                  <a:pt x="2479" y="14635"/>
                  <a:pt x="2504" y="14926"/>
                  <a:pt x="2476" y="15208"/>
                </a:cubicBezTo>
                <a:cubicBezTo>
                  <a:pt x="2462" y="15345"/>
                  <a:pt x="2458" y="15485"/>
                  <a:pt x="2445" y="15621"/>
                </a:cubicBezTo>
                <a:cubicBezTo>
                  <a:pt x="2428" y="15790"/>
                  <a:pt x="2430" y="15961"/>
                  <a:pt x="2413" y="16129"/>
                </a:cubicBezTo>
                <a:cubicBezTo>
                  <a:pt x="2400" y="16257"/>
                  <a:pt x="2395" y="16385"/>
                  <a:pt x="2381" y="16510"/>
                </a:cubicBezTo>
                <a:cubicBezTo>
                  <a:pt x="2368" y="16627"/>
                  <a:pt x="2348" y="16828"/>
                  <a:pt x="2413" y="16923"/>
                </a:cubicBezTo>
                <a:cubicBezTo>
                  <a:pt x="2432" y="16951"/>
                  <a:pt x="2464" y="16945"/>
                  <a:pt x="2508" y="16954"/>
                </a:cubicBezTo>
                <a:cubicBezTo>
                  <a:pt x="2634" y="16981"/>
                  <a:pt x="2782" y="16935"/>
                  <a:pt x="2889" y="16923"/>
                </a:cubicBezTo>
                <a:cubicBezTo>
                  <a:pt x="2910" y="16923"/>
                  <a:pt x="2932" y="16923"/>
                  <a:pt x="2953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6"/>
          <p:cNvSpPr/>
          <p:nvPr/>
        </p:nvSpPr>
        <p:spPr>
          <a:xfrm>
            <a:off x="7108920" y="3406680"/>
            <a:ext cx="595080" cy="1862280"/>
          </a:xfrm>
          <a:custGeom>
            <a:avLst/>
            <a:gdLst/>
            <a:ahLst/>
            <a:rect l="l" t="t" r="r" b="b"/>
            <a:pathLst>
              <a:path w="1653" h="5176">
                <a:moveTo>
                  <a:pt x="19971" y="9938"/>
                </a:moveTo>
                <a:cubicBezTo>
                  <a:pt x="19981" y="9992"/>
                  <a:pt x="20026" y="10068"/>
                  <a:pt x="20002" y="10128"/>
                </a:cubicBezTo>
                <a:cubicBezTo>
                  <a:pt x="19987" y="10164"/>
                  <a:pt x="19944" y="10237"/>
                  <a:pt x="19971" y="10287"/>
                </a:cubicBezTo>
                <a:cubicBezTo>
                  <a:pt x="20015" y="10369"/>
                  <a:pt x="19995" y="10372"/>
                  <a:pt x="19971" y="10446"/>
                </a:cubicBezTo>
                <a:cubicBezTo>
                  <a:pt x="19963" y="10470"/>
                  <a:pt x="19971" y="10515"/>
                  <a:pt x="19971" y="10541"/>
                </a:cubicBezTo>
                <a:cubicBezTo>
                  <a:pt x="20010" y="10511"/>
                  <a:pt x="20048" y="10483"/>
                  <a:pt x="20098" y="10478"/>
                </a:cubicBezTo>
                <a:cubicBezTo>
                  <a:pt x="20185" y="10469"/>
                  <a:pt x="20285" y="10505"/>
                  <a:pt x="20352" y="10446"/>
                </a:cubicBezTo>
                <a:cubicBezTo>
                  <a:pt x="20363" y="10435"/>
                  <a:pt x="20373" y="10425"/>
                  <a:pt x="20384" y="10414"/>
                </a:cubicBezTo>
              </a:path>
              <a:path w="1653" h="5176">
                <a:moveTo>
                  <a:pt x="20320" y="9811"/>
                </a:moveTo>
                <a:cubicBezTo>
                  <a:pt x="20320" y="10160"/>
                  <a:pt x="20320" y="10509"/>
                  <a:pt x="20320" y="10858"/>
                </a:cubicBezTo>
              </a:path>
              <a:path w="1653" h="5176">
                <a:moveTo>
                  <a:pt x="20034" y="11335"/>
                </a:moveTo>
                <a:cubicBezTo>
                  <a:pt x="20023" y="11335"/>
                  <a:pt x="20013" y="11335"/>
                  <a:pt x="20002" y="11335"/>
                </a:cubicBezTo>
                <a:cubicBezTo>
                  <a:pt x="20014" y="11300"/>
                  <a:pt x="20032" y="11259"/>
                  <a:pt x="20066" y="11208"/>
                </a:cubicBezTo>
                <a:cubicBezTo>
                  <a:pt x="20095" y="11165"/>
                  <a:pt x="20137" y="11117"/>
                  <a:pt x="20161" y="11081"/>
                </a:cubicBezTo>
                <a:cubicBezTo>
                  <a:pt x="20181" y="11051"/>
                  <a:pt x="20253" y="11029"/>
                  <a:pt x="20288" y="11049"/>
                </a:cubicBezTo>
                <a:cubicBezTo>
                  <a:pt x="20342" y="11079"/>
                  <a:pt x="20320" y="11157"/>
                  <a:pt x="20320" y="11208"/>
                </a:cubicBezTo>
                <a:cubicBezTo>
                  <a:pt x="20320" y="11308"/>
                  <a:pt x="20287" y="11403"/>
                  <a:pt x="20256" y="11494"/>
                </a:cubicBezTo>
                <a:cubicBezTo>
                  <a:pt x="20215" y="11612"/>
                  <a:pt x="20193" y="11730"/>
                  <a:pt x="20161" y="11843"/>
                </a:cubicBezTo>
                <a:cubicBezTo>
                  <a:pt x="20139" y="11921"/>
                  <a:pt x="20086" y="11987"/>
                  <a:pt x="20066" y="12065"/>
                </a:cubicBezTo>
                <a:cubicBezTo>
                  <a:pt x="20052" y="12121"/>
                  <a:pt x="20015" y="12104"/>
                  <a:pt x="20034" y="12097"/>
                </a:cubicBezTo>
                <a:cubicBezTo>
                  <a:pt x="20078" y="12080"/>
                  <a:pt x="20066" y="12023"/>
                  <a:pt x="20098" y="12002"/>
                </a:cubicBezTo>
                <a:cubicBezTo>
                  <a:pt x="20118" y="11989"/>
                  <a:pt x="20192" y="11952"/>
                  <a:pt x="20225" y="11970"/>
                </a:cubicBezTo>
                <a:cubicBezTo>
                  <a:pt x="20267" y="11994"/>
                  <a:pt x="20306" y="12045"/>
                  <a:pt x="20352" y="12065"/>
                </a:cubicBezTo>
                <a:cubicBezTo>
                  <a:pt x="20407" y="12089"/>
                  <a:pt x="20456" y="12096"/>
                  <a:pt x="20510" y="12033"/>
                </a:cubicBezTo>
                <a:cubicBezTo>
                  <a:pt x="20521" y="12012"/>
                  <a:pt x="20531" y="11991"/>
                  <a:pt x="20542" y="11970"/>
                </a:cubicBezTo>
              </a:path>
              <a:path w="1653" h="5176">
                <a:moveTo>
                  <a:pt x="20130" y="12986"/>
                </a:moveTo>
                <a:cubicBezTo>
                  <a:pt x="20082" y="12970"/>
                  <a:pt x="20103" y="12954"/>
                  <a:pt x="20034" y="12954"/>
                </a:cubicBezTo>
                <a:cubicBezTo>
                  <a:pt x="19954" y="12954"/>
                  <a:pt x="19942" y="13056"/>
                  <a:pt x="19907" y="13113"/>
                </a:cubicBezTo>
                <a:cubicBezTo>
                  <a:pt x="19832" y="13236"/>
                  <a:pt x="19768" y="13346"/>
                  <a:pt x="19748" y="13494"/>
                </a:cubicBezTo>
                <a:cubicBezTo>
                  <a:pt x="19730" y="13628"/>
                  <a:pt x="19728" y="13816"/>
                  <a:pt x="19780" y="13938"/>
                </a:cubicBezTo>
                <a:cubicBezTo>
                  <a:pt x="19815" y="14021"/>
                  <a:pt x="19848" y="14098"/>
                  <a:pt x="19939" y="14129"/>
                </a:cubicBezTo>
                <a:cubicBezTo>
                  <a:pt x="19993" y="14147"/>
                  <a:pt x="20059" y="14128"/>
                  <a:pt x="20098" y="14097"/>
                </a:cubicBezTo>
                <a:cubicBezTo>
                  <a:pt x="20198" y="14017"/>
                  <a:pt x="20217" y="13928"/>
                  <a:pt x="20256" y="13811"/>
                </a:cubicBezTo>
                <a:cubicBezTo>
                  <a:pt x="20303" y="13670"/>
                  <a:pt x="20315" y="13515"/>
                  <a:pt x="20320" y="13367"/>
                </a:cubicBezTo>
                <a:cubicBezTo>
                  <a:pt x="20325" y="13224"/>
                  <a:pt x="20275" y="13091"/>
                  <a:pt x="20256" y="12954"/>
                </a:cubicBezTo>
                <a:cubicBezTo>
                  <a:pt x="20247" y="12886"/>
                  <a:pt x="20238" y="12798"/>
                  <a:pt x="20161" y="12764"/>
                </a:cubicBezTo>
                <a:cubicBezTo>
                  <a:pt x="20130" y="12764"/>
                  <a:pt x="20119" y="12764"/>
                  <a:pt x="20098" y="12764"/>
                </a:cubicBezTo>
              </a:path>
              <a:path w="1653" h="5176">
                <a:moveTo>
                  <a:pt x="20701" y="9462"/>
                </a:moveTo>
                <a:cubicBezTo>
                  <a:pt x="20781" y="9488"/>
                  <a:pt x="20868" y="9516"/>
                  <a:pt x="20955" y="9525"/>
                </a:cubicBezTo>
                <a:cubicBezTo>
                  <a:pt x="21040" y="9534"/>
                  <a:pt x="21101" y="9501"/>
                  <a:pt x="21177" y="9493"/>
                </a:cubicBezTo>
                <a:cubicBezTo>
                  <a:pt x="21229" y="9488"/>
                  <a:pt x="21336" y="9473"/>
                  <a:pt x="21368" y="9525"/>
                </a:cubicBezTo>
                <a:cubicBezTo>
                  <a:pt x="21417" y="9606"/>
                  <a:pt x="21371" y="9664"/>
                  <a:pt x="21368" y="9747"/>
                </a:cubicBezTo>
                <a:cubicBezTo>
                  <a:pt x="21363" y="9916"/>
                  <a:pt x="21362" y="10089"/>
                  <a:pt x="21336" y="10255"/>
                </a:cubicBezTo>
                <a:cubicBezTo>
                  <a:pt x="21303" y="10468"/>
                  <a:pt x="21304" y="10672"/>
                  <a:pt x="21304" y="10890"/>
                </a:cubicBezTo>
                <a:cubicBezTo>
                  <a:pt x="21304" y="11221"/>
                  <a:pt x="21319" y="11545"/>
                  <a:pt x="21336" y="11874"/>
                </a:cubicBezTo>
                <a:cubicBezTo>
                  <a:pt x="21373" y="12563"/>
                  <a:pt x="21446" y="13427"/>
                  <a:pt x="21304" y="14097"/>
                </a:cubicBezTo>
                <a:cubicBezTo>
                  <a:pt x="21286" y="14180"/>
                  <a:pt x="21287" y="14276"/>
                  <a:pt x="21241" y="14351"/>
                </a:cubicBezTo>
                <a:cubicBezTo>
                  <a:pt x="21201" y="14416"/>
                  <a:pt x="21182" y="14414"/>
                  <a:pt x="21114" y="14446"/>
                </a:cubicBezTo>
                <a:cubicBezTo>
                  <a:pt x="21043" y="14479"/>
                  <a:pt x="20974" y="14491"/>
                  <a:pt x="20892" y="14510"/>
                </a:cubicBezTo>
                <a:cubicBezTo>
                  <a:pt x="20790" y="14533"/>
                  <a:pt x="20678" y="14548"/>
                  <a:pt x="20574" y="14573"/>
                </a:cubicBezTo>
                <a:cubicBezTo>
                  <a:pt x="20488" y="14602"/>
                  <a:pt x="20465" y="14608"/>
                  <a:pt x="20415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7"/>
          <p:cNvSpPr/>
          <p:nvPr/>
        </p:nvSpPr>
        <p:spPr>
          <a:xfrm>
            <a:off x="6800760" y="3486240"/>
            <a:ext cx="206640" cy="1782720"/>
          </a:xfrm>
          <a:custGeom>
            <a:avLst/>
            <a:gdLst/>
            <a:ahLst/>
            <a:rect l="l" t="t" r="r" b="b"/>
            <a:pathLst>
              <a:path w="573" h="4954">
                <a:moveTo>
                  <a:pt x="19336" y="9684"/>
                </a:moveTo>
                <a:cubicBezTo>
                  <a:pt x="19324" y="9701"/>
                  <a:pt x="19290" y="9764"/>
                  <a:pt x="19272" y="9779"/>
                </a:cubicBezTo>
                <a:cubicBezTo>
                  <a:pt x="19248" y="9799"/>
                  <a:pt x="19220" y="9820"/>
                  <a:pt x="19177" y="9842"/>
                </a:cubicBezTo>
                <a:cubicBezTo>
                  <a:pt x="19150" y="9856"/>
                  <a:pt x="19079" y="9870"/>
                  <a:pt x="19050" y="9874"/>
                </a:cubicBezTo>
                <a:cubicBezTo>
                  <a:pt x="18980" y="9884"/>
                  <a:pt x="18991" y="9870"/>
                  <a:pt x="18955" y="9906"/>
                </a:cubicBezTo>
                <a:cubicBezTo>
                  <a:pt x="18927" y="9934"/>
                  <a:pt x="18916" y="9934"/>
                  <a:pt x="18923" y="10001"/>
                </a:cubicBezTo>
                <a:cubicBezTo>
                  <a:pt x="18934" y="10110"/>
                  <a:pt x="18955" y="10203"/>
                  <a:pt x="18955" y="10319"/>
                </a:cubicBezTo>
                <a:cubicBezTo>
                  <a:pt x="18955" y="10608"/>
                  <a:pt x="18941" y="10891"/>
                  <a:pt x="18923" y="11176"/>
                </a:cubicBezTo>
                <a:cubicBezTo>
                  <a:pt x="18897" y="11597"/>
                  <a:pt x="18913" y="12026"/>
                  <a:pt x="18891" y="12446"/>
                </a:cubicBezTo>
                <a:cubicBezTo>
                  <a:pt x="18865" y="12951"/>
                  <a:pt x="18885" y="13469"/>
                  <a:pt x="18923" y="13970"/>
                </a:cubicBezTo>
                <a:cubicBezTo>
                  <a:pt x="18936" y="14142"/>
                  <a:pt x="18936" y="14310"/>
                  <a:pt x="18955" y="14478"/>
                </a:cubicBezTo>
                <a:cubicBezTo>
                  <a:pt x="18963" y="14552"/>
                  <a:pt x="18969" y="14576"/>
                  <a:pt x="18986" y="14637"/>
                </a:cubicBezTo>
                <a:cubicBezTo>
                  <a:pt x="19029" y="14618"/>
                  <a:pt x="19028" y="14625"/>
                  <a:pt x="19082" y="14605"/>
                </a:cubicBezTo>
                <a:cubicBezTo>
                  <a:pt x="19130" y="14588"/>
                  <a:pt x="19186" y="14540"/>
                  <a:pt x="19240" y="14542"/>
                </a:cubicBezTo>
                <a:cubicBezTo>
                  <a:pt x="19253" y="14542"/>
                  <a:pt x="19340" y="14568"/>
                  <a:pt x="19368" y="14573"/>
                </a:cubicBezTo>
                <a:cubicBezTo>
                  <a:pt x="19384" y="14576"/>
                  <a:pt x="19438" y="14599"/>
                  <a:pt x="19463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191120" y="3505320"/>
                <a:ext cx="1552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304920" y="3429000"/>
                <a:ext cx="21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Ink 10"/>
          <p:cNvSpPr/>
          <p:nvPr/>
        </p:nvSpPr>
        <p:spPr>
          <a:xfrm>
            <a:off x="708120" y="3886200"/>
            <a:ext cx="2687400" cy="652320"/>
          </a:xfrm>
          <a:custGeom>
            <a:avLst/>
            <a:gdLst/>
            <a:ahLst/>
            <a:rect l="l" t="t" r="r" b="b"/>
            <a:pathLst>
              <a:path w="7463" h="1811">
                <a:moveTo>
                  <a:pt x="2096" y="11081"/>
                </a:moveTo>
                <a:cubicBezTo>
                  <a:pt x="2115" y="11119"/>
                  <a:pt x="2127" y="11122"/>
                  <a:pt x="2127" y="11208"/>
                </a:cubicBezTo>
                <a:cubicBezTo>
                  <a:pt x="2127" y="11331"/>
                  <a:pt x="2092" y="11469"/>
                  <a:pt x="2064" y="11589"/>
                </a:cubicBezTo>
                <a:cubicBezTo>
                  <a:pt x="2026" y="11755"/>
                  <a:pt x="2006" y="11927"/>
                  <a:pt x="2000" y="12097"/>
                </a:cubicBezTo>
                <a:cubicBezTo>
                  <a:pt x="1996" y="12218"/>
                  <a:pt x="1936" y="12357"/>
                  <a:pt x="1968" y="12478"/>
                </a:cubicBezTo>
                <a:cubicBezTo>
                  <a:pt x="1979" y="12499"/>
                  <a:pt x="1989" y="12520"/>
                  <a:pt x="2000" y="12541"/>
                </a:cubicBezTo>
                <a:cubicBezTo>
                  <a:pt x="2014" y="12414"/>
                  <a:pt x="2053" y="12288"/>
                  <a:pt x="2064" y="12160"/>
                </a:cubicBezTo>
                <a:cubicBezTo>
                  <a:pt x="2083" y="11944"/>
                  <a:pt x="2127" y="11745"/>
                  <a:pt x="2127" y="11525"/>
                </a:cubicBezTo>
                <a:cubicBezTo>
                  <a:pt x="2127" y="11353"/>
                  <a:pt x="2071" y="11067"/>
                  <a:pt x="2159" y="10922"/>
                </a:cubicBezTo>
                <a:cubicBezTo>
                  <a:pt x="2185" y="10992"/>
                  <a:pt x="2192" y="11064"/>
                  <a:pt x="2222" y="11144"/>
                </a:cubicBezTo>
                <a:cubicBezTo>
                  <a:pt x="2274" y="11281"/>
                  <a:pt x="2320" y="11423"/>
                  <a:pt x="2381" y="11557"/>
                </a:cubicBezTo>
                <a:cubicBezTo>
                  <a:pt x="2463" y="11736"/>
                  <a:pt x="2521" y="11920"/>
                  <a:pt x="2604" y="12097"/>
                </a:cubicBezTo>
                <a:cubicBezTo>
                  <a:pt x="2666" y="12228"/>
                  <a:pt x="2695" y="12384"/>
                  <a:pt x="2762" y="12510"/>
                </a:cubicBezTo>
                <a:cubicBezTo>
                  <a:pt x="2794" y="12541"/>
                  <a:pt x="2805" y="12552"/>
                  <a:pt x="2826" y="12573"/>
                </a:cubicBezTo>
                <a:cubicBezTo>
                  <a:pt x="2826" y="12431"/>
                  <a:pt x="2845" y="12297"/>
                  <a:pt x="2858" y="12160"/>
                </a:cubicBezTo>
                <a:cubicBezTo>
                  <a:pt x="2883" y="11885"/>
                  <a:pt x="2849" y="11604"/>
                  <a:pt x="2826" y="11335"/>
                </a:cubicBezTo>
                <a:cubicBezTo>
                  <a:pt x="2814" y="11189"/>
                  <a:pt x="2802" y="10992"/>
                  <a:pt x="2858" y="10858"/>
                </a:cubicBezTo>
                <a:cubicBezTo>
                  <a:pt x="2858" y="10822"/>
                  <a:pt x="2861" y="10809"/>
                  <a:pt x="2889" y="10795"/>
                </a:cubicBezTo>
              </a:path>
              <a:path w="7463" h="1811">
                <a:moveTo>
                  <a:pt x="3492" y="11366"/>
                </a:moveTo>
                <a:cubicBezTo>
                  <a:pt x="3492" y="11313"/>
                  <a:pt x="3492" y="11303"/>
                  <a:pt x="3492" y="11271"/>
                </a:cubicBezTo>
                <a:cubicBezTo>
                  <a:pt x="3411" y="11292"/>
                  <a:pt x="3380" y="11361"/>
                  <a:pt x="3334" y="11430"/>
                </a:cubicBezTo>
                <a:cubicBezTo>
                  <a:pt x="3240" y="11574"/>
                  <a:pt x="3212" y="11686"/>
                  <a:pt x="3175" y="11843"/>
                </a:cubicBezTo>
                <a:cubicBezTo>
                  <a:pt x="3148" y="11960"/>
                  <a:pt x="3160" y="12085"/>
                  <a:pt x="3238" y="12192"/>
                </a:cubicBezTo>
                <a:cubicBezTo>
                  <a:pt x="3298" y="12274"/>
                  <a:pt x="3409" y="12284"/>
                  <a:pt x="3492" y="12224"/>
                </a:cubicBezTo>
                <a:cubicBezTo>
                  <a:pt x="3594" y="12150"/>
                  <a:pt x="3636" y="11992"/>
                  <a:pt x="3651" y="11874"/>
                </a:cubicBezTo>
                <a:cubicBezTo>
                  <a:pt x="3668" y="11742"/>
                  <a:pt x="3611" y="11610"/>
                  <a:pt x="3556" y="11494"/>
                </a:cubicBezTo>
                <a:cubicBezTo>
                  <a:pt x="3519" y="11416"/>
                  <a:pt x="3446" y="11335"/>
                  <a:pt x="3366" y="11303"/>
                </a:cubicBezTo>
                <a:cubicBezTo>
                  <a:pt x="3316" y="11283"/>
                  <a:pt x="3323" y="11411"/>
                  <a:pt x="3334" y="11430"/>
                </a:cubicBezTo>
                <a:cubicBezTo>
                  <a:pt x="3355" y="11451"/>
                  <a:pt x="3376" y="11473"/>
                  <a:pt x="3397" y="11494"/>
                </a:cubicBezTo>
              </a:path>
              <a:path w="7463" h="1811">
                <a:moveTo>
                  <a:pt x="5016" y="11049"/>
                </a:moveTo>
                <a:cubicBezTo>
                  <a:pt x="4966" y="10991"/>
                  <a:pt x="4915" y="10890"/>
                  <a:pt x="4826" y="10890"/>
                </a:cubicBezTo>
                <a:cubicBezTo>
                  <a:pt x="4748" y="10890"/>
                  <a:pt x="4624" y="11002"/>
                  <a:pt x="4572" y="11049"/>
                </a:cubicBezTo>
                <a:cubicBezTo>
                  <a:pt x="4484" y="11130"/>
                  <a:pt x="4507" y="11209"/>
                  <a:pt x="4540" y="11303"/>
                </a:cubicBezTo>
                <a:cubicBezTo>
                  <a:pt x="4591" y="11448"/>
                  <a:pt x="4645" y="11555"/>
                  <a:pt x="4731" y="11684"/>
                </a:cubicBezTo>
                <a:cubicBezTo>
                  <a:pt x="4810" y="11802"/>
                  <a:pt x="4900" y="11920"/>
                  <a:pt x="4921" y="12065"/>
                </a:cubicBezTo>
                <a:cubicBezTo>
                  <a:pt x="4934" y="12153"/>
                  <a:pt x="4905" y="12295"/>
                  <a:pt x="4826" y="12351"/>
                </a:cubicBezTo>
                <a:cubicBezTo>
                  <a:pt x="4746" y="12407"/>
                  <a:pt x="4653" y="12387"/>
                  <a:pt x="4572" y="12351"/>
                </a:cubicBezTo>
                <a:cubicBezTo>
                  <a:pt x="4492" y="12316"/>
                  <a:pt x="4373" y="12256"/>
                  <a:pt x="4318" y="12192"/>
                </a:cubicBezTo>
                <a:cubicBezTo>
                  <a:pt x="4271" y="12138"/>
                  <a:pt x="4239" y="12042"/>
                  <a:pt x="4254" y="11970"/>
                </a:cubicBezTo>
                <a:cubicBezTo>
                  <a:pt x="4272" y="11884"/>
                  <a:pt x="4348" y="11852"/>
                  <a:pt x="4413" y="11811"/>
                </a:cubicBezTo>
              </a:path>
              <a:path w="7463" h="1811">
                <a:moveTo>
                  <a:pt x="5429" y="11557"/>
                </a:moveTo>
                <a:cubicBezTo>
                  <a:pt x="5392" y="11567"/>
                  <a:pt x="5297" y="11621"/>
                  <a:pt x="5270" y="11652"/>
                </a:cubicBezTo>
                <a:cubicBezTo>
                  <a:pt x="5174" y="11760"/>
                  <a:pt x="5072" y="11922"/>
                  <a:pt x="5048" y="12065"/>
                </a:cubicBezTo>
                <a:cubicBezTo>
                  <a:pt x="5028" y="12184"/>
                  <a:pt x="5102" y="12301"/>
                  <a:pt x="5207" y="12351"/>
                </a:cubicBezTo>
                <a:cubicBezTo>
                  <a:pt x="5299" y="12395"/>
                  <a:pt x="5410" y="12441"/>
                  <a:pt x="5493" y="12351"/>
                </a:cubicBezTo>
                <a:cubicBezTo>
                  <a:pt x="5579" y="12258"/>
                  <a:pt x="5556" y="12115"/>
                  <a:pt x="5556" y="12002"/>
                </a:cubicBezTo>
                <a:cubicBezTo>
                  <a:pt x="5556" y="11859"/>
                  <a:pt x="5522" y="11749"/>
                  <a:pt x="5461" y="11620"/>
                </a:cubicBezTo>
                <a:cubicBezTo>
                  <a:pt x="5444" y="11584"/>
                  <a:pt x="5383" y="11469"/>
                  <a:pt x="5398" y="11430"/>
                </a:cubicBezTo>
                <a:cubicBezTo>
                  <a:pt x="5429" y="11398"/>
                  <a:pt x="5440" y="11387"/>
                  <a:pt x="5461" y="11366"/>
                </a:cubicBezTo>
              </a:path>
              <a:path w="7463" h="1811">
                <a:moveTo>
                  <a:pt x="5778" y="11017"/>
                </a:moveTo>
                <a:cubicBezTo>
                  <a:pt x="5778" y="11182"/>
                  <a:pt x="5794" y="11333"/>
                  <a:pt x="5810" y="11494"/>
                </a:cubicBezTo>
                <a:cubicBezTo>
                  <a:pt x="5825" y="11642"/>
                  <a:pt x="5826" y="11793"/>
                  <a:pt x="5842" y="11938"/>
                </a:cubicBezTo>
                <a:cubicBezTo>
                  <a:pt x="5855" y="12062"/>
                  <a:pt x="5842" y="12194"/>
                  <a:pt x="5842" y="12319"/>
                </a:cubicBezTo>
                <a:cubicBezTo>
                  <a:pt x="5884" y="12291"/>
                  <a:pt x="5911" y="12170"/>
                  <a:pt x="5937" y="12097"/>
                </a:cubicBezTo>
              </a:path>
              <a:path w="7463" h="1811">
                <a:moveTo>
                  <a:pt x="6064" y="11620"/>
                </a:moveTo>
                <a:cubicBezTo>
                  <a:pt x="6088" y="11542"/>
                  <a:pt x="6096" y="11530"/>
                  <a:pt x="6096" y="11462"/>
                </a:cubicBezTo>
                <a:cubicBezTo>
                  <a:pt x="6096" y="11668"/>
                  <a:pt x="6098" y="11869"/>
                  <a:pt x="6128" y="12065"/>
                </a:cubicBezTo>
                <a:cubicBezTo>
                  <a:pt x="6138" y="12133"/>
                  <a:pt x="6168" y="12242"/>
                  <a:pt x="6255" y="12224"/>
                </a:cubicBezTo>
                <a:cubicBezTo>
                  <a:pt x="6345" y="12206"/>
                  <a:pt x="6413" y="12043"/>
                  <a:pt x="6445" y="11970"/>
                </a:cubicBezTo>
                <a:cubicBezTo>
                  <a:pt x="6506" y="11833"/>
                  <a:pt x="6546" y="11702"/>
                  <a:pt x="6572" y="11557"/>
                </a:cubicBezTo>
                <a:cubicBezTo>
                  <a:pt x="6577" y="11528"/>
                  <a:pt x="6572" y="11492"/>
                  <a:pt x="6572" y="11462"/>
                </a:cubicBezTo>
                <a:cubicBezTo>
                  <a:pt x="6552" y="11561"/>
                  <a:pt x="6540" y="11641"/>
                  <a:pt x="6540" y="11748"/>
                </a:cubicBezTo>
                <a:cubicBezTo>
                  <a:pt x="6540" y="11890"/>
                  <a:pt x="6582" y="12029"/>
                  <a:pt x="6636" y="12160"/>
                </a:cubicBezTo>
                <a:cubicBezTo>
                  <a:pt x="6652" y="12200"/>
                  <a:pt x="6735" y="12346"/>
                  <a:pt x="6794" y="12319"/>
                </a:cubicBezTo>
                <a:cubicBezTo>
                  <a:pt x="6853" y="12293"/>
                  <a:pt x="6873" y="12175"/>
                  <a:pt x="6890" y="12128"/>
                </a:cubicBezTo>
              </a:path>
              <a:path w="7463" h="1811">
                <a:moveTo>
                  <a:pt x="6985" y="11049"/>
                </a:moveTo>
                <a:cubicBezTo>
                  <a:pt x="6985" y="11432"/>
                  <a:pt x="6990" y="11814"/>
                  <a:pt x="6953" y="12192"/>
                </a:cubicBezTo>
                <a:cubicBezTo>
                  <a:pt x="6947" y="12257"/>
                  <a:pt x="6958" y="12440"/>
                  <a:pt x="7017" y="12478"/>
                </a:cubicBezTo>
                <a:cubicBezTo>
                  <a:pt x="7027" y="12478"/>
                  <a:pt x="7038" y="12478"/>
                  <a:pt x="7048" y="12478"/>
                </a:cubicBezTo>
              </a:path>
              <a:path w="7463" h="1811">
                <a:moveTo>
                  <a:pt x="6731" y="11557"/>
                </a:moveTo>
                <a:cubicBezTo>
                  <a:pt x="6695" y="11503"/>
                  <a:pt x="6750" y="11497"/>
                  <a:pt x="6826" y="11494"/>
                </a:cubicBezTo>
                <a:cubicBezTo>
                  <a:pt x="6970" y="11488"/>
                  <a:pt x="7097" y="11519"/>
                  <a:pt x="7239" y="11525"/>
                </a:cubicBezTo>
                <a:cubicBezTo>
                  <a:pt x="7260" y="11525"/>
                  <a:pt x="7281" y="11525"/>
                  <a:pt x="7302" y="11525"/>
                </a:cubicBezTo>
              </a:path>
              <a:path w="7463" h="1811">
                <a:moveTo>
                  <a:pt x="7461" y="11144"/>
                </a:moveTo>
                <a:cubicBezTo>
                  <a:pt x="7461" y="11246"/>
                  <a:pt x="7441" y="11332"/>
                  <a:pt x="7430" y="11430"/>
                </a:cubicBezTo>
                <a:cubicBezTo>
                  <a:pt x="7413" y="11588"/>
                  <a:pt x="7424" y="11749"/>
                  <a:pt x="7398" y="11906"/>
                </a:cubicBezTo>
                <a:cubicBezTo>
                  <a:pt x="7379" y="12019"/>
                  <a:pt x="7366" y="12110"/>
                  <a:pt x="7366" y="12224"/>
                </a:cubicBezTo>
                <a:cubicBezTo>
                  <a:pt x="7366" y="12256"/>
                  <a:pt x="7366" y="12267"/>
                  <a:pt x="7398" y="12256"/>
                </a:cubicBezTo>
              </a:path>
              <a:path w="7463" h="1811">
                <a:moveTo>
                  <a:pt x="7906" y="11398"/>
                </a:moveTo>
                <a:cubicBezTo>
                  <a:pt x="7831" y="11365"/>
                  <a:pt x="7838" y="11306"/>
                  <a:pt x="7747" y="11398"/>
                </a:cubicBezTo>
                <a:cubicBezTo>
                  <a:pt x="7637" y="11508"/>
                  <a:pt x="7644" y="11642"/>
                  <a:pt x="7620" y="11779"/>
                </a:cubicBezTo>
                <a:cubicBezTo>
                  <a:pt x="7594" y="11931"/>
                  <a:pt x="7593" y="12101"/>
                  <a:pt x="7715" y="12224"/>
                </a:cubicBezTo>
                <a:cubicBezTo>
                  <a:pt x="7776" y="12255"/>
                  <a:pt x="7795" y="12265"/>
                  <a:pt x="7842" y="12256"/>
                </a:cubicBezTo>
                <a:cubicBezTo>
                  <a:pt x="7951" y="12178"/>
                  <a:pt x="7965" y="12105"/>
                  <a:pt x="8001" y="11970"/>
                </a:cubicBezTo>
                <a:cubicBezTo>
                  <a:pt x="8045" y="11804"/>
                  <a:pt x="8033" y="11628"/>
                  <a:pt x="8001" y="11462"/>
                </a:cubicBezTo>
                <a:cubicBezTo>
                  <a:pt x="7984" y="11374"/>
                  <a:pt x="7925" y="11284"/>
                  <a:pt x="7906" y="11208"/>
                </a:cubicBezTo>
                <a:cubicBezTo>
                  <a:pt x="7906" y="11197"/>
                  <a:pt x="7906" y="11187"/>
                  <a:pt x="7906" y="11176"/>
                </a:cubicBezTo>
                <a:cubicBezTo>
                  <a:pt x="7991" y="11204"/>
                  <a:pt x="7982" y="11193"/>
                  <a:pt x="8064" y="11271"/>
                </a:cubicBezTo>
                <a:cubicBezTo>
                  <a:pt x="8184" y="11384"/>
                  <a:pt x="8215" y="11496"/>
                  <a:pt x="8255" y="11652"/>
                </a:cubicBezTo>
                <a:cubicBezTo>
                  <a:pt x="8298" y="11818"/>
                  <a:pt x="8318" y="11957"/>
                  <a:pt x="8318" y="12128"/>
                </a:cubicBezTo>
                <a:cubicBezTo>
                  <a:pt x="8318" y="12225"/>
                  <a:pt x="8319" y="12264"/>
                  <a:pt x="8287" y="12351"/>
                </a:cubicBezTo>
                <a:cubicBezTo>
                  <a:pt x="8287" y="12276"/>
                  <a:pt x="8264" y="12267"/>
                  <a:pt x="8255" y="12192"/>
                </a:cubicBezTo>
                <a:cubicBezTo>
                  <a:pt x="8236" y="12029"/>
                  <a:pt x="8306" y="11847"/>
                  <a:pt x="8318" y="11684"/>
                </a:cubicBezTo>
                <a:cubicBezTo>
                  <a:pt x="8332" y="11498"/>
                  <a:pt x="8374" y="11404"/>
                  <a:pt x="8446" y="11240"/>
                </a:cubicBezTo>
                <a:cubicBezTo>
                  <a:pt x="8509" y="11098"/>
                  <a:pt x="8493" y="11152"/>
                  <a:pt x="8604" y="11081"/>
                </a:cubicBezTo>
                <a:cubicBezTo>
                  <a:pt x="8649" y="11136"/>
                  <a:pt x="8715" y="11169"/>
                  <a:pt x="8731" y="11271"/>
                </a:cubicBezTo>
                <a:cubicBezTo>
                  <a:pt x="8757" y="11439"/>
                  <a:pt x="8791" y="11607"/>
                  <a:pt x="8795" y="11779"/>
                </a:cubicBezTo>
                <a:cubicBezTo>
                  <a:pt x="8800" y="11971"/>
                  <a:pt x="8804" y="12133"/>
                  <a:pt x="8858" y="12319"/>
                </a:cubicBezTo>
                <a:cubicBezTo>
                  <a:pt x="8888" y="12421"/>
                  <a:pt x="8979" y="12605"/>
                  <a:pt x="9112" y="12605"/>
                </a:cubicBezTo>
                <a:cubicBezTo>
                  <a:pt x="9243" y="12605"/>
                  <a:pt x="9365" y="12405"/>
                  <a:pt x="9430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1"/>
          <p:cNvSpPr/>
          <p:nvPr/>
        </p:nvSpPr>
        <p:spPr>
          <a:xfrm>
            <a:off x="5086440" y="4046400"/>
            <a:ext cx="434880" cy="1818000"/>
          </a:xfrm>
          <a:custGeom>
            <a:avLst/>
            <a:gdLst/>
            <a:ahLst/>
            <a:rect l="l" t="t" r="r" b="b"/>
            <a:pathLst>
              <a:path w="1207" h="5049">
                <a:moveTo>
                  <a:pt x="15335" y="11271"/>
                </a:moveTo>
                <a:cubicBezTo>
                  <a:pt x="15276" y="11271"/>
                  <a:pt x="15320" y="11256"/>
                  <a:pt x="15240" y="11271"/>
                </a:cubicBezTo>
                <a:cubicBezTo>
                  <a:pt x="15185" y="11281"/>
                  <a:pt x="15134" y="11287"/>
                  <a:pt x="15081" y="11303"/>
                </a:cubicBezTo>
                <a:cubicBezTo>
                  <a:pt x="15030" y="11318"/>
                  <a:pt x="14953" y="11357"/>
                  <a:pt x="14891" y="11366"/>
                </a:cubicBezTo>
                <a:cubicBezTo>
                  <a:pt x="14823" y="11376"/>
                  <a:pt x="14722" y="11393"/>
                  <a:pt x="14668" y="11398"/>
                </a:cubicBezTo>
                <a:cubicBezTo>
                  <a:pt x="14611" y="11404"/>
                  <a:pt x="14548" y="11376"/>
                  <a:pt x="14510" y="11430"/>
                </a:cubicBezTo>
                <a:cubicBezTo>
                  <a:pt x="14485" y="11465"/>
                  <a:pt x="14452" y="11574"/>
                  <a:pt x="14446" y="11620"/>
                </a:cubicBezTo>
                <a:cubicBezTo>
                  <a:pt x="14429" y="11753"/>
                  <a:pt x="14425" y="11900"/>
                  <a:pt x="14414" y="12033"/>
                </a:cubicBezTo>
                <a:cubicBezTo>
                  <a:pt x="14395" y="12263"/>
                  <a:pt x="14397" y="12504"/>
                  <a:pt x="14383" y="12732"/>
                </a:cubicBezTo>
                <a:cubicBezTo>
                  <a:pt x="14369" y="12964"/>
                  <a:pt x="14356" y="13198"/>
                  <a:pt x="14351" y="13430"/>
                </a:cubicBezTo>
                <a:cubicBezTo>
                  <a:pt x="14346" y="13645"/>
                  <a:pt x="14302" y="13852"/>
                  <a:pt x="14288" y="14065"/>
                </a:cubicBezTo>
                <a:cubicBezTo>
                  <a:pt x="14275" y="14257"/>
                  <a:pt x="14238" y="14446"/>
                  <a:pt x="14224" y="14637"/>
                </a:cubicBezTo>
                <a:cubicBezTo>
                  <a:pt x="14211" y="14824"/>
                  <a:pt x="14216" y="15022"/>
                  <a:pt x="14192" y="15208"/>
                </a:cubicBezTo>
                <a:cubicBezTo>
                  <a:pt x="14168" y="15397"/>
                  <a:pt x="14136" y="15589"/>
                  <a:pt x="14129" y="15780"/>
                </a:cubicBezTo>
                <a:cubicBezTo>
                  <a:pt x="14123" y="15949"/>
                  <a:pt x="14129" y="16119"/>
                  <a:pt x="14129" y="16288"/>
                </a:cubicBezTo>
                <a:cubicBezTo>
                  <a:pt x="14173" y="16269"/>
                  <a:pt x="14212" y="16244"/>
                  <a:pt x="14256" y="16224"/>
                </a:cubicBezTo>
                <a:cubicBezTo>
                  <a:pt x="14344" y="16185"/>
                  <a:pt x="14478" y="16150"/>
                  <a:pt x="14573" y="16161"/>
                </a:cubicBezTo>
                <a:cubicBezTo>
                  <a:pt x="14686" y="16174"/>
                  <a:pt x="14839" y="16250"/>
                  <a:pt x="14954" y="16224"/>
                </a:cubicBezTo>
                <a:cubicBezTo>
                  <a:pt x="15026" y="16188"/>
                  <a:pt x="15057" y="16174"/>
                  <a:pt x="15113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2"/>
          <p:cNvSpPr/>
          <p:nvPr/>
        </p:nvSpPr>
        <p:spPr>
          <a:xfrm>
            <a:off x="6012000" y="3886200"/>
            <a:ext cx="434880" cy="1828800"/>
          </a:xfrm>
          <a:custGeom>
            <a:avLst/>
            <a:gdLst/>
            <a:ahLst/>
            <a:rect l="l" t="t" r="r" b="b"/>
            <a:pathLst>
              <a:path w="1208" h="5081">
                <a:moveTo>
                  <a:pt x="16732" y="10890"/>
                </a:moveTo>
                <a:cubicBezTo>
                  <a:pt x="16775" y="10890"/>
                  <a:pt x="16754" y="10899"/>
                  <a:pt x="16796" y="10890"/>
                </a:cubicBezTo>
                <a:cubicBezTo>
                  <a:pt x="16875" y="10873"/>
                  <a:pt x="16935" y="10848"/>
                  <a:pt x="17018" y="10827"/>
                </a:cubicBezTo>
                <a:cubicBezTo>
                  <a:pt x="17103" y="10805"/>
                  <a:pt x="17182" y="10798"/>
                  <a:pt x="17272" y="10795"/>
                </a:cubicBezTo>
                <a:cubicBezTo>
                  <a:pt x="17401" y="10791"/>
                  <a:pt x="17544" y="10780"/>
                  <a:pt x="17653" y="10827"/>
                </a:cubicBezTo>
                <a:cubicBezTo>
                  <a:pt x="17694" y="10845"/>
                  <a:pt x="17756" y="10871"/>
                  <a:pt x="17780" y="10922"/>
                </a:cubicBezTo>
                <a:cubicBezTo>
                  <a:pt x="17875" y="11120"/>
                  <a:pt x="17753" y="11545"/>
                  <a:pt x="17748" y="11748"/>
                </a:cubicBezTo>
                <a:cubicBezTo>
                  <a:pt x="17738" y="12162"/>
                  <a:pt x="17753" y="12576"/>
                  <a:pt x="17780" y="12986"/>
                </a:cubicBezTo>
                <a:cubicBezTo>
                  <a:pt x="17797" y="13251"/>
                  <a:pt x="17792" y="13517"/>
                  <a:pt x="17812" y="13780"/>
                </a:cubicBezTo>
                <a:cubicBezTo>
                  <a:pt x="17826" y="13961"/>
                  <a:pt x="17815" y="14141"/>
                  <a:pt x="17844" y="14319"/>
                </a:cubicBezTo>
                <a:cubicBezTo>
                  <a:pt x="17875" y="14507"/>
                  <a:pt x="17900" y="14703"/>
                  <a:pt x="17907" y="14891"/>
                </a:cubicBezTo>
                <a:cubicBezTo>
                  <a:pt x="17913" y="15055"/>
                  <a:pt x="17935" y="15247"/>
                  <a:pt x="17875" y="15399"/>
                </a:cubicBezTo>
                <a:cubicBezTo>
                  <a:pt x="17850" y="15462"/>
                  <a:pt x="17826" y="15459"/>
                  <a:pt x="17780" y="15494"/>
                </a:cubicBezTo>
                <a:cubicBezTo>
                  <a:pt x="17731" y="15532"/>
                  <a:pt x="17663" y="15529"/>
                  <a:pt x="17621" y="15558"/>
                </a:cubicBezTo>
                <a:cubicBezTo>
                  <a:pt x="17545" y="15611"/>
                  <a:pt x="17470" y="15683"/>
                  <a:pt x="17399" y="15748"/>
                </a:cubicBezTo>
                <a:cubicBezTo>
                  <a:pt x="17303" y="15836"/>
                  <a:pt x="17288" y="15841"/>
                  <a:pt x="1717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3"/>
          <p:cNvSpPr/>
          <p:nvPr/>
        </p:nvSpPr>
        <p:spPr>
          <a:xfrm>
            <a:off x="5886360" y="4125960"/>
            <a:ext cx="366840" cy="1589040"/>
          </a:xfrm>
          <a:custGeom>
            <a:avLst/>
            <a:gdLst/>
            <a:ahLst/>
            <a:rect l="l" t="t" r="r" b="b"/>
            <a:pathLst>
              <a:path w="1017" h="4414">
                <a:moveTo>
                  <a:pt x="16796" y="11462"/>
                </a:moveTo>
                <a:cubicBezTo>
                  <a:pt x="16755" y="11503"/>
                  <a:pt x="16728" y="11535"/>
                  <a:pt x="16700" y="11557"/>
                </a:cubicBezTo>
                <a:cubicBezTo>
                  <a:pt x="16661" y="11587"/>
                  <a:pt x="16624" y="11615"/>
                  <a:pt x="16574" y="11620"/>
                </a:cubicBezTo>
                <a:cubicBezTo>
                  <a:pt x="16549" y="11623"/>
                  <a:pt x="16469" y="11639"/>
                  <a:pt x="16446" y="11652"/>
                </a:cubicBezTo>
                <a:cubicBezTo>
                  <a:pt x="16390" y="11684"/>
                  <a:pt x="16383" y="11684"/>
                  <a:pt x="16383" y="11748"/>
                </a:cubicBezTo>
                <a:cubicBezTo>
                  <a:pt x="16383" y="11840"/>
                  <a:pt x="16391" y="11870"/>
                  <a:pt x="16383" y="11970"/>
                </a:cubicBezTo>
                <a:cubicBezTo>
                  <a:pt x="16377" y="12042"/>
                  <a:pt x="16370" y="12071"/>
                  <a:pt x="16351" y="12128"/>
                </a:cubicBezTo>
                <a:cubicBezTo>
                  <a:pt x="16351" y="12139"/>
                  <a:pt x="16351" y="12149"/>
                  <a:pt x="16351" y="12160"/>
                </a:cubicBezTo>
                <a:cubicBezTo>
                  <a:pt x="16381" y="12111"/>
                  <a:pt x="16380" y="12031"/>
                  <a:pt x="16446" y="12002"/>
                </a:cubicBezTo>
                <a:cubicBezTo>
                  <a:pt x="16490" y="11983"/>
                  <a:pt x="16521" y="11970"/>
                  <a:pt x="16574" y="11970"/>
                </a:cubicBezTo>
                <a:cubicBezTo>
                  <a:pt x="16628" y="11970"/>
                  <a:pt x="16663" y="12028"/>
                  <a:pt x="16700" y="12065"/>
                </a:cubicBezTo>
                <a:cubicBezTo>
                  <a:pt x="16746" y="12111"/>
                  <a:pt x="16759" y="12159"/>
                  <a:pt x="16764" y="12224"/>
                </a:cubicBezTo>
                <a:cubicBezTo>
                  <a:pt x="16769" y="12286"/>
                  <a:pt x="16725" y="12389"/>
                  <a:pt x="16700" y="12446"/>
                </a:cubicBezTo>
                <a:cubicBezTo>
                  <a:pt x="16670" y="12515"/>
                  <a:pt x="16620" y="12569"/>
                  <a:pt x="16574" y="12605"/>
                </a:cubicBezTo>
                <a:cubicBezTo>
                  <a:pt x="16504" y="12659"/>
                  <a:pt x="16515" y="12623"/>
                  <a:pt x="16478" y="12605"/>
                </a:cubicBezTo>
                <a:cubicBezTo>
                  <a:pt x="16435" y="12605"/>
                  <a:pt x="16425" y="12594"/>
                  <a:pt x="16446" y="12541"/>
                </a:cubicBezTo>
              </a:path>
              <a:path w="1017" h="4414">
                <a:moveTo>
                  <a:pt x="16828" y="11716"/>
                </a:moveTo>
                <a:cubicBezTo>
                  <a:pt x="16848" y="11709"/>
                  <a:pt x="16906" y="11686"/>
                  <a:pt x="16923" y="11652"/>
                </a:cubicBezTo>
                <a:cubicBezTo>
                  <a:pt x="16947" y="11604"/>
                  <a:pt x="16981" y="11543"/>
                  <a:pt x="17018" y="11494"/>
                </a:cubicBezTo>
                <a:cubicBezTo>
                  <a:pt x="17029" y="11483"/>
                  <a:pt x="17039" y="11473"/>
                  <a:pt x="17050" y="11462"/>
                </a:cubicBezTo>
                <a:cubicBezTo>
                  <a:pt x="17095" y="11522"/>
                  <a:pt x="17082" y="11573"/>
                  <a:pt x="17082" y="11652"/>
                </a:cubicBezTo>
                <a:cubicBezTo>
                  <a:pt x="17082" y="11779"/>
                  <a:pt x="17004" y="11880"/>
                  <a:pt x="16986" y="12002"/>
                </a:cubicBezTo>
                <a:cubicBezTo>
                  <a:pt x="16968" y="12122"/>
                  <a:pt x="16959" y="12234"/>
                  <a:pt x="16923" y="12351"/>
                </a:cubicBezTo>
                <a:cubicBezTo>
                  <a:pt x="16894" y="12444"/>
                  <a:pt x="16872" y="12517"/>
                  <a:pt x="16859" y="12605"/>
                </a:cubicBezTo>
                <a:cubicBezTo>
                  <a:pt x="16912" y="12552"/>
                  <a:pt x="16965" y="12513"/>
                  <a:pt x="17018" y="12478"/>
                </a:cubicBezTo>
                <a:cubicBezTo>
                  <a:pt x="17069" y="12444"/>
                  <a:pt x="17082" y="12446"/>
                  <a:pt x="17145" y="12446"/>
                </a:cubicBezTo>
                <a:cubicBezTo>
                  <a:pt x="17222" y="12446"/>
                  <a:pt x="17205" y="12433"/>
                  <a:pt x="17240" y="12382"/>
                </a:cubicBezTo>
                <a:cubicBezTo>
                  <a:pt x="17285" y="12338"/>
                  <a:pt x="17302" y="12310"/>
                  <a:pt x="17304" y="12256"/>
                </a:cubicBezTo>
              </a:path>
              <a:path w="1017" h="4414">
                <a:moveTo>
                  <a:pt x="16574" y="13240"/>
                </a:moveTo>
                <a:cubicBezTo>
                  <a:pt x="16534" y="13240"/>
                  <a:pt x="16574" y="13236"/>
                  <a:pt x="16574" y="13303"/>
                </a:cubicBezTo>
                <a:cubicBezTo>
                  <a:pt x="16574" y="13535"/>
                  <a:pt x="16489" y="13994"/>
                  <a:pt x="16605" y="14192"/>
                </a:cubicBezTo>
              </a:path>
              <a:path w="1017" h="4414">
                <a:moveTo>
                  <a:pt x="17050" y="13081"/>
                </a:moveTo>
                <a:cubicBezTo>
                  <a:pt x="17034" y="13033"/>
                  <a:pt x="17011" y="13049"/>
                  <a:pt x="16954" y="13049"/>
                </a:cubicBezTo>
                <a:cubicBezTo>
                  <a:pt x="16900" y="13049"/>
                  <a:pt x="16865" y="13107"/>
                  <a:pt x="16828" y="13144"/>
                </a:cubicBezTo>
                <a:cubicBezTo>
                  <a:pt x="16791" y="13181"/>
                  <a:pt x="16748" y="13226"/>
                  <a:pt x="16732" y="13272"/>
                </a:cubicBezTo>
                <a:cubicBezTo>
                  <a:pt x="16707" y="13346"/>
                  <a:pt x="16724" y="13374"/>
                  <a:pt x="16732" y="13462"/>
                </a:cubicBezTo>
                <a:cubicBezTo>
                  <a:pt x="16732" y="13473"/>
                  <a:pt x="16732" y="13483"/>
                  <a:pt x="16732" y="13494"/>
                </a:cubicBezTo>
                <a:cubicBezTo>
                  <a:pt x="16791" y="13494"/>
                  <a:pt x="16814" y="13502"/>
                  <a:pt x="16859" y="13462"/>
                </a:cubicBezTo>
                <a:cubicBezTo>
                  <a:pt x="16918" y="13409"/>
                  <a:pt x="16928" y="13338"/>
                  <a:pt x="16954" y="13272"/>
                </a:cubicBezTo>
                <a:cubicBezTo>
                  <a:pt x="16983" y="13200"/>
                  <a:pt x="17018" y="13189"/>
                  <a:pt x="17018" y="13113"/>
                </a:cubicBezTo>
                <a:cubicBezTo>
                  <a:pt x="17070" y="13130"/>
                  <a:pt x="17050" y="13175"/>
                  <a:pt x="17050" y="13240"/>
                </a:cubicBezTo>
                <a:cubicBezTo>
                  <a:pt x="17050" y="13331"/>
                  <a:pt x="17018" y="13426"/>
                  <a:pt x="17018" y="13526"/>
                </a:cubicBezTo>
                <a:cubicBezTo>
                  <a:pt x="17018" y="13638"/>
                  <a:pt x="17045" y="13735"/>
                  <a:pt x="17050" y="13843"/>
                </a:cubicBezTo>
                <a:cubicBezTo>
                  <a:pt x="17050" y="13928"/>
                  <a:pt x="17050" y="13949"/>
                  <a:pt x="17050" y="14002"/>
                </a:cubicBezTo>
              </a:path>
              <a:path w="1017" h="4414">
                <a:moveTo>
                  <a:pt x="16415" y="15272"/>
                </a:moveTo>
                <a:cubicBezTo>
                  <a:pt x="16342" y="15248"/>
                  <a:pt x="16405" y="15157"/>
                  <a:pt x="16415" y="15081"/>
                </a:cubicBezTo>
                <a:cubicBezTo>
                  <a:pt x="16425" y="15005"/>
                  <a:pt x="16443" y="14956"/>
                  <a:pt x="16478" y="14891"/>
                </a:cubicBezTo>
                <a:cubicBezTo>
                  <a:pt x="16511" y="14830"/>
                  <a:pt x="16499" y="14772"/>
                  <a:pt x="16574" y="14764"/>
                </a:cubicBezTo>
                <a:cubicBezTo>
                  <a:pt x="16616" y="14759"/>
                  <a:pt x="16661" y="14824"/>
                  <a:pt x="16669" y="14859"/>
                </a:cubicBezTo>
                <a:cubicBezTo>
                  <a:pt x="16696" y="14985"/>
                  <a:pt x="16650" y="15119"/>
                  <a:pt x="16637" y="15240"/>
                </a:cubicBezTo>
                <a:cubicBezTo>
                  <a:pt x="16623" y="15370"/>
                  <a:pt x="16591" y="15493"/>
                  <a:pt x="16574" y="15621"/>
                </a:cubicBezTo>
                <a:cubicBezTo>
                  <a:pt x="16564" y="15700"/>
                  <a:pt x="16542" y="15761"/>
                  <a:pt x="16542" y="15843"/>
                </a:cubicBezTo>
                <a:cubicBezTo>
                  <a:pt x="16481" y="15813"/>
                  <a:pt x="16561" y="15805"/>
                  <a:pt x="16574" y="15780"/>
                </a:cubicBezTo>
                <a:cubicBezTo>
                  <a:pt x="16583" y="15763"/>
                  <a:pt x="16623" y="15695"/>
                  <a:pt x="16669" y="15716"/>
                </a:cubicBezTo>
                <a:cubicBezTo>
                  <a:pt x="16717" y="15737"/>
                  <a:pt x="16740" y="15774"/>
                  <a:pt x="16796" y="15780"/>
                </a:cubicBezTo>
                <a:cubicBezTo>
                  <a:pt x="16843" y="15785"/>
                  <a:pt x="16894" y="15791"/>
                  <a:pt x="16923" y="15748"/>
                </a:cubicBezTo>
                <a:cubicBezTo>
                  <a:pt x="16933" y="15727"/>
                  <a:pt x="16944" y="15705"/>
                  <a:pt x="16954" y="15684"/>
                </a:cubicBezTo>
              </a:path>
              <a:path w="1017" h="4414">
                <a:moveTo>
                  <a:pt x="17018" y="14796"/>
                </a:moveTo>
                <a:cubicBezTo>
                  <a:pt x="16930" y="14817"/>
                  <a:pt x="16954" y="14863"/>
                  <a:pt x="16954" y="14954"/>
                </a:cubicBezTo>
                <a:cubicBezTo>
                  <a:pt x="16954" y="15117"/>
                  <a:pt x="16940" y="15274"/>
                  <a:pt x="16986" y="15430"/>
                </a:cubicBezTo>
                <a:cubicBezTo>
                  <a:pt x="17030" y="15576"/>
                  <a:pt x="17032" y="15682"/>
                  <a:pt x="17113" y="15812"/>
                </a:cubicBezTo>
                <a:cubicBezTo>
                  <a:pt x="17138" y="15852"/>
                  <a:pt x="17169" y="15865"/>
                  <a:pt x="17208" y="15875"/>
                </a:cubicBezTo>
                <a:cubicBezTo>
                  <a:pt x="17253" y="15819"/>
                  <a:pt x="17323" y="15726"/>
                  <a:pt x="17336" y="15653"/>
                </a:cubicBezTo>
                <a:cubicBezTo>
                  <a:pt x="17357" y="15536"/>
                  <a:pt x="17367" y="15427"/>
                  <a:pt x="17367" y="15304"/>
                </a:cubicBezTo>
                <a:cubicBezTo>
                  <a:pt x="17367" y="15186"/>
                  <a:pt x="17357" y="15123"/>
                  <a:pt x="17304" y="15018"/>
                </a:cubicBezTo>
                <a:cubicBezTo>
                  <a:pt x="17249" y="14908"/>
                  <a:pt x="17201" y="14878"/>
                  <a:pt x="17113" y="14796"/>
                </a:cubicBezTo>
                <a:cubicBezTo>
                  <a:pt x="17091" y="14776"/>
                  <a:pt x="16982" y="14719"/>
                  <a:pt x="16954" y="14732"/>
                </a:cubicBezTo>
                <a:cubicBezTo>
                  <a:pt x="16926" y="14761"/>
                  <a:pt x="16916" y="14767"/>
                  <a:pt x="16923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4"/>
          <p:cNvSpPr/>
          <p:nvPr/>
        </p:nvSpPr>
        <p:spPr>
          <a:xfrm>
            <a:off x="5246640" y="4264200"/>
            <a:ext cx="308160" cy="1496880"/>
          </a:xfrm>
          <a:custGeom>
            <a:avLst/>
            <a:gdLst/>
            <a:ahLst/>
            <a:rect l="l" t="t" r="r" b="b"/>
            <a:pathLst>
              <a:path w="858" h="4160">
                <a:moveTo>
                  <a:pt x="15335" y="11874"/>
                </a:moveTo>
                <a:cubicBezTo>
                  <a:pt x="15265" y="11874"/>
                  <a:pt x="15292" y="11849"/>
                  <a:pt x="15240" y="11843"/>
                </a:cubicBezTo>
                <a:cubicBezTo>
                  <a:pt x="15185" y="11836"/>
                  <a:pt x="15153" y="11839"/>
                  <a:pt x="15113" y="11874"/>
                </a:cubicBezTo>
                <a:cubicBezTo>
                  <a:pt x="15060" y="11921"/>
                  <a:pt x="15019" y="12003"/>
                  <a:pt x="14986" y="12065"/>
                </a:cubicBezTo>
                <a:cubicBezTo>
                  <a:pt x="14942" y="12147"/>
                  <a:pt x="14927" y="12258"/>
                  <a:pt x="14922" y="12351"/>
                </a:cubicBezTo>
                <a:cubicBezTo>
                  <a:pt x="14916" y="12458"/>
                  <a:pt x="14938" y="12539"/>
                  <a:pt x="14954" y="12636"/>
                </a:cubicBezTo>
                <a:cubicBezTo>
                  <a:pt x="14965" y="12701"/>
                  <a:pt x="14968" y="12758"/>
                  <a:pt x="15050" y="12764"/>
                </a:cubicBezTo>
                <a:cubicBezTo>
                  <a:pt x="15122" y="12769"/>
                  <a:pt x="15166" y="12765"/>
                  <a:pt x="15208" y="12700"/>
                </a:cubicBezTo>
                <a:cubicBezTo>
                  <a:pt x="15269" y="12605"/>
                  <a:pt x="15332" y="12525"/>
                  <a:pt x="15367" y="12414"/>
                </a:cubicBezTo>
                <a:cubicBezTo>
                  <a:pt x="15403" y="12297"/>
                  <a:pt x="15424" y="12154"/>
                  <a:pt x="15430" y="12033"/>
                </a:cubicBezTo>
                <a:cubicBezTo>
                  <a:pt x="15432" y="11996"/>
                  <a:pt x="15429" y="11894"/>
                  <a:pt x="15399" y="11874"/>
                </a:cubicBezTo>
                <a:cubicBezTo>
                  <a:pt x="15350" y="11841"/>
                  <a:pt x="15241" y="11896"/>
                  <a:pt x="15208" y="11906"/>
                </a:cubicBezTo>
                <a:cubicBezTo>
                  <a:pt x="15176" y="11906"/>
                  <a:pt x="15165" y="11906"/>
                  <a:pt x="15176" y="11938"/>
                </a:cubicBezTo>
              </a:path>
              <a:path w="858" h="4160">
                <a:moveTo>
                  <a:pt x="14859" y="13494"/>
                </a:moveTo>
                <a:cubicBezTo>
                  <a:pt x="14807" y="13511"/>
                  <a:pt x="14827" y="13556"/>
                  <a:pt x="14827" y="13621"/>
                </a:cubicBezTo>
                <a:cubicBezTo>
                  <a:pt x="14827" y="13715"/>
                  <a:pt x="14815" y="13845"/>
                  <a:pt x="14796" y="13938"/>
                </a:cubicBezTo>
                <a:cubicBezTo>
                  <a:pt x="14772" y="14051"/>
                  <a:pt x="14764" y="14138"/>
                  <a:pt x="14764" y="14256"/>
                </a:cubicBezTo>
                <a:cubicBezTo>
                  <a:pt x="14764" y="14334"/>
                  <a:pt x="14732" y="14521"/>
                  <a:pt x="14796" y="14542"/>
                </a:cubicBezTo>
              </a:path>
              <a:path w="858" h="4160">
                <a:moveTo>
                  <a:pt x="15335" y="13430"/>
                </a:moveTo>
                <a:cubicBezTo>
                  <a:pt x="15335" y="13409"/>
                  <a:pt x="15335" y="13388"/>
                  <a:pt x="15335" y="13367"/>
                </a:cubicBezTo>
                <a:cubicBezTo>
                  <a:pt x="15301" y="13390"/>
                  <a:pt x="15289" y="13445"/>
                  <a:pt x="15240" y="13494"/>
                </a:cubicBezTo>
                <a:cubicBezTo>
                  <a:pt x="15192" y="13542"/>
                  <a:pt x="15148" y="13595"/>
                  <a:pt x="15113" y="13652"/>
                </a:cubicBezTo>
                <a:cubicBezTo>
                  <a:pt x="15083" y="13703"/>
                  <a:pt x="15046" y="13769"/>
                  <a:pt x="15018" y="13811"/>
                </a:cubicBezTo>
                <a:cubicBezTo>
                  <a:pt x="14979" y="13869"/>
                  <a:pt x="14986" y="13864"/>
                  <a:pt x="15018" y="13906"/>
                </a:cubicBezTo>
                <a:cubicBezTo>
                  <a:pt x="15051" y="13950"/>
                  <a:pt x="15087" y="13996"/>
                  <a:pt x="15113" y="14034"/>
                </a:cubicBezTo>
                <a:cubicBezTo>
                  <a:pt x="15144" y="14079"/>
                  <a:pt x="15191" y="14111"/>
                  <a:pt x="15208" y="14160"/>
                </a:cubicBezTo>
                <a:cubicBezTo>
                  <a:pt x="15234" y="14237"/>
                  <a:pt x="15208" y="14363"/>
                  <a:pt x="15208" y="14446"/>
                </a:cubicBezTo>
                <a:cubicBezTo>
                  <a:pt x="15192" y="14397"/>
                  <a:pt x="15176" y="14420"/>
                  <a:pt x="15176" y="14351"/>
                </a:cubicBezTo>
                <a:cubicBezTo>
                  <a:pt x="15176" y="14257"/>
                  <a:pt x="15150" y="14187"/>
                  <a:pt x="15145" y="14097"/>
                </a:cubicBezTo>
                <a:cubicBezTo>
                  <a:pt x="15139" y="13993"/>
                  <a:pt x="15171" y="13914"/>
                  <a:pt x="15176" y="13811"/>
                </a:cubicBezTo>
                <a:cubicBezTo>
                  <a:pt x="15181" y="13708"/>
                  <a:pt x="15218" y="13621"/>
                  <a:pt x="15240" y="13526"/>
                </a:cubicBezTo>
                <a:cubicBezTo>
                  <a:pt x="15240" y="13481"/>
                  <a:pt x="15246" y="13458"/>
                  <a:pt x="15272" y="13430"/>
                </a:cubicBezTo>
              </a:path>
              <a:path w="858" h="4160">
                <a:moveTo>
                  <a:pt x="14573" y="15304"/>
                </a:moveTo>
                <a:cubicBezTo>
                  <a:pt x="14573" y="15256"/>
                  <a:pt x="14586" y="15183"/>
                  <a:pt x="14605" y="15145"/>
                </a:cubicBezTo>
                <a:cubicBezTo>
                  <a:pt x="14628" y="15100"/>
                  <a:pt x="14717" y="15072"/>
                  <a:pt x="14732" y="15050"/>
                </a:cubicBezTo>
                <a:cubicBezTo>
                  <a:pt x="14759" y="15009"/>
                  <a:pt x="14771" y="15048"/>
                  <a:pt x="14796" y="15081"/>
                </a:cubicBezTo>
                <a:cubicBezTo>
                  <a:pt x="14854" y="15160"/>
                  <a:pt x="14827" y="15299"/>
                  <a:pt x="14827" y="15399"/>
                </a:cubicBezTo>
                <a:cubicBezTo>
                  <a:pt x="14827" y="15532"/>
                  <a:pt x="14782" y="15651"/>
                  <a:pt x="14764" y="15780"/>
                </a:cubicBezTo>
                <a:cubicBezTo>
                  <a:pt x="14754" y="15850"/>
                  <a:pt x="14769" y="15914"/>
                  <a:pt x="14732" y="15970"/>
                </a:cubicBezTo>
                <a:cubicBezTo>
                  <a:pt x="14721" y="15981"/>
                  <a:pt x="14711" y="15991"/>
                  <a:pt x="14700" y="16002"/>
                </a:cubicBezTo>
                <a:cubicBezTo>
                  <a:pt x="14739" y="15973"/>
                  <a:pt x="14778" y="15944"/>
                  <a:pt x="14827" y="15938"/>
                </a:cubicBezTo>
                <a:cubicBezTo>
                  <a:pt x="14878" y="15932"/>
                  <a:pt x="14934" y="15938"/>
                  <a:pt x="14986" y="15938"/>
                </a:cubicBezTo>
              </a:path>
              <a:path w="858" h="4160">
                <a:moveTo>
                  <a:pt x="15240" y="15050"/>
                </a:moveTo>
                <a:cubicBezTo>
                  <a:pt x="15224" y="15001"/>
                  <a:pt x="15211" y="15013"/>
                  <a:pt x="15176" y="14986"/>
                </a:cubicBezTo>
                <a:cubicBezTo>
                  <a:pt x="15123" y="14946"/>
                  <a:pt x="15103" y="14939"/>
                  <a:pt x="15050" y="14986"/>
                </a:cubicBezTo>
                <a:cubicBezTo>
                  <a:pt x="14998" y="15032"/>
                  <a:pt x="14973" y="15139"/>
                  <a:pt x="14986" y="15208"/>
                </a:cubicBezTo>
                <a:cubicBezTo>
                  <a:pt x="15000" y="15282"/>
                  <a:pt x="15031" y="15366"/>
                  <a:pt x="15050" y="15430"/>
                </a:cubicBezTo>
                <a:cubicBezTo>
                  <a:pt x="15050" y="15466"/>
                  <a:pt x="15053" y="15480"/>
                  <a:pt x="15081" y="15494"/>
                </a:cubicBezTo>
                <a:cubicBezTo>
                  <a:pt x="15127" y="15494"/>
                  <a:pt x="15192" y="15487"/>
                  <a:pt x="15208" y="15430"/>
                </a:cubicBezTo>
                <a:cubicBezTo>
                  <a:pt x="15229" y="15358"/>
                  <a:pt x="15240" y="15285"/>
                  <a:pt x="15240" y="15208"/>
                </a:cubicBezTo>
                <a:cubicBezTo>
                  <a:pt x="15240" y="15155"/>
                  <a:pt x="15240" y="15145"/>
                  <a:pt x="15240" y="15113"/>
                </a:cubicBezTo>
                <a:cubicBezTo>
                  <a:pt x="15306" y="15135"/>
                  <a:pt x="15257" y="15202"/>
                  <a:pt x="15272" y="15272"/>
                </a:cubicBezTo>
                <a:cubicBezTo>
                  <a:pt x="15303" y="15412"/>
                  <a:pt x="15304" y="15538"/>
                  <a:pt x="15304" y="15684"/>
                </a:cubicBezTo>
                <a:cubicBezTo>
                  <a:pt x="15304" y="15792"/>
                  <a:pt x="15333" y="15868"/>
                  <a:pt x="15367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yearly sales of belts, hats, pants and shirts at a local store over three yea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item shows a decrease in yearly sales from Year 1 to Year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914400" y="2133720"/>
          <a:ext cx="7543800" cy="27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5438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Ink 7"/>
          <p:cNvSpPr/>
          <p:nvPr/>
        </p:nvSpPr>
        <p:spPr>
          <a:xfrm>
            <a:off x="3875040" y="2846520"/>
            <a:ext cx="354240" cy="1954080"/>
          </a:xfrm>
          <a:custGeom>
            <a:avLst/>
            <a:gdLst/>
            <a:ahLst/>
            <a:rect l="l" t="t" r="r" b="b"/>
            <a:pathLst>
              <a:path w="986" h="5430">
                <a:moveTo>
                  <a:pt x="11176" y="8033"/>
                </a:moveTo>
                <a:cubicBezTo>
                  <a:pt x="11176" y="8103"/>
                  <a:pt x="11148" y="8152"/>
                  <a:pt x="11144" y="8223"/>
                </a:cubicBezTo>
                <a:cubicBezTo>
                  <a:pt x="11139" y="8312"/>
                  <a:pt x="11130" y="8420"/>
                  <a:pt x="11112" y="8509"/>
                </a:cubicBezTo>
                <a:cubicBezTo>
                  <a:pt x="11091" y="8612"/>
                  <a:pt x="11081" y="8688"/>
                  <a:pt x="11081" y="8795"/>
                </a:cubicBezTo>
                <a:cubicBezTo>
                  <a:pt x="11081" y="8848"/>
                  <a:pt x="11068" y="8843"/>
                  <a:pt x="11112" y="8858"/>
                </a:cubicBezTo>
              </a:path>
              <a:path w="986" h="5430">
                <a:moveTo>
                  <a:pt x="10795" y="8318"/>
                </a:moveTo>
                <a:cubicBezTo>
                  <a:pt x="10842" y="8283"/>
                  <a:pt x="10876" y="8268"/>
                  <a:pt x="10922" y="8223"/>
                </a:cubicBezTo>
                <a:cubicBezTo>
                  <a:pt x="10981" y="8165"/>
                  <a:pt x="11020" y="8115"/>
                  <a:pt x="11081" y="8064"/>
                </a:cubicBezTo>
                <a:cubicBezTo>
                  <a:pt x="11123" y="8029"/>
                  <a:pt x="11180" y="7924"/>
                  <a:pt x="11208" y="7906"/>
                </a:cubicBezTo>
                <a:cubicBezTo>
                  <a:pt x="11219" y="7906"/>
                  <a:pt x="11229" y="7906"/>
                  <a:pt x="11240" y="7906"/>
                </a:cubicBezTo>
                <a:cubicBezTo>
                  <a:pt x="11240" y="8007"/>
                  <a:pt x="11226" y="8108"/>
                  <a:pt x="11271" y="8192"/>
                </a:cubicBezTo>
                <a:cubicBezTo>
                  <a:pt x="11310" y="8264"/>
                  <a:pt x="11346" y="8351"/>
                  <a:pt x="11398" y="8414"/>
                </a:cubicBezTo>
                <a:cubicBezTo>
                  <a:pt x="11419" y="8435"/>
                  <a:pt x="11441" y="8456"/>
                  <a:pt x="11462" y="8477"/>
                </a:cubicBezTo>
              </a:path>
              <a:path w="986" h="5430">
                <a:moveTo>
                  <a:pt x="11081" y="9334"/>
                </a:moveTo>
                <a:cubicBezTo>
                  <a:pt x="11081" y="9451"/>
                  <a:pt x="11067" y="9544"/>
                  <a:pt x="11049" y="9652"/>
                </a:cubicBezTo>
                <a:cubicBezTo>
                  <a:pt x="11037" y="9721"/>
                  <a:pt x="11049" y="10003"/>
                  <a:pt x="11049" y="9970"/>
                </a:cubicBezTo>
              </a:path>
              <a:path w="986" h="5430">
                <a:moveTo>
                  <a:pt x="10795" y="9525"/>
                </a:moveTo>
                <a:cubicBezTo>
                  <a:pt x="10760" y="9513"/>
                  <a:pt x="10740" y="9453"/>
                  <a:pt x="10763" y="9398"/>
                </a:cubicBezTo>
                <a:cubicBezTo>
                  <a:pt x="10778" y="9362"/>
                  <a:pt x="10885" y="9340"/>
                  <a:pt x="10922" y="9303"/>
                </a:cubicBezTo>
                <a:cubicBezTo>
                  <a:pt x="10959" y="9266"/>
                  <a:pt x="11003" y="9223"/>
                  <a:pt x="11049" y="9208"/>
                </a:cubicBezTo>
                <a:cubicBezTo>
                  <a:pt x="11104" y="9190"/>
                  <a:pt x="11091" y="9216"/>
                  <a:pt x="11144" y="9176"/>
                </a:cubicBezTo>
                <a:cubicBezTo>
                  <a:pt x="11202" y="9234"/>
                  <a:pt x="11221" y="9285"/>
                  <a:pt x="11240" y="9366"/>
                </a:cubicBezTo>
                <a:cubicBezTo>
                  <a:pt x="11263" y="9465"/>
                  <a:pt x="11293" y="9583"/>
                  <a:pt x="11303" y="9684"/>
                </a:cubicBezTo>
                <a:cubicBezTo>
                  <a:pt x="11303" y="9726"/>
                  <a:pt x="11303" y="9769"/>
                  <a:pt x="11303" y="9811"/>
                </a:cubicBezTo>
              </a:path>
              <a:path w="986" h="5430">
                <a:moveTo>
                  <a:pt x="11144" y="11240"/>
                </a:moveTo>
                <a:cubicBezTo>
                  <a:pt x="11068" y="11221"/>
                  <a:pt x="11081" y="11189"/>
                  <a:pt x="11081" y="11112"/>
                </a:cubicBezTo>
                <a:cubicBezTo>
                  <a:pt x="11081" y="11017"/>
                  <a:pt x="11098" y="10946"/>
                  <a:pt x="11112" y="10858"/>
                </a:cubicBezTo>
                <a:cubicBezTo>
                  <a:pt x="11127" y="10765"/>
                  <a:pt x="11099" y="10504"/>
                  <a:pt x="11112" y="10509"/>
                </a:cubicBezTo>
                <a:cubicBezTo>
                  <a:pt x="11123" y="10509"/>
                  <a:pt x="11133" y="10509"/>
                  <a:pt x="11144" y="10509"/>
                </a:cubicBezTo>
              </a:path>
              <a:path w="986" h="5430">
                <a:moveTo>
                  <a:pt x="10795" y="10636"/>
                </a:moveTo>
                <a:cubicBezTo>
                  <a:pt x="10750" y="10613"/>
                  <a:pt x="10815" y="10585"/>
                  <a:pt x="10858" y="10541"/>
                </a:cubicBezTo>
                <a:cubicBezTo>
                  <a:pt x="10908" y="10490"/>
                  <a:pt x="10969" y="10489"/>
                  <a:pt x="11017" y="10446"/>
                </a:cubicBezTo>
                <a:cubicBezTo>
                  <a:pt x="11052" y="10414"/>
                  <a:pt x="11098" y="10387"/>
                  <a:pt x="11144" y="10382"/>
                </a:cubicBezTo>
                <a:cubicBezTo>
                  <a:pt x="11155" y="10382"/>
                  <a:pt x="11165" y="10382"/>
                  <a:pt x="11176" y="10382"/>
                </a:cubicBezTo>
                <a:cubicBezTo>
                  <a:pt x="11176" y="10443"/>
                  <a:pt x="11202" y="10483"/>
                  <a:pt x="11208" y="10541"/>
                </a:cubicBezTo>
                <a:cubicBezTo>
                  <a:pt x="11214" y="10604"/>
                  <a:pt x="11244" y="10674"/>
                  <a:pt x="11271" y="10732"/>
                </a:cubicBezTo>
                <a:cubicBezTo>
                  <a:pt x="11311" y="10818"/>
                  <a:pt x="11357" y="10870"/>
                  <a:pt x="11430" y="10922"/>
                </a:cubicBezTo>
              </a:path>
              <a:path w="986" h="5430">
                <a:moveTo>
                  <a:pt x="11366" y="11716"/>
                </a:moveTo>
                <a:cubicBezTo>
                  <a:pt x="11400" y="11762"/>
                  <a:pt x="11422" y="11848"/>
                  <a:pt x="11430" y="11906"/>
                </a:cubicBezTo>
                <a:cubicBezTo>
                  <a:pt x="11448" y="12040"/>
                  <a:pt x="11410" y="12160"/>
                  <a:pt x="11398" y="12287"/>
                </a:cubicBezTo>
                <a:cubicBezTo>
                  <a:pt x="11388" y="12391"/>
                  <a:pt x="11346" y="13085"/>
                  <a:pt x="11430" y="13113"/>
                </a:cubicBezTo>
              </a:path>
              <a:path w="986" h="5430">
                <a:moveTo>
                  <a:pt x="11081" y="12700"/>
                </a:moveTo>
                <a:cubicBezTo>
                  <a:pt x="11045" y="12700"/>
                  <a:pt x="11031" y="12703"/>
                  <a:pt x="11017" y="12732"/>
                </a:cubicBezTo>
                <a:cubicBezTo>
                  <a:pt x="11060" y="12789"/>
                  <a:pt x="11052" y="12830"/>
                  <a:pt x="11081" y="12890"/>
                </a:cubicBezTo>
                <a:cubicBezTo>
                  <a:pt x="11113" y="12956"/>
                  <a:pt x="11172" y="13014"/>
                  <a:pt x="11208" y="13081"/>
                </a:cubicBezTo>
                <a:cubicBezTo>
                  <a:pt x="11244" y="13148"/>
                  <a:pt x="11260" y="13220"/>
                  <a:pt x="11303" y="13272"/>
                </a:cubicBezTo>
                <a:cubicBezTo>
                  <a:pt x="11335" y="13311"/>
                  <a:pt x="11355" y="13324"/>
                  <a:pt x="11398" y="13335"/>
                </a:cubicBezTo>
                <a:cubicBezTo>
                  <a:pt x="11398" y="13277"/>
                  <a:pt x="11426" y="13260"/>
                  <a:pt x="11430" y="13208"/>
                </a:cubicBezTo>
                <a:cubicBezTo>
                  <a:pt x="11438" y="13095"/>
                  <a:pt x="11495" y="13018"/>
                  <a:pt x="11557" y="12922"/>
                </a:cubicBezTo>
                <a:cubicBezTo>
                  <a:pt x="11617" y="12830"/>
                  <a:pt x="11675" y="12749"/>
                  <a:pt x="11748" y="12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6526080" y="5646600"/>
            <a:ext cx="1498680" cy="685800"/>
          </a:xfrm>
          <a:custGeom>
            <a:avLst/>
            <a:gdLst/>
            <a:ahLst/>
            <a:rect l="l" t="t" r="r" b="b"/>
            <a:pathLst>
              <a:path w="4160" h="1907">
                <a:moveTo>
                  <a:pt x="18732" y="15938"/>
                </a:moveTo>
                <a:cubicBezTo>
                  <a:pt x="18711" y="15917"/>
                  <a:pt x="18690" y="15896"/>
                  <a:pt x="18669" y="15875"/>
                </a:cubicBezTo>
                <a:cubicBezTo>
                  <a:pt x="18661" y="15867"/>
                  <a:pt x="18601" y="15817"/>
                  <a:pt x="18574" y="15812"/>
                </a:cubicBezTo>
                <a:cubicBezTo>
                  <a:pt x="18505" y="15798"/>
                  <a:pt x="18411" y="15807"/>
                  <a:pt x="18352" y="15843"/>
                </a:cubicBezTo>
                <a:cubicBezTo>
                  <a:pt x="18297" y="15877"/>
                  <a:pt x="18210" y="15942"/>
                  <a:pt x="18193" y="16002"/>
                </a:cubicBezTo>
                <a:cubicBezTo>
                  <a:pt x="18175" y="16066"/>
                  <a:pt x="18144" y="16124"/>
                  <a:pt x="18129" y="16192"/>
                </a:cubicBezTo>
                <a:cubicBezTo>
                  <a:pt x="18113" y="16265"/>
                  <a:pt x="18137" y="16352"/>
                  <a:pt x="18161" y="16415"/>
                </a:cubicBezTo>
                <a:cubicBezTo>
                  <a:pt x="18182" y="16470"/>
                  <a:pt x="18237" y="16542"/>
                  <a:pt x="18288" y="16574"/>
                </a:cubicBezTo>
                <a:cubicBezTo>
                  <a:pt x="18336" y="16604"/>
                  <a:pt x="18392" y="16588"/>
                  <a:pt x="18447" y="16605"/>
                </a:cubicBezTo>
                <a:cubicBezTo>
                  <a:pt x="18521" y="16627"/>
                  <a:pt x="18600" y="16630"/>
                  <a:pt x="18669" y="16669"/>
                </a:cubicBezTo>
                <a:cubicBezTo>
                  <a:pt x="18735" y="16706"/>
                  <a:pt x="18778" y="16805"/>
                  <a:pt x="18796" y="16859"/>
                </a:cubicBezTo>
                <a:cubicBezTo>
                  <a:pt x="18825" y="16950"/>
                  <a:pt x="18851" y="17080"/>
                  <a:pt x="18828" y="17177"/>
                </a:cubicBezTo>
                <a:cubicBezTo>
                  <a:pt x="18801" y="17287"/>
                  <a:pt x="18710" y="17414"/>
                  <a:pt x="18637" y="17494"/>
                </a:cubicBezTo>
                <a:cubicBezTo>
                  <a:pt x="18566" y="17572"/>
                  <a:pt x="18545" y="17581"/>
                  <a:pt x="18447" y="17590"/>
                </a:cubicBezTo>
                <a:cubicBezTo>
                  <a:pt x="18338" y="17600"/>
                  <a:pt x="18292" y="17520"/>
                  <a:pt x="18256" y="17431"/>
                </a:cubicBezTo>
                <a:cubicBezTo>
                  <a:pt x="18198" y="17287"/>
                  <a:pt x="18193" y="17172"/>
                  <a:pt x="18193" y="17018"/>
                </a:cubicBezTo>
                <a:cubicBezTo>
                  <a:pt x="18193" y="16888"/>
                  <a:pt x="18199" y="16796"/>
                  <a:pt x="18224" y="16669"/>
                </a:cubicBezTo>
              </a:path>
              <a:path w="4160" h="1907">
                <a:moveTo>
                  <a:pt x="18923" y="16097"/>
                </a:moveTo>
                <a:cubicBezTo>
                  <a:pt x="18963" y="16155"/>
                  <a:pt x="18981" y="16198"/>
                  <a:pt x="19018" y="16288"/>
                </a:cubicBezTo>
                <a:cubicBezTo>
                  <a:pt x="19061" y="16393"/>
                  <a:pt x="19086" y="16522"/>
                  <a:pt x="19114" y="16637"/>
                </a:cubicBezTo>
                <a:cubicBezTo>
                  <a:pt x="19152" y="16794"/>
                  <a:pt x="19140" y="16960"/>
                  <a:pt x="19177" y="17113"/>
                </a:cubicBezTo>
                <a:cubicBezTo>
                  <a:pt x="19198" y="17202"/>
                  <a:pt x="19209" y="17273"/>
                  <a:pt x="19209" y="17367"/>
                </a:cubicBezTo>
                <a:cubicBezTo>
                  <a:pt x="19203" y="17313"/>
                  <a:pt x="19182" y="17256"/>
                  <a:pt x="19177" y="17208"/>
                </a:cubicBezTo>
                <a:cubicBezTo>
                  <a:pt x="19155" y="17008"/>
                  <a:pt x="19179" y="16794"/>
                  <a:pt x="19209" y="16605"/>
                </a:cubicBezTo>
                <a:cubicBezTo>
                  <a:pt x="19215" y="16567"/>
                  <a:pt x="19223" y="16464"/>
                  <a:pt x="19272" y="16446"/>
                </a:cubicBezTo>
                <a:cubicBezTo>
                  <a:pt x="19314" y="16431"/>
                  <a:pt x="19402" y="16449"/>
                  <a:pt x="19431" y="16478"/>
                </a:cubicBezTo>
                <a:cubicBezTo>
                  <a:pt x="19494" y="16542"/>
                  <a:pt x="19559" y="16684"/>
                  <a:pt x="19590" y="16764"/>
                </a:cubicBezTo>
                <a:cubicBezTo>
                  <a:pt x="19644" y="16902"/>
                  <a:pt x="19655" y="17037"/>
                  <a:pt x="19685" y="17177"/>
                </a:cubicBezTo>
                <a:cubicBezTo>
                  <a:pt x="19704" y="17266"/>
                  <a:pt x="19710" y="17381"/>
                  <a:pt x="19748" y="17462"/>
                </a:cubicBezTo>
                <a:cubicBezTo>
                  <a:pt x="19748" y="17494"/>
                  <a:pt x="19748" y="17505"/>
                  <a:pt x="19780" y="17494"/>
                </a:cubicBezTo>
                <a:cubicBezTo>
                  <a:pt x="19818" y="17429"/>
                  <a:pt x="19811" y="17427"/>
                  <a:pt x="19844" y="17336"/>
                </a:cubicBezTo>
              </a:path>
              <a:path w="4160" h="1907">
                <a:moveTo>
                  <a:pt x="19971" y="16320"/>
                </a:moveTo>
                <a:cubicBezTo>
                  <a:pt x="19923" y="16399"/>
                  <a:pt x="19950" y="16510"/>
                  <a:pt x="19971" y="16605"/>
                </a:cubicBezTo>
                <a:cubicBezTo>
                  <a:pt x="20000" y="16740"/>
                  <a:pt x="20011" y="16857"/>
                  <a:pt x="20066" y="16986"/>
                </a:cubicBezTo>
                <a:cubicBezTo>
                  <a:pt x="20100" y="17065"/>
                  <a:pt x="20121" y="17124"/>
                  <a:pt x="20130" y="17208"/>
                </a:cubicBezTo>
              </a:path>
              <a:path w="4160" h="1907">
                <a:moveTo>
                  <a:pt x="20352" y="16478"/>
                </a:moveTo>
                <a:cubicBezTo>
                  <a:pt x="20368" y="16542"/>
                  <a:pt x="20391" y="16600"/>
                  <a:pt x="20415" y="16669"/>
                </a:cubicBezTo>
                <a:cubicBezTo>
                  <a:pt x="20451" y="16774"/>
                  <a:pt x="20478" y="16884"/>
                  <a:pt x="20510" y="16986"/>
                </a:cubicBezTo>
                <a:cubicBezTo>
                  <a:pt x="20534" y="17060"/>
                  <a:pt x="20566" y="17138"/>
                  <a:pt x="20574" y="17208"/>
                </a:cubicBezTo>
                <a:cubicBezTo>
                  <a:pt x="20574" y="17219"/>
                  <a:pt x="20574" y="17229"/>
                  <a:pt x="20574" y="17240"/>
                </a:cubicBezTo>
                <a:cubicBezTo>
                  <a:pt x="20510" y="17160"/>
                  <a:pt x="20488" y="17057"/>
                  <a:pt x="20479" y="16954"/>
                </a:cubicBezTo>
                <a:cubicBezTo>
                  <a:pt x="20460" y="16750"/>
                  <a:pt x="20487" y="16550"/>
                  <a:pt x="20510" y="16351"/>
                </a:cubicBezTo>
                <a:cubicBezTo>
                  <a:pt x="20522" y="16251"/>
                  <a:pt x="20535" y="16200"/>
                  <a:pt x="20606" y="16129"/>
                </a:cubicBezTo>
                <a:cubicBezTo>
                  <a:pt x="20668" y="16068"/>
                  <a:pt x="20673" y="16109"/>
                  <a:pt x="20733" y="16129"/>
                </a:cubicBezTo>
                <a:cubicBezTo>
                  <a:pt x="20778" y="16129"/>
                  <a:pt x="20800" y="16135"/>
                  <a:pt x="20828" y="16161"/>
                </a:cubicBezTo>
              </a:path>
              <a:path w="4160" h="1907">
                <a:moveTo>
                  <a:pt x="21177" y="15684"/>
                </a:moveTo>
                <a:cubicBezTo>
                  <a:pt x="21177" y="15765"/>
                  <a:pt x="21155" y="15828"/>
                  <a:pt x="21146" y="15907"/>
                </a:cubicBezTo>
                <a:cubicBezTo>
                  <a:pt x="21123" y="16109"/>
                  <a:pt x="21162" y="16311"/>
                  <a:pt x="21177" y="16510"/>
                </a:cubicBezTo>
                <a:cubicBezTo>
                  <a:pt x="21191" y="16702"/>
                  <a:pt x="21222" y="16892"/>
                  <a:pt x="21241" y="17082"/>
                </a:cubicBezTo>
                <a:cubicBezTo>
                  <a:pt x="21250" y="17178"/>
                  <a:pt x="21263" y="17373"/>
                  <a:pt x="21368" y="17431"/>
                </a:cubicBezTo>
                <a:cubicBezTo>
                  <a:pt x="21421" y="17460"/>
                  <a:pt x="21424" y="17453"/>
                  <a:pt x="21463" y="17431"/>
                </a:cubicBezTo>
                <a:cubicBezTo>
                  <a:pt x="21512" y="17404"/>
                  <a:pt x="21495" y="17350"/>
                  <a:pt x="21495" y="17304"/>
                </a:cubicBezTo>
              </a:path>
              <a:path w="4160" h="1907">
                <a:moveTo>
                  <a:pt x="20987" y="16796"/>
                </a:moveTo>
                <a:cubicBezTo>
                  <a:pt x="21057" y="16778"/>
                  <a:pt x="21084" y="16710"/>
                  <a:pt x="21146" y="16669"/>
                </a:cubicBezTo>
                <a:cubicBezTo>
                  <a:pt x="21255" y="16596"/>
                  <a:pt x="21357" y="16524"/>
                  <a:pt x="21463" y="16446"/>
                </a:cubicBezTo>
              </a:path>
              <a:path w="4160" h="1907">
                <a:moveTo>
                  <a:pt x="22098" y="15970"/>
                </a:moveTo>
                <a:cubicBezTo>
                  <a:pt x="22053" y="15996"/>
                  <a:pt x="21985" y="16028"/>
                  <a:pt x="21939" y="16066"/>
                </a:cubicBezTo>
                <a:cubicBezTo>
                  <a:pt x="21827" y="16158"/>
                  <a:pt x="21744" y="16276"/>
                  <a:pt x="21654" y="16383"/>
                </a:cubicBezTo>
                <a:cubicBezTo>
                  <a:pt x="21601" y="16446"/>
                  <a:pt x="21577" y="16446"/>
                  <a:pt x="21526" y="16478"/>
                </a:cubicBezTo>
                <a:cubicBezTo>
                  <a:pt x="21568" y="16503"/>
                  <a:pt x="21632" y="16533"/>
                  <a:pt x="21685" y="16542"/>
                </a:cubicBezTo>
                <a:cubicBezTo>
                  <a:pt x="21762" y="16555"/>
                  <a:pt x="21838" y="16588"/>
                  <a:pt x="21908" y="16637"/>
                </a:cubicBezTo>
                <a:cubicBezTo>
                  <a:pt x="21973" y="16682"/>
                  <a:pt x="22080" y="16738"/>
                  <a:pt x="22130" y="16796"/>
                </a:cubicBezTo>
                <a:cubicBezTo>
                  <a:pt x="22175" y="16847"/>
                  <a:pt x="22227" y="16936"/>
                  <a:pt x="22257" y="16986"/>
                </a:cubicBezTo>
                <a:cubicBezTo>
                  <a:pt x="22311" y="17077"/>
                  <a:pt x="22296" y="17179"/>
                  <a:pt x="22257" y="17272"/>
                </a:cubicBezTo>
                <a:cubicBezTo>
                  <a:pt x="22217" y="17367"/>
                  <a:pt x="22170" y="17422"/>
                  <a:pt x="22098" y="17494"/>
                </a:cubicBezTo>
                <a:cubicBezTo>
                  <a:pt x="22016" y="17576"/>
                  <a:pt x="21990" y="17542"/>
                  <a:pt x="21908" y="17526"/>
                </a:cubicBezTo>
                <a:cubicBezTo>
                  <a:pt x="21806" y="17505"/>
                  <a:pt x="21785" y="17483"/>
                  <a:pt x="21780" y="17367"/>
                </a:cubicBezTo>
                <a:cubicBezTo>
                  <a:pt x="21775" y="17264"/>
                  <a:pt x="21771" y="17175"/>
                  <a:pt x="21812" y="17082"/>
                </a:cubicBezTo>
                <a:cubicBezTo>
                  <a:pt x="21860" y="16974"/>
                  <a:pt x="21846" y="17042"/>
                  <a:pt x="21939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80880" y="4648320"/>
            <a:ext cx="8382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matrix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ich day were the least number of pastries sol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057400"/>
          <a:ext cx="563904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Ink 154"/>
          <p:cNvSpPr/>
          <p:nvPr/>
        </p:nvSpPr>
        <p:spPr>
          <a:xfrm>
            <a:off x="4343400" y="5761080"/>
            <a:ext cx="2343240" cy="136440"/>
          </a:xfrm>
          <a:custGeom>
            <a:avLst/>
            <a:gdLst/>
            <a:ahLst/>
            <a:rect l="l" t="t" r="r" b="b"/>
            <a:pathLst>
              <a:path w="6510" h="382">
                <a:moveTo>
                  <a:pt x="12097" y="16066"/>
                </a:moveTo>
                <a:cubicBezTo>
                  <a:pt x="12086" y="16066"/>
                  <a:pt x="12076" y="16066"/>
                  <a:pt x="12065" y="16066"/>
                </a:cubicBezTo>
                <a:cubicBezTo>
                  <a:pt x="12109" y="16062"/>
                  <a:pt x="12130" y="16081"/>
                  <a:pt x="12192" y="16066"/>
                </a:cubicBezTo>
                <a:cubicBezTo>
                  <a:pt x="12242" y="16054"/>
                  <a:pt x="12298" y="16050"/>
                  <a:pt x="12351" y="16034"/>
                </a:cubicBezTo>
                <a:cubicBezTo>
                  <a:pt x="12430" y="16010"/>
                  <a:pt x="12452" y="16011"/>
                  <a:pt x="12541" y="16034"/>
                </a:cubicBezTo>
                <a:cubicBezTo>
                  <a:pt x="12610" y="16052"/>
                  <a:pt x="12691" y="16089"/>
                  <a:pt x="12764" y="16097"/>
                </a:cubicBezTo>
                <a:cubicBezTo>
                  <a:pt x="12854" y="16107"/>
                  <a:pt x="12932" y="16110"/>
                  <a:pt x="13018" y="16129"/>
                </a:cubicBezTo>
                <a:cubicBezTo>
                  <a:pt x="13115" y="16151"/>
                  <a:pt x="13201" y="16146"/>
                  <a:pt x="13303" y="16161"/>
                </a:cubicBezTo>
                <a:cubicBezTo>
                  <a:pt x="13423" y="16179"/>
                  <a:pt x="13535" y="16228"/>
                  <a:pt x="13652" y="16256"/>
                </a:cubicBezTo>
                <a:cubicBezTo>
                  <a:pt x="13753" y="16280"/>
                  <a:pt x="13898" y="16311"/>
                  <a:pt x="14002" y="16320"/>
                </a:cubicBezTo>
                <a:cubicBezTo>
                  <a:pt x="14111" y="16330"/>
                  <a:pt x="14212" y="16334"/>
                  <a:pt x="14319" y="16351"/>
                </a:cubicBezTo>
                <a:cubicBezTo>
                  <a:pt x="14440" y="16370"/>
                  <a:pt x="14543" y="16381"/>
                  <a:pt x="14668" y="16383"/>
                </a:cubicBezTo>
                <a:cubicBezTo>
                  <a:pt x="15065" y="16391"/>
                  <a:pt x="15487" y="16413"/>
                  <a:pt x="15875" y="16351"/>
                </a:cubicBezTo>
                <a:cubicBezTo>
                  <a:pt x="15991" y="16332"/>
                  <a:pt x="16107" y="16336"/>
                  <a:pt x="16224" y="16320"/>
                </a:cubicBezTo>
                <a:cubicBezTo>
                  <a:pt x="16357" y="16301"/>
                  <a:pt x="16508" y="16286"/>
                  <a:pt x="16637" y="16256"/>
                </a:cubicBezTo>
                <a:cubicBezTo>
                  <a:pt x="16774" y="16224"/>
                  <a:pt x="16911" y="16174"/>
                  <a:pt x="17050" y="16161"/>
                </a:cubicBezTo>
                <a:cubicBezTo>
                  <a:pt x="17265" y="16141"/>
                  <a:pt x="17478" y="16180"/>
                  <a:pt x="17685" y="16192"/>
                </a:cubicBezTo>
                <a:cubicBezTo>
                  <a:pt x="17929" y="16206"/>
                  <a:pt x="18191" y="16180"/>
                  <a:pt x="18415" y="16161"/>
                </a:cubicBezTo>
                <a:cubicBezTo>
                  <a:pt x="18486" y="16155"/>
                  <a:pt x="18516" y="16148"/>
                  <a:pt x="18574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55"/>
          <p:cNvSpPr/>
          <p:nvPr/>
        </p:nvSpPr>
        <p:spPr>
          <a:xfrm>
            <a:off x="3006720" y="3657600"/>
            <a:ext cx="1589040" cy="938160"/>
          </a:xfrm>
          <a:custGeom>
            <a:avLst/>
            <a:gdLst/>
            <a:ahLst/>
            <a:rect l="l" t="t" r="r" b="b"/>
            <a:pathLst>
              <a:path w="4415" h="2605">
                <a:moveTo>
                  <a:pt x="8572" y="11335"/>
                </a:moveTo>
                <a:cubicBezTo>
                  <a:pt x="8572" y="11303"/>
                  <a:pt x="8572" y="11293"/>
                  <a:pt x="8541" y="11303"/>
                </a:cubicBezTo>
                <a:cubicBezTo>
                  <a:pt x="8602" y="11266"/>
                  <a:pt x="8620" y="11271"/>
                  <a:pt x="8700" y="11271"/>
                </a:cubicBezTo>
                <a:cubicBezTo>
                  <a:pt x="8915" y="11271"/>
                  <a:pt x="9123" y="11287"/>
                  <a:pt x="9334" y="11303"/>
                </a:cubicBezTo>
                <a:cubicBezTo>
                  <a:pt x="9547" y="11319"/>
                  <a:pt x="9758" y="11350"/>
                  <a:pt x="9970" y="11366"/>
                </a:cubicBezTo>
                <a:cubicBezTo>
                  <a:pt x="10152" y="11379"/>
                  <a:pt x="10329" y="11412"/>
                  <a:pt x="10509" y="11430"/>
                </a:cubicBezTo>
                <a:cubicBezTo>
                  <a:pt x="10603" y="11439"/>
                  <a:pt x="10688" y="11396"/>
                  <a:pt x="10732" y="11366"/>
                </a:cubicBezTo>
                <a:cubicBezTo>
                  <a:pt x="10781" y="11332"/>
                  <a:pt x="10732" y="11344"/>
                  <a:pt x="10732" y="11271"/>
                </a:cubicBezTo>
              </a:path>
              <a:path w="4415" h="2605">
                <a:moveTo>
                  <a:pt x="8636" y="10160"/>
                </a:moveTo>
                <a:cubicBezTo>
                  <a:pt x="8636" y="10229"/>
                  <a:pt x="8664" y="10248"/>
                  <a:pt x="8668" y="10319"/>
                </a:cubicBezTo>
                <a:cubicBezTo>
                  <a:pt x="8674" y="10415"/>
                  <a:pt x="8640" y="10482"/>
                  <a:pt x="8636" y="10573"/>
                </a:cubicBezTo>
                <a:cubicBezTo>
                  <a:pt x="8634" y="10627"/>
                  <a:pt x="8636" y="10912"/>
                  <a:pt x="8636" y="10858"/>
                </a:cubicBezTo>
              </a:path>
              <a:path w="4415" h="2605">
                <a:moveTo>
                  <a:pt x="8350" y="10446"/>
                </a:moveTo>
                <a:cubicBezTo>
                  <a:pt x="8421" y="10446"/>
                  <a:pt x="8470" y="10474"/>
                  <a:pt x="8541" y="10478"/>
                </a:cubicBezTo>
                <a:cubicBezTo>
                  <a:pt x="8672" y="10485"/>
                  <a:pt x="8801" y="10486"/>
                  <a:pt x="8922" y="10446"/>
                </a:cubicBezTo>
              </a:path>
              <a:path w="4415" h="2605">
                <a:moveTo>
                  <a:pt x="11335" y="11366"/>
                </a:moveTo>
                <a:cubicBezTo>
                  <a:pt x="11255" y="11366"/>
                  <a:pt x="11443" y="11338"/>
                  <a:pt x="11462" y="11335"/>
                </a:cubicBezTo>
                <a:cubicBezTo>
                  <a:pt x="11583" y="11315"/>
                  <a:pt x="11720" y="11307"/>
                  <a:pt x="11843" y="11303"/>
                </a:cubicBezTo>
                <a:cubicBezTo>
                  <a:pt x="12008" y="11298"/>
                  <a:pt x="12158" y="11287"/>
                  <a:pt x="12319" y="11271"/>
                </a:cubicBezTo>
                <a:cubicBezTo>
                  <a:pt x="12464" y="11256"/>
                  <a:pt x="12618" y="11271"/>
                  <a:pt x="12764" y="11271"/>
                </a:cubicBezTo>
              </a:path>
              <a:path w="4415" h="2605">
                <a:moveTo>
                  <a:pt x="8922" y="11970"/>
                </a:moveTo>
                <a:cubicBezTo>
                  <a:pt x="8860" y="11970"/>
                  <a:pt x="8843" y="11965"/>
                  <a:pt x="8795" y="12002"/>
                </a:cubicBezTo>
                <a:cubicBezTo>
                  <a:pt x="8795" y="11930"/>
                  <a:pt x="8823" y="11909"/>
                  <a:pt x="8858" y="11843"/>
                </a:cubicBezTo>
                <a:cubicBezTo>
                  <a:pt x="8904" y="11756"/>
                  <a:pt x="8946" y="11712"/>
                  <a:pt x="9017" y="11652"/>
                </a:cubicBezTo>
                <a:cubicBezTo>
                  <a:pt x="9041" y="11632"/>
                  <a:pt x="9146" y="11576"/>
                  <a:pt x="9176" y="11589"/>
                </a:cubicBezTo>
                <a:cubicBezTo>
                  <a:pt x="9233" y="11613"/>
                  <a:pt x="9281" y="11649"/>
                  <a:pt x="9303" y="11716"/>
                </a:cubicBezTo>
                <a:cubicBezTo>
                  <a:pt x="9331" y="11799"/>
                  <a:pt x="9267" y="11867"/>
                  <a:pt x="9239" y="11938"/>
                </a:cubicBezTo>
                <a:cubicBezTo>
                  <a:pt x="9193" y="12057"/>
                  <a:pt x="9141" y="12177"/>
                  <a:pt x="9080" y="12287"/>
                </a:cubicBezTo>
                <a:cubicBezTo>
                  <a:pt x="9025" y="12386"/>
                  <a:pt x="8956" y="12495"/>
                  <a:pt x="8922" y="12605"/>
                </a:cubicBezTo>
                <a:cubicBezTo>
                  <a:pt x="8922" y="12636"/>
                  <a:pt x="8922" y="12647"/>
                  <a:pt x="8922" y="12668"/>
                </a:cubicBezTo>
                <a:cubicBezTo>
                  <a:pt x="8977" y="12654"/>
                  <a:pt x="9006" y="12616"/>
                  <a:pt x="9049" y="12573"/>
                </a:cubicBezTo>
                <a:cubicBezTo>
                  <a:pt x="9093" y="12529"/>
                  <a:pt x="9152" y="12469"/>
                  <a:pt x="9208" y="12446"/>
                </a:cubicBezTo>
                <a:cubicBezTo>
                  <a:pt x="9259" y="12425"/>
                  <a:pt x="9290" y="12473"/>
                  <a:pt x="9334" y="12478"/>
                </a:cubicBezTo>
                <a:cubicBezTo>
                  <a:pt x="9394" y="12485"/>
                  <a:pt x="9421" y="12481"/>
                  <a:pt x="9430" y="12478"/>
                </a:cubicBezTo>
                <a:cubicBezTo>
                  <a:pt x="9473" y="12464"/>
                  <a:pt x="9459" y="12461"/>
                  <a:pt x="9493" y="12414"/>
                </a:cubicBezTo>
              </a:path>
              <a:path w="4415" h="2605">
                <a:moveTo>
                  <a:pt x="9462" y="11874"/>
                </a:moveTo>
                <a:cubicBezTo>
                  <a:pt x="9462" y="11800"/>
                  <a:pt x="9487" y="11806"/>
                  <a:pt x="9525" y="11748"/>
                </a:cubicBezTo>
                <a:cubicBezTo>
                  <a:pt x="9566" y="11684"/>
                  <a:pt x="9598" y="11643"/>
                  <a:pt x="9652" y="11589"/>
                </a:cubicBezTo>
                <a:cubicBezTo>
                  <a:pt x="9684" y="11557"/>
                  <a:pt x="9695" y="11546"/>
                  <a:pt x="9716" y="11525"/>
                </a:cubicBezTo>
                <a:cubicBezTo>
                  <a:pt x="9749" y="11537"/>
                  <a:pt x="9776" y="11569"/>
                  <a:pt x="9779" y="11620"/>
                </a:cubicBezTo>
                <a:cubicBezTo>
                  <a:pt x="9785" y="11734"/>
                  <a:pt x="9732" y="11836"/>
                  <a:pt x="9684" y="11938"/>
                </a:cubicBezTo>
                <a:cubicBezTo>
                  <a:pt x="9654" y="12002"/>
                  <a:pt x="9671" y="12176"/>
                  <a:pt x="9620" y="12128"/>
                </a:cubicBezTo>
                <a:cubicBezTo>
                  <a:pt x="9586" y="12096"/>
                  <a:pt x="9686" y="11983"/>
                  <a:pt x="9716" y="11970"/>
                </a:cubicBezTo>
                <a:cubicBezTo>
                  <a:pt x="9773" y="11944"/>
                  <a:pt x="9824" y="11979"/>
                  <a:pt x="9842" y="12002"/>
                </a:cubicBezTo>
                <a:cubicBezTo>
                  <a:pt x="9905" y="12085"/>
                  <a:pt x="9906" y="12111"/>
                  <a:pt x="9906" y="12224"/>
                </a:cubicBezTo>
                <a:cubicBezTo>
                  <a:pt x="9906" y="12295"/>
                  <a:pt x="9878" y="12451"/>
                  <a:pt x="9842" y="12510"/>
                </a:cubicBezTo>
                <a:cubicBezTo>
                  <a:pt x="9797" y="12583"/>
                  <a:pt x="9725" y="12656"/>
                  <a:pt x="9652" y="12700"/>
                </a:cubicBezTo>
                <a:cubicBezTo>
                  <a:pt x="9623" y="12718"/>
                  <a:pt x="9534" y="12755"/>
                  <a:pt x="9493" y="12732"/>
                </a:cubicBezTo>
                <a:cubicBezTo>
                  <a:pt x="9483" y="12721"/>
                  <a:pt x="9472" y="12711"/>
                  <a:pt x="9462" y="12700"/>
                </a:cubicBezTo>
              </a:path>
              <a:path w="4415" h="2605">
                <a:moveTo>
                  <a:pt x="11430" y="12097"/>
                </a:moveTo>
                <a:cubicBezTo>
                  <a:pt x="11419" y="12097"/>
                  <a:pt x="11409" y="12097"/>
                  <a:pt x="11398" y="12097"/>
                </a:cubicBezTo>
                <a:cubicBezTo>
                  <a:pt x="11411" y="12059"/>
                  <a:pt x="11425" y="12044"/>
                  <a:pt x="11462" y="12002"/>
                </a:cubicBezTo>
                <a:cubicBezTo>
                  <a:pt x="11529" y="11927"/>
                  <a:pt x="11584" y="11851"/>
                  <a:pt x="11652" y="11779"/>
                </a:cubicBezTo>
                <a:cubicBezTo>
                  <a:pt x="11727" y="11700"/>
                  <a:pt x="11739" y="11684"/>
                  <a:pt x="11843" y="11684"/>
                </a:cubicBezTo>
                <a:cubicBezTo>
                  <a:pt x="11872" y="11684"/>
                  <a:pt x="11915" y="11739"/>
                  <a:pt x="11906" y="11779"/>
                </a:cubicBezTo>
                <a:cubicBezTo>
                  <a:pt x="11879" y="11905"/>
                  <a:pt x="11816" y="12036"/>
                  <a:pt x="11779" y="12160"/>
                </a:cubicBezTo>
                <a:cubicBezTo>
                  <a:pt x="11743" y="12280"/>
                  <a:pt x="11644" y="12395"/>
                  <a:pt x="11620" y="12510"/>
                </a:cubicBezTo>
                <a:cubicBezTo>
                  <a:pt x="11604" y="12585"/>
                  <a:pt x="11489" y="12666"/>
                  <a:pt x="11557" y="12700"/>
                </a:cubicBezTo>
                <a:cubicBezTo>
                  <a:pt x="11604" y="12724"/>
                  <a:pt x="11643" y="12673"/>
                  <a:pt x="11684" y="12668"/>
                </a:cubicBezTo>
                <a:cubicBezTo>
                  <a:pt x="11724" y="12664"/>
                  <a:pt x="11810" y="12625"/>
                  <a:pt x="11843" y="12605"/>
                </a:cubicBezTo>
                <a:cubicBezTo>
                  <a:pt x="11924" y="12556"/>
                  <a:pt x="11929" y="12580"/>
                  <a:pt x="12002" y="12605"/>
                </a:cubicBezTo>
                <a:cubicBezTo>
                  <a:pt x="12047" y="12620"/>
                  <a:pt x="12066" y="12596"/>
                  <a:pt x="12097" y="12573"/>
                </a:cubicBezTo>
              </a:path>
              <a:path w="4415" h="2605">
                <a:moveTo>
                  <a:pt x="12382" y="11906"/>
                </a:moveTo>
                <a:cubicBezTo>
                  <a:pt x="12344" y="11855"/>
                  <a:pt x="12355" y="11838"/>
                  <a:pt x="12319" y="11811"/>
                </a:cubicBezTo>
                <a:cubicBezTo>
                  <a:pt x="12261" y="11767"/>
                  <a:pt x="12240" y="11724"/>
                  <a:pt x="12160" y="11716"/>
                </a:cubicBezTo>
                <a:cubicBezTo>
                  <a:pt x="12109" y="11711"/>
                  <a:pt x="12044" y="11801"/>
                  <a:pt x="12033" y="11843"/>
                </a:cubicBezTo>
                <a:cubicBezTo>
                  <a:pt x="12011" y="11926"/>
                  <a:pt x="12052" y="12002"/>
                  <a:pt x="12065" y="12065"/>
                </a:cubicBezTo>
                <a:cubicBezTo>
                  <a:pt x="12082" y="12151"/>
                  <a:pt x="12087" y="12150"/>
                  <a:pt x="12160" y="12192"/>
                </a:cubicBezTo>
                <a:cubicBezTo>
                  <a:pt x="12231" y="12233"/>
                  <a:pt x="12260" y="12229"/>
                  <a:pt x="12319" y="12287"/>
                </a:cubicBezTo>
                <a:cubicBezTo>
                  <a:pt x="12387" y="12355"/>
                  <a:pt x="12401" y="12447"/>
                  <a:pt x="12382" y="12541"/>
                </a:cubicBezTo>
                <a:cubicBezTo>
                  <a:pt x="12362" y="12639"/>
                  <a:pt x="12319" y="12676"/>
                  <a:pt x="12287" y="12732"/>
                </a:cubicBezTo>
                <a:cubicBezTo>
                  <a:pt x="12287" y="12764"/>
                  <a:pt x="12287" y="12774"/>
                  <a:pt x="12256" y="12764"/>
                </a:cubicBezTo>
                <a:cubicBezTo>
                  <a:pt x="12207" y="12727"/>
                  <a:pt x="12170" y="12700"/>
                  <a:pt x="12160" y="12636"/>
                </a:cubicBezTo>
                <a:cubicBezTo>
                  <a:pt x="12141" y="12509"/>
                  <a:pt x="12212" y="12379"/>
                  <a:pt x="12224" y="12256"/>
                </a:cubicBezTo>
                <a:cubicBezTo>
                  <a:pt x="12238" y="12106"/>
                  <a:pt x="12247" y="11950"/>
                  <a:pt x="12319" y="11811"/>
                </a:cubicBezTo>
                <a:cubicBezTo>
                  <a:pt x="12364" y="11725"/>
                  <a:pt x="12406" y="11646"/>
                  <a:pt x="12446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56"/>
          <p:cNvSpPr/>
          <p:nvPr/>
        </p:nvSpPr>
        <p:spPr>
          <a:xfrm>
            <a:off x="5372280" y="4000680"/>
            <a:ext cx="811080" cy="537840"/>
          </a:xfrm>
          <a:custGeom>
            <a:avLst/>
            <a:gdLst/>
            <a:ahLst/>
            <a:rect l="l" t="t" r="r" b="b"/>
            <a:pathLst>
              <a:path w="2256" h="1494">
                <a:moveTo>
                  <a:pt x="14954" y="11366"/>
                </a:moveTo>
                <a:cubicBezTo>
                  <a:pt x="14922" y="11366"/>
                  <a:pt x="14912" y="11366"/>
                  <a:pt x="14922" y="11335"/>
                </a:cubicBezTo>
                <a:cubicBezTo>
                  <a:pt x="14982" y="11328"/>
                  <a:pt x="15024" y="11312"/>
                  <a:pt x="15081" y="11303"/>
                </a:cubicBezTo>
                <a:cubicBezTo>
                  <a:pt x="15184" y="11286"/>
                  <a:pt x="15297" y="11274"/>
                  <a:pt x="15399" y="11271"/>
                </a:cubicBezTo>
                <a:cubicBezTo>
                  <a:pt x="15552" y="11266"/>
                  <a:pt x="15723" y="11261"/>
                  <a:pt x="15875" y="11240"/>
                </a:cubicBezTo>
                <a:cubicBezTo>
                  <a:pt x="16043" y="11216"/>
                  <a:pt x="16215" y="11231"/>
                  <a:pt x="16383" y="11208"/>
                </a:cubicBezTo>
                <a:cubicBezTo>
                  <a:pt x="16521" y="11189"/>
                  <a:pt x="16659" y="11163"/>
                  <a:pt x="16796" y="11144"/>
                </a:cubicBezTo>
                <a:cubicBezTo>
                  <a:pt x="16884" y="11132"/>
                  <a:pt x="16976" y="11127"/>
                  <a:pt x="17050" y="11112"/>
                </a:cubicBezTo>
                <a:cubicBezTo>
                  <a:pt x="17086" y="11105"/>
                  <a:pt x="17139" y="11112"/>
                  <a:pt x="17177" y="11112"/>
                </a:cubicBezTo>
              </a:path>
              <a:path w="2256" h="1494">
                <a:moveTo>
                  <a:pt x="15589" y="11938"/>
                </a:moveTo>
                <a:cubicBezTo>
                  <a:pt x="15589" y="11862"/>
                  <a:pt x="15636" y="11871"/>
                  <a:pt x="15653" y="11811"/>
                </a:cubicBezTo>
                <a:cubicBezTo>
                  <a:pt x="15682" y="11710"/>
                  <a:pt x="15693" y="11691"/>
                  <a:pt x="15780" y="11620"/>
                </a:cubicBezTo>
                <a:cubicBezTo>
                  <a:pt x="15852" y="11561"/>
                  <a:pt x="15834" y="11540"/>
                  <a:pt x="15907" y="11557"/>
                </a:cubicBezTo>
                <a:cubicBezTo>
                  <a:pt x="15979" y="11573"/>
                  <a:pt x="15991" y="11641"/>
                  <a:pt x="15970" y="11716"/>
                </a:cubicBezTo>
                <a:cubicBezTo>
                  <a:pt x="15938" y="11831"/>
                  <a:pt x="15915" y="11946"/>
                  <a:pt x="15875" y="12065"/>
                </a:cubicBezTo>
                <a:cubicBezTo>
                  <a:pt x="15836" y="12180"/>
                  <a:pt x="15742" y="12260"/>
                  <a:pt x="15716" y="12382"/>
                </a:cubicBezTo>
                <a:cubicBezTo>
                  <a:pt x="15700" y="12457"/>
                  <a:pt x="15697" y="12512"/>
                  <a:pt x="15653" y="12573"/>
                </a:cubicBezTo>
                <a:cubicBezTo>
                  <a:pt x="15684" y="12562"/>
                  <a:pt x="15711" y="12561"/>
                  <a:pt x="15748" y="12541"/>
                </a:cubicBezTo>
                <a:cubicBezTo>
                  <a:pt x="15794" y="12516"/>
                  <a:pt x="15822" y="12484"/>
                  <a:pt x="15875" y="12478"/>
                </a:cubicBezTo>
                <a:cubicBezTo>
                  <a:pt x="15941" y="12471"/>
                  <a:pt x="15982" y="12494"/>
                  <a:pt x="16034" y="12510"/>
                </a:cubicBezTo>
                <a:cubicBezTo>
                  <a:pt x="16095" y="12528"/>
                  <a:pt x="16105" y="12560"/>
                  <a:pt x="16161" y="12510"/>
                </a:cubicBezTo>
                <a:cubicBezTo>
                  <a:pt x="16198" y="12472"/>
                  <a:pt x="16213" y="12453"/>
                  <a:pt x="16224" y="12414"/>
                </a:cubicBezTo>
              </a:path>
              <a:path w="2256" h="1494">
                <a:moveTo>
                  <a:pt x="16700" y="11684"/>
                </a:moveTo>
                <a:cubicBezTo>
                  <a:pt x="16665" y="11635"/>
                  <a:pt x="16669" y="11618"/>
                  <a:pt x="16669" y="11557"/>
                </a:cubicBezTo>
                <a:cubicBezTo>
                  <a:pt x="16573" y="11557"/>
                  <a:pt x="16467" y="11538"/>
                  <a:pt x="16383" y="11589"/>
                </a:cubicBezTo>
                <a:cubicBezTo>
                  <a:pt x="16325" y="11624"/>
                  <a:pt x="16273" y="11667"/>
                  <a:pt x="16224" y="11716"/>
                </a:cubicBezTo>
                <a:cubicBezTo>
                  <a:pt x="16195" y="11745"/>
                  <a:pt x="16185" y="11751"/>
                  <a:pt x="16192" y="11779"/>
                </a:cubicBezTo>
                <a:cubicBezTo>
                  <a:pt x="16205" y="11818"/>
                  <a:pt x="16246" y="11832"/>
                  <a:pt x="16288" y="11874"/>
                </a:cubicBezTo>
                <a:cubicBezTo>
                  <a:pt x="16339" y="11925"/>
                  <a:pt x="16413" y="11921"/>
                  <a:pt x="16478" y="11970"/>
                </a:cubicBezTo>
                <a:cubicBezTo>
                  <a:pt x="16548" y="12023"/>
                  <a:pt x="16616" y="12064"/>
                  <a:pt x="16637" y="12160"/>
                </a:cubicBezTo>
                <a:cubicBezTo>
                  <a:pt x="16660" y="12264"/>
                  <a:pt x="16646" y="12416"/>
                  <a:pt x="16605" y="12510"/>
                </a:cubicBezTo>
                <a:cubicBezTo>
                  <a:pt x="16571" y="12588"/>
                  <a:pt x="16557" y="12605"/>
                  <a:pt x="16478" y="12605"/>
                </a:cubicBezTo>
                <a:cubicBezTo>
                  <a:pt x="16418" y="12605"/>
                  <a:pt x="16398" y="12557"/>
                  <a:pt x="16383" y="12510"/>
                </a:cubicBezTo>
                <a:cubicBezTo>
                  <a:pt x="16341" y="12376"/>
                  <a:pt x="16349" y="12295"/>
                  <a:pt x="16383" y="12160"/>
                </a:cubicBezTo>
                <a:cubicBezTo>
                  <a:pt x="16423" y="12002"/>
                  <a:pt x="16458" y="11855"/>
                  <a:pt x="16542" y="11716"/>
                </a:cubicBezTo>
                <a:cubicBezTo>
                  <a:pt x="16602" y="11616"/>
                  <a:pt x="16656" y="11537"/>
                  <a:pt x="16700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57"/>
          <p:cNvSpPr/>
          <p:nvPr/>
        </p:nvSpPr>
        <p:spPr>
          <a:xfrm>
            <a:off x="7383600" y="5565600"/>
            <a:ext cx="1371600" cy="812880"/>
          </a:xfrm>
          <a:custGeom>
            <a:avLst/>
            <a:gdLst/>
            <a:ahLst/>
            <a:rect l="l" t="t" r="r" b="b"/>
            <a:pathLst>
              <a:path w="3811" h="2255">
                <a:moveTo>
                  <a:pt x="20701" y="15907"/>
                </a:moveTo>
                <a:cubicBezTo>
                  <a:pt x="20701" y="15821"/>
                  <a:pt x="20701" y="15956"/>
                  <a:pt x="20701" y="15970"/>
                </a:cubicBezTo>
                <a:cubicBezTo>
                  <a:pt x="20701" y="16134"/>
                  <a:pt x="20716" y="16285"/>
                  <a:pt x="20733" y="16446"/>
                </a:cubicBezTo>
                <a:cubicBezTo>
                  <a:pt x="20748" y="16590"/>
                  <a:pt x="20800" y="17270"/>
                  <a:pt x="20701" y="17336"/>
                </a:cubicBezTo>
              </a:path>
              <a:path w="3811" h="2255">
                <a:moveTo>
                  <a:pt x="20510" y="15907"/>
                </a:moveTo>
                <a:cubicBezTo>
                  <a:pt x="20527" y="15822"/>
                  <a:pt x="20550" y="15818"/>
                  <a:pt x="20606" y="15780"/>
                </a:cubicBezTo>
                <a:cubicBezTo>
                  <a:pt x="20673" y="15735"/>
                  <a:pt x="20709" y="15699"/>
                  <a:pt x="20796" y="15684"/>
                </a:cubicBezTo>
                <a:cubicBezTo>
                  <a:pt x="20877" y="15670"/>
                  <a:pt x="20928" y="15653"/>
                  <a:pt x="21018" y="15653"/>
                </a:cubicBezTo>
                <a:cubicBezTo>
                  <a:pt x="21127" y="15653"/>
                  <a:pt x="21204" y="15646"/>
                  <a:pt x="21304" y="15621"/>
                </a:cubicBezTo>
                <a:cubicBezTo>
                  <a:pt x="21347" y="15621"/>
                  <a:pt x="21368" y="15621"/>
                  <a:pt x="21400" y="15621"/>
                </a:cubicBezTo>
              </a:path>
              <a:path w="3811" h="2255">
                <a:moveTo>
                  <a:pt x="20669" y="16478"/>
                </a:moveTo>
                <a:cubicBezTo>
                  <a:pt x="20718" y="16478"/>
                  <a:pt x="20789" y="16465"/>
                  <a:pt x="20828" y="16446"/>
                </a:cubicBezTo>
                <a:cubicBezTo>
                  <a:pt x="20894" y="16414"/>
                  <a:pt x="20949" y="16407"/>
                  <a:pt x="21018" y="16383"/>
                </a:cubicBezTo>
                <a:cubicBezTo>
                  <a:pt x="21070" y="16357"/>
                  <a:pt x="21078" y="16346"/>
                  <a:pt x="21114" y="16351"/>
                </a:cubicBezTo>
              </a:path>
              <a:path w="3811" h="2255">
                <a:moveTo>
                  <a:pt x="21272" y="16415"/>
                </a:moveTo>
                <a:cubicBezTo>
                  <a:pt x="21272" y="16589"/>
                  <a:pt x="21282" y="16759"/>
                  <a:pt x="21304" y="16923"/>
                </a:cubicBezTo>
                <a:cubicBezTo>
                  <a:pt x="21317" y="17019"/>
                  <a:pt x="21336" y="17111"/>
                  <a:pt x="21336" y="17208"/>
                </a:cubicBezTo>
                <a:cubicBezTo>
                  <a:pt x="21336" y="17219"/>
                  <a:pt x="21336" y="17229"/>
                  <a:pt x="21336" y="17240"/>
                </a:cubicBezTo>
                <a:cubicBezTo>
                  <a:pt x="21283" y="17222"/>
                  <a:pt x="21275" y="17151"/>
                  <a:pt x="21272" y="17082"/>
                </a:cubicBezTo>
                <a:cubicBezTo>
                  <a:pt x="21265" y="16917"/>
                  <a:pt x="21287" y="16764"/>
                  <a:pt x="21304" y="16605"/>
                </a:cubicBezTo>
                <a:cubicBezTo>
                  <a:pt x="21313" y="16518"/>
                  <a:pt x="21332" y="16398"/>
                  <a:pt x="21368" y="16320"/>
                </a:cubicBezTo>
                <a:cubicBezTo>
                  <a:pt x="21394" y="16263"/>
                  <a:pt x="21403" y="16256"/>
                  <a:pt x="21463" y="16256"/>
                </a:cubicBezTo>
                <a:cubicBezTo>
                  <a:pt x="21531" y="16256"/>
                  <a:pt x="21541" y="16272"/>
                  <a:pt x="21590" y="16320"/>
                </a:cubicBezTo>
                <a:cubicBezTo>
                  <a:pt x="21626" y="16355"/>
                  <a:pt x="21646" y="16353"/>
                  <a:pt x="21685" y="16383"/>
                </a:cubicBezTo>
              </a:path>
              <a:path w="3811" h="2255">
                <a:moveTo>
                  <a:pt x="21876" y="16066"/>
                </a:moveTo>
                <a:cubicBezTo>
                  <a:pt x="21876" y="16324"/>
                  <a:pt x="21877" y="16574"/>
                  <a:pt x="21908" y="16828"/>
                </a:cubicBezTo>
                <a:cubicBezTo>
                  <a:pt x="21916" y="16894"/>
                  <a:pt x="21900" y="17029"/>
                  <a:pt x="21939" y="17082"/>
                </a:cubicBezTo>
                <a:cubicBezTo>
                  <a:pt x="21950" y="17082"/>
                  <a:pt x="21960" y="17082"/>
                  <a:pt x="21971" y="17082"/>
                </a:cubicBezTo>
              </a:path>
              <a:path w="3811" h="2255">
                <a:moveTo>
                  <a:pt x="22384" y="15462"/>
                </a:moveTo>
                <a:cubicBezTo>
                  <a:pt x="22394" y="15541"/>
                  <a:pt x="22413" y="15601"/>
                  <a:pt x="22416" y="15684"/>
                </a:cubicBezTo>
                <a:cubicBezTo>
                  <a:pt x="22421" y="15822"/>
                  <a:pt x="22420" y="15963"/>
                  <a:pt x="22447" y="16097"/>
                </a:cubicBezTo>
                <a:cubicBezTo>
                  <a:pt x="22472" y="16220"/>
                  <a:pt x="22479" y="16359"/>
                  <a:pt x="22511" y="16478"/>
                </a:cubicBezTo>
                <a:cubicBezTo>
                  <a:pt x="22530" y="16549"/>
                  <a:pt x="22544" y="16609"/>
                  <a:pt x="22574" y="16669"/>
                </a:cubicBezTo>
                <a:cubicBezTo>
                  <a:pt x="22537" y="16623"/>
                  <a:pt x="22525" y="16588"/>
                  <a:pt x="22479" y="16542"/>
                </a:cubicBezTo>
                <a:cubicBezTo>
                  <a:pt x="22425" y="16488"/>
                  <a:pt x="22412" y="16455"/>
                  <a:pt x="22352" y="16415"/>
                </a:cubicBezTo>
                <a:cubicBezTo>
                  <a:pt x="22308" y="16386"/>
                  <a:pt x="22269" y="16389"/>
                  <a:pt x="22225" y="16415"/>
                </a:cubicBezTo>
                <a:cubicBezTo>
                  <a:pt x="22190" y="16435"/>
                  <a:pt x="22139" y="16508"/>
                  <a:pt x="22130" y="16542"/>
                </a:cubicBezTo>
                <a:cubicBezTo>
                  <a:pt x="22099" y="16657"/>
                  <a:pt x="22148" y="16786"/>
                  <a:pt x="22162" y="16891"/>
                </a:cubicBezTo>
                <a:cubicBezTo>
                  <a:pt x="22177" y="17005"/>
                  <a:pt x="22154" y="17075"/>
                  <a:pt x="22225" y="17177"/>
                </a:cubicBezTo>
                <a:cubicBezTo>
                  <a:pt x="22253" y="17218"/>
                  <a:pt x="22299" y="17258"/>
                  <a:pt x="22352" y="17240"/>
                </a:cubicBezTo>
                <a:cubicBezTo>
                  <a:pt x="22433" y="17213"/>
                  <a:pt x="22507" y="17088"/>
                  <a:pt x="22542" y="17018"/>
                </a:cubicBezTo>
                <a:cubicBezTo>
                  <a:pt x="22553" y="16986"/>
                  <a:pt x="22563" y="16955"/>
                  <a:pt x="22574" y="16923"/>
                </a:cubicBezTo>
              </a:path>
              <a:path w="3811" h="2255">
                <a:moveTo>
                  <a:pt x="22924" y="16097"/>
                </a:moveTo>
                <a:cubicBezTo>
                  <a:pt x="22853" y="16046"/>
                  <a:pt x="22864" y="16075"/>
                  <a:pt x="22796" y="16097"/>
                </a:cubicBezTo>
                <a:cubicBezTo>
                  <a:pt x="22776" y="16104"/>
                  <a:pt x="22718" y="16127"/>
                  <a:pt x="22701" y="16161"/>
                </a:cubicBezTo>
                <a:cubicBezTo>
                  <a:pt x="22683" y="16197"/>
                  <a:pt x="22662" y="16313"/>
                  <a:pt x="22670" y="16351"/>
                </a:cubicBezTo>
                <a:cubicBezTo>
                  <a:pt x="22690" y="16445"/>
                  <a:pt x="22693" y="16548"/>
                  <a:pt x="22733" y="16637"/>
                </a:cubicBezTo>
                <a:cubicBezTo>
                  <a:pt x="22757" y="16690"/>
                  <a:pt x="22786" y="16833"/>
                  <a:pt x="22828" y="16859"/>
                </a:cubicBezTo>
                <a:cubicBezTo>
                  <a:pt x="22867" y="16883"/>
                  <a:pt x="22930" y="16850"/>
                  <a:pt x="22955" y="16828"/>
                </a:cubicBezTo>
                <a:cubicBezTo>
                  <a:pt x="23004" y="16784"/>
                  <a:pt x="23016" y="16643"/>
                  <a:pt x="23019" y="16574"/>
                </a:cubicBezTo>
                <a:cubicBezTo>
                  <a:pt x="23025" y="16446"/>
                  <a:pt x="23007" y="16342"/>
                  <a:pt x="22987" y="16224"/>
                </a:cubicBezTo>
                <a:cubicBezTo>
                  <a:pt x="22973" y="16141"/>
                  <a:pt x="23002" y="16160"/>
                  <a:pt x="22955" y="16097"/>
                </a:cubicBezTo>
                <a:cubicBezTo>
                  <a:pt x="22955" y="16159"/>
                  <a:pt x="22968" y="16233"/>
                  <a:pt x="22987" y="16288"/>
                </a:cubicBezTo>
                <a:cubicBezTo>
                  <a:pt x="23017" y="16377"/>
                  <a:pt x="23038" y="16455"/>
                  <a:pt x="23082" y="16542"/>
                </a:cubicBezTo>
                <a:cubicBezTo>
                  <a:pt x="23126" y="16629"/>
                  <a:pt x="23184" y="16702"/>
                  <a:pt x="23209" y="16796"/>
                </a:cubicBezTo>
                <a:cubicBezTo>
                  <a:pt x="23213" y="16812"/>
                  <a:pt x="23264" y="16932"/>
                  <a:pt x="23304" y="16891"/>
                </a:cubicBezTo>
                <a:cubicBezTo>
                  <a:pt x="23304" y="16880"/>
                  <a:pt x="23304" y="16870"/>
                  <a:pt x="23304" y="16859"/>
                </a:cubicBezTo>
              </a:path>
              <a:path w="3811" h="2255">
                <a:moveTo>
                  <a:pt x="23336" y="16066"/>
                </a:moveTo>
                <a:cubicBezTo>
                  <a:pt x="23301" y="16123"/>
                  <a:pt x="23323" y="16125"/>
                  <a:pt x="23336" y="16224"/>
                </a:cubicBezTo>
                <a:cubicBezTo>
                  <a:pt x="23352" y="16346"/>
                  <a:pt x="23384" y="16455"/>
                  <a:pt x="23432" y="16574"/>
                </a:cubicBezTo>
                <a:cubicBezTo>
                  <a:pt x="23463" y="16651"/>
                  <a:pt x="23530" y="16724"/>
                  <a:pt x="23558" y="16796"/>
                </a:cubicBezTo>
                <a:cubicBezTo>
                  <a:pt x="23558" y="16807"/>
                  <a:pt x="23558" y="16817"/>
                  <a:pt x="23558" y="16828"/>
                </a:cubicBezTo>
                <a:cubicBezTo>
                  <a:pt x="23605" y="16788"/>
                  <a:pt x="23638" y="16789"/>
                  <a:pt x="23654" y="16700"/>
                </a:cubicBezTo>
                <a:cubicBezTo>
                  <a:pt x="23699" y="16441"/>
                  <a:pt x="23654" y="16139"/>
                  <a:pt x="23654" y="15875"/>
                </a:cubicBezTo>
                <a:cubicBezTo>
                  <a:pt x="23680" y="15918"/>
                  <a:pt x="23685" y="15962"/>
                  <a:pt x="23717" y="16034"/>
                </a:cubicBezTo>
                <a:cubicBezTo>
                  <a:pt x="23772" y="16159"/>
                  <a:pt x="23810" y="16283"/>
                  <a:pt x="23844" y="16415"/>
                </a:cubicBezTo>
                <a:cubicBezTo>
                  <a:pt x="23888" y="16587"/>
                  <a:pt x="23912" y="16751"/>
                  <a:pt x="23940" y="16923"/>
                </a:cubicBezTo>
                <a:cubicBezTo>
                  <a:pt x="23965" y="17075"/>
                  <a:pt x="23971" y="17212"/>
                  <a:pt x="23971" y="17367"/>
                </a:cubicBezTo>
                <a:cubicBezTo>
                  <a:pt x="23971" y="17482"/>
                  <a:pt x="23989" y="17541"/>
                  <a:pt x="23908" y="17621"/>
                </a:cubicBezTo>
                <a:cubicBezTo>
                  <a:pt x="23857" y="17671"/>
                  <a:pt x="23800" y="17741"/>
                  <a:pt x="23717" y="17716"/>
                </a:cubicBezTo>
                <a:cubicBezTo>
                  <a:pt x="23658" y="17698"/>
                  <a:pt x="23584" y="17663"/>
                  <a:pt x="23527" y="17621"/>
                </a:cubicBezTo>
                <a:cubicBezTo>
                  <a:pt x="23460" y="17571"/>
                  <a:pt x="23443" y="17443"/>
                  <a:pt x="23432" y="17367"/>
                </a:cubicBezTo>
                <a:cubicBezTo>
                  <a:pt x="23416" y="17254"/>
                  <a:pt x="23446" y="17180"/>
                  <a:pt x="23495" y="17082"/>
                </a:cubicBezTo>
                <a:cubicBezTo>
                  <a:pt x="23540" y="16993"/>
                  <a:pt x="23603" y="16908"/>
                  <a:pt x="23686" y="16859"/>
                </a:cubicBezTo>
                <a:cubicBezTo>
                  <a:pt x="23787" y="16800"/>
                  <a:pt x="23871" y="16724"/>
                  <a:pt x="23971" y="16669"/>
                </a:cubicBezTo>
                <a:cubicBezTo>
                  <a:pt x="24076" y="16611"/>
                  <a:pt x="24214" y="16577"/>
                  <a:pt x="24289" y="16478"/>
                </a:cubicBezTo>
                <a:cubicBezTo>
                  <a:pt x="24299" y="16457"/>
                  <a:pt x="24310" y="16436"/>
                  <a:pt x="24320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58"/>
          <p:cNvSpPr/>
          <p:nvPr/>
        </p:nvSpPr>
        <p:spPr>
          <a:xfrm>
            <a:off x="8126280" y="4492800"/>
            <a:ext cx="217800" cy="593640"/>
          </a:xfrm>
          <a:custGeom>
            <a:avLst/>
            <a:gdLst/>
            <a:ahLst/>
            <a:rect l="l" t="t" r="r" b="b"/>
            <a:pathLst>
              <a:path w="605" h="1652">
                <a:moveTo>
                  <a:pt x="22670" y="12827"/>
                </a:moveTo>
                <a:cubicBezTo>
                  <a:pt x="22637" y="12762"/>
                  <a:pt x="22649" y="12806"/>
                  <a:pt x="22670" y="12764"/>
                </a:cubicBezTo>
                <a:cubicBezTo>
                  <a:pt x="22694" y="12715"/>
                  <a:pt x="22728" y="12655"/>
                  <a:pt x="22765" y="12605"/>
                </a:cubicBezTo>
                <a:cubicBezTo>
                  <a:pt x="22810" y="12545"/>
                  <a:pt x="22876" y="12478"/>
                  <a:pt x="22955" y="12478"/>
                </a:cubicBezTo>
                <a:cubicBezTo>
                  <a:pt x="23021" y="12478"/>
                  <a:pt x="23061" y="12542"/>
                  <a:pt x="23050" y="12605"/>
                </a:cubicBezTo>
                <a:cubicBezTo>
                  <a:pt x="23025" y="12745"/>
                  <a:pt x="22948" y="12861"/>
                  <a:pt x="22892" y="12986"/>
                </a:cubicBezTo>
                <a:cubicBezTo>
                  <a:pt x="22848" y="13086"/>
                  <a:pt x="22808" y="13190"/>
                  <a:pt x="22733" y="13272"/>
                </a:cubicBezTo>
                <a:cubicBezTo>
                  <a:pt x="22678" y="13332"/>
                  <a:pt x="22735" y="13287"/>
                  <a:pt x="22765" y="13240"/>
                </a:cubicBezTo>
                <a:cubicBezTo>
                  <a:pt x="22832" y="13134"/>
                  <a:pt x="22828" y="13161"/>
                  <a:pt x="22924" y="13113"/>
                </a:cubicBezTo>
                <a:cubicBezTo>
                  <a:pt x="22994" y="13078"/>
                  <a:pt x="23016" y="13066"/>
                  <a:pt x="23082" y="13113"/>
                </a:cubicBezTo>
                <a:cubicBezTo>
                  <a:pt x="23163" y="13171"/>
                  <a:pt x="23175" y="13279"/>
                  <a:pt x="23178" y="13367"/>
                </a:cubicBezTo>
                <a:cubicBezTo>
                  <a:pt x="23184" y="13521"/>
                  <a:pt x="23127" y="13645"/>
                  <a:pt x="23082" y="13780"/>
                </a:cubicBezTo>
                <a:cubicBezTo>
                  <a:pt x="23045" y="13891"/>
                  <a:pt x="22995" y="14022"/>
                  <a:pt x="22892" y="14097"/>
                </a:cubicBezTo>
                <a:cubicBezTo>
                  <a:pt x="22834" y="14140"/>
                  <a:pt x="22727" y="14150"/>
                  <a:pt x="22670" y="14097"/>
                </a:cubicBezTo>
                <a:cubicBezTo>
                  <a:pt x="22613" y="14044"/>
                  <a:pt x="22578" y="13948"/>
                  <a:pt x="22574" y="13875"/>
                </a:cubicBezTo>
                <a:cubicBezTo>
                  <a:pt x="22570" y="13797"/>
                  <a:pt x="22604" y="13752"/>
                  <a:pt x="22638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59"/>
          <p:cNvSpPr/>
          <p:nvPr/>
        </p:nvSpPr>
        <p:spPr>
          <a:xfrm>
            <a:off x="8447040" y="4686480"/>
            <a:ext cx="114480" cy="228600"/>
          </a:xfrm>
          <a:custGeom>
            <a:avLst/>
            <a:gdLst/>
            <a:ahLst/>
            <a:rect l="l" t="t" r="r" b="b"/>
            <a:pathLst>
              <a:path w="319" h="635">
                <a:moveTo>
                  <a:pt x="23463" y="13018"/>
                </a:moveTo>
                <a:cubicBezTo>
                  <a:pt x="23529" y="13083"/>
                  <a:pt x="23530" y="13097"/>
                  <a:pt x="23558" y="13176"/>
                </a:cubicBezTo>
                <a:cubicBezTo>
                  <a:pt x="23594" y="13277"/>
                  <a:pt x="23603" y="13405"/>
                  <a:pt x="23654" y="13494"/>
                </a:cubicBezTo>
                <a:cubicBezTo>
                  <a:pt x="23676" y="13533"/>
                  <a:pt x="23720" y="13634"/>
                  <a:pt x="23749" y="13652"/>
                </a:cubicBezTo>
                <a:cubicBezTo>
                  <a:pt x="23760" y="13652"/>
                  <a:pt x="23770" y="13652"/>
                  <a:pt x="23781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60"/>
          <p:cNvSpPr/>
          <p:nvPr/>
        </p:nvSpPr>
        <p:spPr>
          <a:xfrm>
            <a:off x="8447040" y="4640400"/>
            <a:ext cx="125640" cy="388800"/>
          </a:xfrm>
          <a:custGeom>
            <a:avLst/>
            <a:gdLst/>
            <a:ahLst/>
            <a:rect l="l" t="t" r="r" b="b"/>
            <a:pathLst>
              <a:path w="350" h="1081">
                <a:moveTo>
                  <a:pt x="23812" y="12890"/>
                </a:moveTo>
                <a:cubicBezTo>
                  <a:pt x="23757" y="13016"/>
                  <a:pt x="23727" y="13142"/>
                  <a:pt x="23686" y="13272"/>
                </a:cubicBezTo>
                <a:cubicBezTo>
                  <a:pt x="23626" y="13464"/>
                  <a:pt x="23557" y="13652"/>
                  <a:pt x="23495" y="13843"/>
                </a:cubicBezTo>
                <a:cubicBezTo>
                  <a:pt x="23470" y="13916"/>
                  <a:pt x="23460" y="13925"/>
                  <a:pt x="23463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61"/>
          <p:cNvSpPr/>
          <p:nvPr/>
        </p:nvSpPr>
        <p:spPr>
          <a:xfrm>
            <a:off x="8640720" y="4389480"/>
            <a:ext cx="217440" cy="789120"/>
          </a:xfrm>
          <a:custGeom>
            <a:avLst/>
            <a:gdLst/>
            <a:ahLst/>
            <a:rect l="l" t="t" r="r" b="b"/>
            <a:pathLst>
              <a:path w="604" h="2192">
                <a:moveTo>
                  <a:pt x="24003" y="12732"/>
                </a:moveTo>
                <a:cubicBezTo>
                  <a:pt x="24028" y="12701"/>
                  <a:pt x="24024" y="12677"/>
                  <a:pt x="24066" y="12636"/>
                </a:cubicBezTo>
                <a:cubicBezTo>
                  <a:pt x="24124" y="12579"/>
                  <a:pt x="24154" y="12494"/>
                  <a:pt x="24194" y="12414"/>
                </a:cubicBezTo>
                <a:cubicBezTo>
                  <a:pt x="24225" y="12351"/>
                  <a:pt x="24314" y="12215"/>
                  <a:pt x="24384" y="12192"/>
                </a:cubicBezTo>
                <a:cubicBezTo>
                  <a:pt x="24477" y="12161"/>
                  <a:pt x="24507" y="12210"/>
                  <a:pt x="24511" y="12287"/>
                </a:cubicBezTo>
                <a:cubicBezTo>
                  <a:pt x="24517" y="12422"/>
                  <a:pt x="24465" y="12606"/>
                  <a:pt x="24416" y="12732"/>
                </a:cubicBezTo>
                <a:cubicBezTo>
                  <a:pt x="24361" y="12874"/>
                  <a:pt x="24287" y="13007"/>
                  <a:pt x="24225" y="13144"/>
                </a:cubicBezTo>
                <a:cubicBezTo>
                  <a:pt x="24200" y="13201"/>
                  <a:pt x="24185" y="13211"/>
                  <a:pt x="24162" y="13240"/>
                </a:cubicBezTo>
                <a:cubicBezTo>
                  <a:pt x="24171" y="13171"/>
                  <a:pt x="24175" y="13137"/>
                  <a:pt x="24225" y="13081"/>
                </a:cubicBezTo>
                <a:cubicBezTo>
                  <a:pt x="24256" y="13046"/>
                  <a:pt x="24336" y="13031"/>
                  <a:pt x="24384" y="13049"/>
                </a:cubicBezTo>
                <a:cubicBezTo>
                  <a:pt x="24455" y="13077"/>
                  <a:pt x="24509" y="13142"/>
                  <a:pt x="24543" y="13208"/>
                </a:cubicBezTo>
                <a:cubicBezTo>
                  <a:pt x="24608" y="13333"/>
                  <a:pt x="24599" y="13489"/>
                  <a:pt x="24574" y="13621"/>
                </a:cubicBezTo>
                <a:cubicBezTo>
                  <a:pt x="24548" y="13757"/>
                  <a:pt x="24510" y="13941"/>
                  <a:pt x="24448" y="14065"/>
                </a:cubicBezTo>
                <a:cubicBezTo>
                  <a:pt x="24383" y="14194"/>
                  <a:pt x="24269" y="14268"/>
                  <a:pt x="24162" y="14351"/>
                </a:cubicBezTo>
                <a:cubicBezTo>
                  <a:pt x="24133" y="14380"/>
                  <a:pt x="24127" y="14391"/>
                  <a:pt x="24098" y="14383"/>
                </a:cubicBezTo>
                <a:cubicBezTo>
                  <a:pt x="24069" y="14335"/>
                  <a:pt x="24048" y="14290"/>
                  <a:pt x="24066" y="14224"/>
                </a:cubicBezTo>
                <a:cubicBezTo>
                  <a:pt x="24087" y="14149"/>
                  <a:pt x="24219" y="14029"/>
                  <a:pt x="24289" y="14002"/>
                </a:cubicBezTo>
                <a:cubicBezTo>
                  <a:pt x="24368" y="13971"/>
                  <a:pt x="24442" y="13965"/>
                  <a:pt x="24511" y="14002"/>
                </a:cubicBezTo>
                <a:cubicBezTo>
                  <a:pt x="24532" y="14013"/>
                  <a:pt x="24553" y="14023"/>
                  <a:pt x="24574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38098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percent of Friday’s sales were brown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95280" y="1523880"/>
          <a:ext cx="563904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Ink 31"/>
          <p:cNvSpPr/>
          <p:nvPr/>
        </p:nvSpPr>
        <p:spPr>
          <a:xfrm>
            <a:off x="3360600" y="3314880"/>
            <a:ext cx="492120" cy="514080"/>
          </a:xfrm>
          <a:custGeom>
            <a:avLst/>
            <a:gdLst/>
            <a:ahLst/>
            <a:rect l="l" t="t" r="r" b="b"/>
            <a:pathLst>
              <a:path w="1367" h="1429">
                <a:moveTo>
                  <a:pt x="9366" y="10065"/>
                </a:moveTo>
                <a:cubicBezTo>
                  <a:pt x="9298" y="10031"/>
                  <a:pt x="9429" y="10009"/>
                  <a:pt x="9462" y="9970"/>
                </a:cubicBezTo>
                <a:cubicBezTo>
                  <a:pt x="9533" y="9887"/>
                  <a:pt x="9622" y="9817"/>
                  <a:pt x="9716" y="9747"/>
                </a:cubicBezTo>
                <a:cubicBezTo>
                  <a:pt x="9829" y="9662"/>
                  <a:pt x="9957" y="9585"/>
                  <a:pt x="10065" y="9493"/>
                </a:cubicBezTo>
                <a:cubicBezTo>
                  <a:pt x="10175" y="9399"/>
                  <a:pt x="10286" y="9344"/>
                  <a:pt x="10414" y="9271"/>
                </a:cubicBezTo>
                <a:cubicBezTo>
                  <a:pt x="10464" y="9242"/>
                  <a:pt x="10522" y="9220"/>
                  <a:pt x="10573" y="9208"/>
                </a:cubicBezTo>
                <a:cubicBezTo>
                  <a:pt x="10573" y="9244"/>
                  <a:pt x="10570" y="9257"/>
                  <a:pt x="10541" y="9271"/>
                </a:cubicBezTo>
              </a:path>
              <a:path w="1367" h="1429">
                <a:moveTo>
                  <a:pt x="9842" y="10160"/>
                </a:moveTo>
                <a:cubicBezTo>
                  <a:pt x="9842" y="10101"/>
                  <a:pt x="9868" y="10085"/>
                  <a:pt x="9874" y="10033"/>
                </a:cubicBezTo>
                <a:cubicBezTo>
                  <a:pt x="9879" y="9987"/>
                  <a:pt x="9906" y="9942"/>
                  <a:pt x="9938" y="9906"/>
                </a:cubicBezTo>
                <a:cubicBezTo>
                  <a:pt x="9957" y="9885"/>
                  <a:pt x="10064" y="9802"/>
                  <a:pt x="10096" y="9842"/>
                </a:cubicBezTo>
                <a:cubicBezTo>
                  <a:pt x="10143" y="9903"/>
                  <a:pt x="10107" y="9944"/>
                  <a:pt x="10096" y="10001"/>
                </a:cubicBezTo>
                <a:cubicBezTo>
                  <a:pt x="10077" y="10093"/>
                  <a:pt x="10063" y="10200"/>
                  <a:pt x="10033" y="10287"/>
                </a:cubicBezTo>
                <a:cubicBezTo>
                  <a:pt x="10006" y="10366"/>
                  <a:pt x="9971" y="10475"/>
                  <a:pt x="9938" y="10541"/>
                </a:cubicBezTo>
                <a:cubicBezTo>
                  <a:pt x="9920" y="10578"/>
                  <a:pt x="9899" y="10603"/>
                  <a:pt x="9874" y="10636"/>
                </a:cubicBezTo>
                <a:cubicBezTo>
                  <a:pt x="9874" y="10590"/>
                  <a:pt x="9883" y="10543"/>
                  <a:pt x="9906" y="10509"/>
                </a:cubicBezTo>
                <a:cubicBezTo>
                  <a:pt x="9927" y="10478"/>
                  <a:pt x="9980" y="10449"/>
                  <a:pt x="10001" y="10446"/>
                </a:cubicBezTo>
                <a:cubicBezTo>
                  <a:pt x="10078" y="10436"/>
                  <a:pt x="10068" y="10483"/>
                  <a:pt x="10128" y="10509"/>
                </a:cubicBezTo>
                <a:cubicBezTo>
                  <a:pt x="10175" y="10529"/>
                  <a:pt x="10223" y="10502"/>
                  <a:pt x="10255" y="10478"/>
                </a:cubicBezTo>
              </a:path>
              <a:path w="1367" h="1429">
                <a:moveTo>
                  <a:pt x="10287" y="9970"/>
                </a:moveTo>
                <a:cubicBezTo>
                  <a:pt x="10299" y="9911"/>
                  <a:pt x="10311" y="9855"/>
                  <a:pt x="10350" y="9811"/>
                </a:cubicBezTo>
                <a:cubicBezTo>
                  <a:pt x="10390" y="9766"/>
                  <a:pt x="10378" y="9723"/>
                  <a:pt x="10446" y="9716"/>
                </a:cubicBezTo>
                <a:cubicBezTo>
                  <a:pt x="10477" y="9713"/>
                  <a:pt x="10510" y="9716"/>
                  <a:pt x="10541" y="9716"/>
                </a:cubicBezTo>
                <a:cubicBezTo>
                  <a:pt x="10541" y="9812"/>
                  <a:pt x="10551" y="9891"/>
                  <a:pt x="10509" y="9970"/>
                </a:cubicBezTo>
                <a:cubicBezTo>
                  <a:pt x="10483" y="10019"/>
                  <a:pt x="10458" y="10049"/>
                  <a:pt x="10446" y="10096"/>
                </a:cubicBezTo>
                <a:cubicBezTo>
                  <a:pt x="10486" y="10057"/>
                  <a:pt x="10517" y="10005"/>
                  <a:pt x="10573" y="10001"/>
                </a:cubicBezTo>
                <a:cubicBezTo>
                  <a:pt x="10645" y="9996"/>
                  <a:pt x="10677" y="9997"/>
                  <a:pt x="10700" y="10065"/>
                </a:cubicBezTo>
                <a:cubicBezTo>
                  <a:pt x="10725" y="10138"/>
                  <a:pt x="10696" y="10256"/>
                  <a:pt x="10668" y="10319"/>
                </a:cubicBezTo>
                <a:cubicBezTo>
                  <a:pt x="10643" y="10375"/>
                  <a:pt x="10591" y="10503"/>
                  <a:pt x="10541" y="10541"/>
                </a:cubicBezTo>
                <a:cubicBezTo>
                  <a:pt x="10501" y="10572"/>
                  <a:pt x="10462" y="10588"/>
                  <a:pt x="10446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32"/>
          <p:cNvSpPr/>
          <p:nvPr/>
        </p:nvSpPr>
        <p:spPr>
          <a:xfrm>
            <a:off x="1679400" y="4321080"/>
            <a:ext cx="7328160" cy="1565280"/>
          </a:xfrm>
          <a:custGeom>
            <a:avLst/>
            <a:gdLst/>
            <a:ahLst/>
            <a:rect l="l" t="t" r="r" b="b"/>
            <a:pathLst>
              <a:path w="20353" h="4350">
                <a:moveTo>
                  <a:pt x="5715" y="13621"/>
                </a:moveTo>
                <a:cubicBezTo>
                  <a:pt x="5715" y="13689"/>
                  <a:pt x="5687" y="13710"/>
                  <a:pt x="5683" y="13780"/>
                </a:cubicBezTo>
                <a:cubicBezTo>
                  <a:pt x="5677" y="13888"/>
                  <a:pt x="5654" y="13997"/>
                  <a:pt x="5620" y="14097"/>
                </a:cubicBezTo>
                <a:cubicBezTo>
                  <a:pt x="5574" y="14234"/>
                  <a:pt x="5581" y="14342"/>
                  <a:pt x="5556" y="14478"/>
                </a:cubicBezTo>
                <a:cubicBezTo>
                  <a:pt x="5529" y="14623"/>
                  <a:pt x="5501" y="14775"/>
                  <a:pt x="5493" y="14922"/>
                </a:cubicBezTo>
                <a:cubicBezTo>
                  <a:pt x="5493" y="14989"/>
                  <a:pt x="5492" y="15012"/>
                  <a:pt x="5461" y="15050"/>
                </a:cubicBezTo>
                <a:cubicBezTo>
                  <a:pt x="5504" y="14934"/>
                  <a:pt x="5493" y="14827"/>
                  <a:pt x="5493" y="14700"/>
                </a:cubicBezTo>
              </a:path>
              <a:path w="20353" h="4350">
                <a:moveTo>
                  <a:pt x="5524" y="14224"/>
                </a:moveTo>
                <a:cubicBezTo>
                  <a:pt x="5559" y="14075"/>
                  <a:pt x="5556" y="13935"/>
                  <a:pt x="5556" y="13780"/>
                </a:cubicBezTo>
                <a:cubicBezTo>
                  <a:pt x="5556" y="13664"/>
                  <a:pt x="5599" y="13575"/>
                  <a:pt x="5620" y="13462"/>
                </a:cubicBezTo>
                <a:cubicBezTo>
                  <a:pt x="5639" y="13359"/>
                  <a:pt x="5659" y="13325"/>
                  <a:pt x="5747" y="13272"/>
                </a:cubicBezTo>
                <a:cubicBezTo>
                  <a:pt x="5824" y="13226"/>
                  <a:pt x="5940" y="13182"/>
                  <a:pt x="6032" y="13208"/>
                </a:cubicBezTo>
                <a:cubicBezTo>
                  <a:pt x="6120" y="13233"/>
                  <a:pt x="6189" y="13284"/>
                  <a:pt x="6223" y="13367"/>
                </a:cubicBezTo>
                <a:cubicBezTo>
                  <a:pt x="6277" y="13499"/>
                  <a:pt x="6275" y="13526"/>
                  <a:pt x="6255" y="13652"/>
                </a:cubicBezTo>
                <a:cubicBezTo>
                  <a:pt x="6233" y="13790"/>
                  <a:pt x="6203" y="13812"/>
                  <a:pt x="6128" y="13906"/>
                </a:cubicBezTo>
                <a:cubicBezTo>
                  <a:pt x="6084" y="13961"/>
                  <a:pt x="6013" y="14045"/>
                  <a:pt x="5937" y="14065"/>
                </a:cubicBezTo>
                <a:cubicBezTo>
                  <a:pt x="5876" y="14081"/>
                  <a:pt x="5627" y="14088"/>
                  <a:pt x="5620" y="14034"/>
                </a:cubicBezTo>
                <a:cubicBezTo>
                  <a:pt x="5620" y="13998"/>
                  <a:pt x="5623" y="13984"/>
                  <a:pt x="5652" y="13970"/>
                </a:cubicBezTo>
              </a:path>
              <a:path w="20353" h="4350">
                <a:moveTo>
                  <a:pt x="6445" y="13906"/>
                </a:moveTo>
                <a:cubicBezTo>
                  <a:pt x="6536" y="13834"/>
                  <a:pt x="6599" y="13809"/>
                  <a:pt x="6668" y="13716"/>
                </a:cubicBezTo>
                <a:cubicBezTo>
                  <a:pt x="6703" y="13669"/>
                  <a:pt x="6768" y="13629"/>
                  <a:pt x="6731" y="13557"/>
                </a:cubicBezTo>
                <a:cubicBezTo>
                  <a:pt x="6711" y="13517"/>
                  <a:pt x="6607" y="13512"/>
                  <a:pt x="6572" y="13526"/>
                </a:cubicBezTo>
                <a:cubicBezTo>
                  <a:pt x="6496" y="13557"/>
                  <a:pt x="6466" y="13628"/>
                  <a:pt x="6414" y="13684"/>
                </a:cubicBezTo>
                <a:cubicBezTo>
                  <a:pt x="6342" y="13761"/>
                  <a:pt x="6303" y="13836"/>
                  <a:pt x="6286" y="13938"/>
                </a:cubicBezTo>
                <a:cubicBezTo>
                  <a:pt x="6274" y="14011"/>
                  <a:pt x="6305" y="14021"/>
                  <a:pt x="6350" y="14065"/>
                </a:cubicBezTo>
                <a:cubicBezTo>
                  <a:pt x="6403" y="14055"/>
                  <a:pt x="6502" y="14014"/>
                  <a:pt x="6540" y="13970"/>
                </a:cubicBezTo>
                <a:cubicBezTo>
                  <a:pt x="6595" y="13905"/>
                  <a:pt x="6610" y="13813"/>
                  <a:pt x="6668" y="13748"/>
                </a:cubicBezTo>
                <a:cubicBezTo>
                  <a:pt x="6678" y="13737"/>
                  <a:pt x="6689" y="13727"/>
                  <a:pt x="6699" y="13716"/>
                </a:cubicBezTo>
                <a:cubicBezTo>
                  <a:pt x="6684" y="13779"/>
                  <a:pt x="6665" y="13840"/>
                  <a:pt x="6636" y="13906"/>
                </a:cubicBezTo>
                <a:cubicBezTo>
                  <a:pt x="6620" y="13941"/>
                  <a:pt x="6566" y="14091"/>
                  <a:pt x="6604" y="14129"/>
                </a:cubicBezTo>
                <a:cubicBezTo>
                  <a:pt x="6615" y="14129"/>
                  <a:pt x="6625" y="14129"/>
                  <a:pt x="6636" y="14129"/>
                </a:cubicBezTo>
              </a:path>
              <a:path w="20353" h="4350">
                <a:moveTo>
                  <a:pt x="6858" y="13589"/>
                </a:moveTo>
                <a:cubicBezTo>
                  <a:pt x="6858" y="13695"/>
                  <a:pt x="6842" y="13777"/>
                  <a:pt x="6826" y="13875"/>
                </a:cubicBezTo>
                <a:cubicBezTo>
                  <a:pt x="6813" y="13952"/>
                  <a:pt x="6716" y="14098"/>
                  <a:pt x="6794" y="14097"/>
                </a:cubicBezTo>
                <a:cubicBezTo>
                  <a:pt x="6822" y="14097"/>
                  <a:pt x="6854" y="13900"/>
                  <a:pt x="6858" y="13875"/>
                </a:cubicBezTo>
                <a:cubicBezTo>
                  <a:pt x="6876" y="13770"/>
                  <a:pt x="6918" y="13707"/>
                  <a:pt x="6985" y="13621"/>
                </a:cubicBezTo>
                <a:cubicBezTo>
                  <a:pt x="7006" y="13593"/>
                  <a:pt x="7079" y="13503"/>
                  <a:pt x="7112" y="13494"/>
                </a:cubicBezTo>
                <a:cubicBezTo>
                  <a:pt x="7186" y="13473"/>
                  <a:pt x="7236" y="13470"/>
                  <a:pt x="7302" y="13430"/>
                </a:cubicBezTo>
              </a:path>
              <a:path w="20353" h="4350">
                <a:moveTo>
                  <a:pt x="7525" y="13144"/>
                </a:moveTo>
                <a:cubicBezTo>
                  <a:pt x="7525" y="13247"/>
                  <a:pt x="7504" y="13327"/>
                  <a:pt x="7493" y="13430"/>
                </a:cubicBezTo>
                <a:cubicBezTo>
                  <a:pt x="7479" y="13565"/>
                  <a:pt x="7418" y="13679"/>
                  <a:pt x="7398" y="13811"/>
                </a:cubicBezTo>
                <a:cubicBezTo>
                  <a:pt x="7385" y="13901"/>
                  <a:pt x="7393" y="14049"/>
                  <a:pt x="7430" y="14129"/>
                </a:cubicBezTo>
                <a:cubicBezTo>
                  <a:pt x="7461" y="14160"/>
                  <a:pt x="7472" y="14171"/>
                  <a:pt x="7493" y="14192"/>
                </a:cubicBezTo>
              </a:path>
              <a:path w="20353" h="4350">
                <a:moveTo>
                  <a:pt x="7302" y="13526"/>
                </a:moveTo>
                <a:cubicBezTo>
                  <a:pt x="7281" y="13526"/>
                  <a:pt x="7260" y="13526"/>
                  <a:pt x="7239" y="13526"/>
                </a:cubicBezTo>
                <a:cubicBezTo>
                  <a:pt x="7301" y="13572"/>
                  <a:pt x="7383" y="13594"/>
                  <a:pt x="7461" y="13621"/>
                </a:cubicBezTo>
                <a:cubicBezTo>
                  <a:pt x="7567" y="13657"/>
                  <a:pt x="7690" y="13671"/>
                  <a:pt x="7779" y="13716"/>
                </a:cubicBezTo>
              </a:path>
              <a:path w="20353" h="4350">
                <a:moveTo>
                  <a:pt x="7842" y="14414"/>
                </a:moveTo>
                <a:cubicBezTo>
                  <a:pt x="7751" y="14464"/>
                  <a:pt x="7692" y="14478"/>
                  <a:pt x="7588" y="14510"/>
                </a:cubicBezTo>
                <a:cubicBezTo>
                  <a:pt x="7436" y="14557"/>
                  <a:pt x="7271" y="14570"/>
                  <a:pt x="7112" y="14605"/>
                </a:cubicBezTo>
                <a:cubicBezTo>
                  <a:pt x="6886" y="14655"/>
                  <a:pt x="6670" y="14717"/>
                  <a:pt x="6445" y="14764"/>
                </a:cubicBezTo>
                <a:cubicBezTo>
                  <a:pt x="6202" y="14815"/>
                  <a:pt x="5985" y="14889"/>
                  <a:pt x="5747" y="14954"/>
                </a:cubicBezTo>
                <a:cubicBezTo>
                  <a:pt x="5559" y="15005"/>
                  <a:pt x="5316" y="15057"/>
                  <a:pt x="5144" y="15145"/>
                </a:cubicBezTo>
                <a:cubicBezTo>
                  <a:pt x="4982" y="15228"/>
                  <a:pt x="4901" y="15259"/>
                  <a:pt x="4731" y="15304"/>
                </a:cubicBezTo>
                <a:cubicBezTo>
                  <a:pt x="4702" y="15332"/>
                  <a:pt x="4696" y="15342"/>
                  <a:pt x="4667" y="15335"/>
                </a:cubicBezTo>
              </a:path>
              <a:path w="20353" h="4350">
                <a:moveTo>
                  <a:pt x="5461" y="15113"/>
                </a:moveTo>
                <a:cubicBezTo>
                  <a:pt x="5424" y="15169"/>
                  <a:pt x="5478" y="15218"/>
                  <a:pt x="5493" y="15304"/>
                </a:cubicBezTo>
                <a:cubicBezTo>
                  <a:pt x="5509" y="15392"/>
                  <a:pt x="5524" y="15466"/>
                  <a:pt x="5524" y="15558"/>
                </a:cubicBezTo>
                <a:cubicBezTo>
                  <a:pt x="5524" y="15632"/>
                  <a:pt x="5524" y="15706"/>
                  <a:pt x="5524" y="15780"/>
                </a:cubicBezTo>
                <a:cubicBezTo>
                  <a:pt x="5589" y="15758"/>
                  <a:pt x="5536" y="15722"/>
                  <a:pt x="5556" y="15653"/>
                </a:cubicBezTo>
                <a:cubicBezTo>
                  <a:pt x="5584" y="15557"/>
                  <a:pt x="5611" y="15463"/>
                  <a:pt x="5652" y="15367"/>
                </a:cubicBezTo>
                <a:cubicBezTo>
                  <a:pt x="5681" y="15300"/>
                  <a:pt x="5720" y="15152"/>
                  <a:pt x="5778" y="15113"/>
                </a:cubicBezTo>
                <a:cubicBezTo>
                  <a:pt x="5789" y="15113"/>
                  <a:pt x="5799" y="15113"/>
                  <a:pt x="5810" y="15113"/>
                </a:cubicBezTo>
                <a:cubicBezTo>
                  <a:pt x="5852" y="15183"/>
                  <a:pt x="5842" y="15248"/>
                  <a:pt x="5842" y="15335"/>
                </a:cubicBezTo>
                <a:cubicBezTo>
                  <a:pt x="5842" y="15459"/>
                  <a:pt x="5861" y="15566"/>
                  <a:pt x="5874" y="15684"/>
                </a:cubicBezTo>
                <a:cubicBezTo>
                  <a:pt x="5886" y="15794"/>
                  <a:pt x="5867" y="15867"/>
                  <a:pt x="5906" y="15970"/>
                </a:cubicBezTo>
                <a:cubicBezTo>
                  <a:pt x="5906" y="15887"/>
                  <a:pt x="5919" y="15795"/>
                  <a:pt x="5937" y="15716"/>
                </a:cubicBezTo>
                <a:cubicBezTo>
                  <a:pt x="5961" y="15611"/>
                  <a:pt x="6015" y="15461"/>
                  <a:pt x="6064" y="15367"/>
                </a:cubicBezTo>
                <a:cubicBezTo>
                  <a:pt x="6125" y="15250"/>
                  <a:pt x="6175" y="15148"/>
                  <a:pt x="6191" y="15018"/>
                </a:cubicBezTo>
              </a:path>
              <a:path w="20353" h="4350">
                <a:moveTo>
                  <a:pt x="6445" y="14732"/>
                </a:moveTo>
                <a:cubicBezTo>
                  <a:pt x="6445" y="14895"/>
                  <a:pt x="6427" y="15048"/>
                  <a:pt x="6414" y="15208"/>
                </a:cubicBezTo>
                <a:cubicBezTo>
                  <a:pt x="6401" y="15360"/>
                  <a:pt x="6367" y="15475"/>
                  <a:pt x="6318" y="15621"/>
                </a:cubicBezTo>
                <a:cubicBezTo>
                  <a:pt x="6292" y="15699"/>
                  <a:pt x="6286" y="15735"/>
                  <a:pt x="6286" y="15812"/>
                </a:cubicBezTo>
                <a:cubicBezTo>
                  <a:pt x="6286" y="15891"/>
                  <a:pt x="6343" y="15673"/>
                  <a:pt x="6350" y="15653"/>
                </a:cubicBezTo>
                <a:cubicBezTo>
                  <a:pt x="6398" y="15516"/>
                  <a:pt x="6442" y="15399"/>
                  <a:pt x="6509" y="15272"/>
                </a:cubicBezTo>
                <a:cubicBezTo>
                  <a:pt x="6565" y="15166"/>
                  <a:pt x="6586" y="15070"/>
                  <a:pt x="6668" y="14986"/>
                </a:cubicBezTo>
                <a:cubicBezTo>
                  <a:pt x="6678" y="14975"/>
                  <a:pt x="6689" y="14965"/>
                  <a:pt x="6699" y="14954"/>
                </a:cubicBezTo>
                <a:cubicBezTo>
                  <a:pt x="6732" y="14962"/>
                  <a:pt x="6817" y="15006"/>
                  <a:pt x="6826" y="15050"/>
                </a:cubicBezTo>
                <a:cubicBezTo>
                  <a:pt x="6853" y="15179"/>
                  <a:pt x="6808" y="15308"/>
                  <a:pt x="6794" y="15430"/>
                </a:cubicBezTo>
                <a:cubicBezTo>
                  <a:pt x="6783" y="15527"/>
                  <a:pt x="6778" y="15632"/>
                  <a:pt x="6763" y="15716"/>
                </a:cubicBezTo>
                <a:cubicBezTo>
                  <a:pt x="6744" y="15820"/>
                  <a:pt x="6785" y="15779"/>
                  <a:pt x="6826" y="15748"/>
                </a:cubicBezTo>
              </a:path>
              <a:path w="20353" h="4350">
                <a:moveTo>
                  <a:pt x="7207" y="15081"/>
                </a:moveTo>
                <a:cubicBezTo>
                  <a:pt x="7142" y="15033"/>
                  <a:pt x="7136" y="15057"/>
                  <a:pt x="7080" y="15113"/>
                </a:cubicBezTo>
                <a:cubicBezTo>
                  <a:pt x="7003" y="15190"/>
                  <a:pt x="6993" y="15330"/>
                  <a:pt x="6953" y="15430"/>
                </a:cubicBezTo>
                <a:cubicBezTo>
                  <a:pt x="6917" y="15520"/>
                  <a:pt x="6902" y="15638"/>
                  <a:pt x="6985" y="15716"/>
                </a:cubicBezTo>
                <a:cubicBezTo>
                  <a:pt x="7060" y="15786"/>
                  <a:pt x="7155" y="15753"/>
                  <a:pt x="7207" y="15684"/>
                </a:cubicBezTo>
                <a:cubicBezTo>
                  <a:pt x="7256" y="15618"/>
                  <a:pt x="7286" y="15416"/>
                  <a:pt x="7271" y="15335"/>
                </a:cubicBezTo>
                <a:cubicBezTo>
                  <a:pt x="7253" y="15235"/>
                  <a:pt x="7181" y="15163"/>
                  <a:pt x="7144" y="15081"/>
                </a:cubicBezTo>
                <a:cubicBezTo>
                  <a:pt x="7119" y="15025"/>
                  <a:pt x="7184" y="15075"/>
                  <a:pt x="7207" y="15081"/>
                </a:cubicBezTo>
              </a:path>
              <a:path w="20353" h="4350">
                <a:moveTo>
                  <a:pt x="7493" y="14668"/>
                </a:moveTo>
                <a:cubicBezTo>
                  <a:pt x="7493" y="14811"/>
                  <a:pt x="7472" y="14942"/>
                  <a:pt x="7461" y="15081"/>
                </a:cubicBezTo>
                <a:cubicBezTo>
                  <a:pt x="7448" y="15252"/>
                  <a:pt x="7463" y="15422"/>
                  <a:pt x="7430" y="15589"/>
                </a:cubicBezTo>
                <a:cubicBezTo>
                  <a:pt x="7415" y="15661"/>
                  <a:pt x="7349" y="15785"/>
                  <a:pt x="7430" y="15812"/>
                </a:cubicBezTo>
              </a:path>
              <a:path w="20353" h="4350">
                <a:moveTo>
                  <a:pt x="7620" y="15240"/>
                </a:moveTo>
                <a:cubicBezTo>
                  <a:pt x="7700" y="15240"/>
                  <a:pt x="7737" y="15259"/>
                  <a:pt x="7810" y="15272"/>
                </a:cubicBezTo>
                <a:cubicBezTo>
                  <a:pt x="7873" y="15283"/>
                  <a:pt x="7954" y="15271"/>
                  <a:pt x="8001" y="15240"/>
                </a:cubicBezTo>
                <a:cubicBezTo>
                  <a:pt x="8062" y="15199"/>
                  <a:pt x="8033" y="15085"/>
                  <a:pt x="8033" y="15018"/>
                </a:cubicBezTo>
                <a:cubicBezTo>
                  <a:pt x="8033" y="14922"/>
                  <a:pt x="7995" y="14898"/>
                  <a:pt x="7906" y="14891"/>
                </a:cubicBezTo>
                <a:cubicBezTo>
                  <a:pt x="7829" y="14885"/>
                  <a:pt x="7775" y="14956"/>
                  <a:pt x="7747" y="15018"/>
                </a:cubicBezTo>
                <a:cubicBezTo>
                  <a:pt x="7690" y="15145"/>
                  <a:pt x="7696" y="15357"/>
                  <a:pt x="7715" y="15494"/>
                </a:cubicBezTo>
                <a:cubicBezTo>
                  <a:pt x="7731" y="15607"/>
                  <a:pt x="7787" y="15794"/>
                  <a:pt x="7874" y="15875"/>
                </a:cubicBezTo>
                <a:cubicBezTo>
                  <a:pt x="7895" y="15886"/>
                  <a:pt x="7917" y="15896"/>
                  <a:pt x="7938" y="15907"/>
                </a:cubicBezTo>
                <a:cubicBezTo>
                  <a:pt x="8074" y="15821"/>
                  <a:pt x="8141" y="15727"/>
                  <a:pt x="8223" y="15589"/>
                </a:cubicBezTo>
              </a:path>
              <a:path w="20353" h="4350">
                <a:moveTo>
                  <a:pt x="8668" y="14002"/>
                </a:moveTo>
                <a:lnTo>
                  <a:pt x="8668" y="14002"/>
                </a:lnTo>
              </a:path>
              <a:path w="20353" h="4350">
                <a:moveTo>
                  <a:pt x="8604" y="14891"/>
                </a:moveTo>
                <a:cubicBezTo>
                  <a:pt x="8660" y="14891"/>
                  <a:pt x="8655" y="14893"/>
                  <a:pt x="8700" y="14859"/>
                </a:cubicBezTo>
              </a:path>
              <a:path w="20353" h="4350">
                <a:moveTo>
                  <a:pt x="9366" y="12827"/>
                </a:moveTo>
                <a:cubicBezTo>
                  <a:pt x="9366" y="13033"/>
                  <a:pt x="9376" y="13230"/>
                  <a:pt x="9398" y="13430"/>
                </a:cubicBezTo>
                <a:cubicBezTo>
                  <a:pt x="9415" y="13580"/>
                  <a:pt x="9399" y="13735"/>
                  <a:pt x="9366" y="13875"/>
                </a:cubicBezTo>
                <a:cubicBezTo>
                  <a:pt x="9366" y="13885"/>
                  <a:pt x="9366" y="13896"/>
                  <a:pt x="9366" y="13906"/>
                </a:cubicBezTo>
                <a:cubicBezTo>
                  <a:pt x="9383" y="13822"/>
                  <a:pt x="9417" y="13739"/>
                  <a:pt x="9430" y="13652"/>
                </a:cubicBezTo>
                <a:cubicBezTo>
                  <a:pt x="9447" y="13532"/>
                  <a:pt x="9474" y="13416"/>
                  <a:pt x="9525" y="13303"/>
                </a:cubicBezTo>
                <a:cubicBezTo>
                  <a:pt x="9546" y="13257"/>
                  <a:pt x="9601" y="13167"/>
                  <a:pt x="9652" y="13144"/>
                </a:cubicBezTo>
                <a:cubicBezTo>
                  <a:pt x="9663" y="13144"/>
                  <a:pt x="9673" y="13144"/>
                  <a:pt x="9684" y="13144"/>
                </a:cubicBezTo>
                <a:cubicBezTo>
                  <a:pt x="9751" y="13212"/>
                  <a:pt x="9756" y="13247"/>
                  <a:pt x="9779" y="13335"/>
                </a:cubicBezTo>
                <a:cubicBezTo>
                  <a:pt x="9806" y="13437"/>
                  <a:pt x="9837" y="13576"/>
                  <a:pt x="9811" y="13684"/>
                </a:cubicBezTo>
                <a:cubicBezTo>
                  <a:pt x="9785" y="13791"/>
                  <a:pt x="9765" y="13898"/>
                  <a:pt x="9716" y="14002"/>
                </a:cubicBezTo>
                <a:cubicBezTo>
                  <a:pt x="9671" y="14096"/>
                  <a:pt x="9649" y="14143"/>
                  <a:pt x="9557" y="14192"/>
                </a:cubicBezTo>
                <a:cubicBezTo>
                  <a:pt x="9512" y="14216"/>
                  <a:pt x="9419" y="14250"/>
                  <a:pt x="9366" y="14224"/>
                </a:cubicBezTo>
                <a:cubicBezTo>
                  <a:pt x="9319" y="14200"/>
                  <a:pt x="9306" y="14109"/>
                  <a:pt x="9303" y="14065"/>
                </a:cubicBezTo>
                <a:cubicBezTo>
                  <a:pt x="9303" y="13989"/>
                  <a:pt x="9307" y="13956"/>
                  <a:pt x="9334" y="13906"/>
                </a:cubicBezTo>
              </a:path>
              <a:path w="20353" h="4350">
                <a:moveTo>
                  <a:pt x="9874" y="13176"/>
                </a:moveTo>
                <a:cubicBezTo>
                  <a:pt x="9920" y="13237"/>
                  <a:pt x="9918" y="13293"/>
                  <a:pt x="9938" y="13367"/>
                </a:cubicBezTo>
                <a:cubicBezTo>
                  <a:pt x="9966" y="13475"/>
                  <a:pt x="9974" y="13580"/>
                  <a:pt x="10001" y="13684"/>
                </a:cubicBezTo>
                <a:cubicBezTo>
                  <a:pt x="10025" y="13774"/>
                  <a:pt x="10058" y="13847"/>
                  <a:pt x="10065" y="13938"/>
                </a:cubicBezTo>
                <a:cubicBezTo>
                  <a:pt x="10065" y="13949"/>
                  <a:pt x="10065" y="13959"/>
                  <a:pt x="10065" y="13970"/>
                </a:cubicBezTo>
                <a:cubicBezTo>
                  <a:pt x="10020" y="13909"/>
                  <a:pt x="10020" y="13854"/>
                  <a:pt x="10001" y="13780"/>
                </a:cubicBezTo>
                <a:cubicBezTo>
                  <a:pt x="9970" y="13658"/>
                  <a:pt x="9970" y="13557"/>
                  <a:pt x="9970" y="13430"/>
                </a:cubicBezTo>
                <a:cubicBezTo>
                  <a:pt x="9970" y="13327"/>
                  <a:pt x="9988" y="13227"/>
                  <a:pt x="10033" y="13144"/>
                </a:cubicBezTo>
                <a:cubicBezTo>
                  <a:pt x="10068" y="13079"/>
                  <a:pt x="10065" y="13065"/>
                  <a:pt x="10128" y="13049"/>
                </a:cubicBezTo>
              </a:path>
              <a:path w="20353" h="4350">
                <a:moveTo>
                  <a:pt x="10446" y="13081"/>
                </a:moveTo>
                <a:cubicBezTo>
                  <a:pt x="10376" y="13081"/>
                  <a:pt x="10375" y="13085"/>
                  <a:pt x="10350" y="13144"/>
                </a:cubicBezTo>
                <a:cubicBezTo>
                  <a:pt x="10304" y="13254"/>
                  <a:pt x="10270" y="13339"/>
                  <a:pt x="10255" y="13462"/>
                </a:cubicBezTo>
                <a:cubicBezTo>
                  <a:pt x="10244" y="13551"/>
                  <a:pt x="10251" y="13636"/>
                  <a:pt x="10287" y="13716"/>
                </a:cubicBezTo>
                <a:cubicBezTo>
                  <a:pt x="10317" y="13782"/>
                  <a:pt x="10341" y="13853"/>
                  <a:pt x="10382" y="13906"/>
                </a:cubicBezTo>
                <a:cubicBezTo>
                  <a:pt x="10441" y="13906"/>
                  <a:pt x="10474" y="13898"/>
                  <a:pt x="10509" y="13843"/>
                </a:cubicBezTo>
                <a:cubicBezTo>
                  <a:pt x="10561" y="13762"/>
                  <a:pt x="10568" y="13621"/>
                  <a:pt x="10573" y="13526"/>
                </a:cubicBezTo>
                <a:cubicBezTo>
                  <a:pt x="10578" y="13413"/>
                  <a:pt x="10547" y="13318"/>
                  <a:pt x="10541" y="13208"/>
                </a:cubicBezTo>
                <a:cubicBezTo>
                  <a:pt x="10537" y="13141"/>
                  <a:pt x="10523" y="13137"/>
                  <a:pt x="10509" y="13081"/>
                </a:cubicBezTo>
              </a:path>
              <a:path w="20353" h="4350">
                <a:moveTo>
                  <a:pt x="10573" y="13049"/>
                </a:moveTo>
                <a:cubicBezTo>
                  <a:pt x="10609" y="13098"/>
                  <a:pt x="10618" y="13148"/>
                  <a:pt x="10636" y="13208"/>
                </a:cubicBezTo>
                <a:cubicBezTo>
                  <a:pt x="10670" y="13321"/>
                  <a:pt x="10667" y="13447"/>
                  <a:pt x="10700" y="13557"/>
                </a:cubicBezTo>
                <a:cubicBezTo>
                  <a:pt x="10726" y="13644"/>
                  <a:pt x="10726" y="13763"/>
                  <a:pt x="10763" y="13843"/>
                </a:cubicBezTo>
                <a:cubicBezTo>
                  <a:pt x="10787" y="13894"/>
                  <a:pt x="10795" y="13878"/>
                  <a:pt x="10795" y="13938"/>
                </a:cubicBezTo>
                <a:cubicBezTo>
                  <a:pt x="10882" y="13916"/>
                  <a:pt x="10858" y="13870"/>
                  <a:pt x="10858" y="13780"/>
                </a:cubicBezTo>
                <a:cubicBezTo>
                  <a:pt x="10858" y="13566"/>
                  <a:pt x="10843" y="13347"/>
                  <a:pt x="10890" y="13144"/>
                </a:cubicBezTo>
                <a:cubicBezTo>
                  <a:pt x="10904" y="13085"/>
                  <a:pt x="10864" y="13068"/>
                  <a:pt x="10922" y="13049"/>
                </a:cubicBezTo>
                <a:cubicBezTo>
                  <a:pt x="10936" y="13104"/>
                  <a:pt x="10967" y="13152"/>
                  <a:pt x="10986" y="13208"/>
                </a:cubicBezTo>
                <a:cubicBezTo>
                  <a:pt x="11022" y="13312"/>
                  <a:pt x="11020" y="13422"/>
                  <a:pt x="11049" y="13526"/>
                </a:cubicBezTo>
                <a:cubicBezTo>
                  <a:pt x="11072" y="13611"/>
                  <a:pt x="11076" y="13733"/>
                  <a:pt x="11112" y="13811"/>
                </a:cubicBezTo>
                <a:cubicBezTo>
                  <a:pt x="11141" y="13840"/>
                  <a:pt x="11152" y="13846"/>
                  <a:pt x="11144" y="13875"/>
                </a:cubicBezTo>
                <a:cubicBezTo>
                  <a:pt x="11196" y="13858"/>
                  <a:pt x="11176" y="13813"/>
                  <a:pt x="11176" y="13748"/>
                </a:cubicBezTo>
                <a:cubicBezTo>
                  <a:pt x="11176" y="13604"/>
                  <a:pt x="11203" y="13478"/>
                  <a:pt x="11208" y="13335"/>
                </a:cubicBezTo>
                <a:cubicBezTo>
                  <a:pt x="11212" y="13218"/>
                  <a:pt x="11206" y="13097"/>
                  <a:pt x="11240" y="12986"/>
                </a:cubicBezTo>
                <a:cubicBezTo>
                  <a:pt x="11250" y="12965"/>
                  <a:pt x="11261" y="12943"/>
                  <a:pt x="11271" y="12922"/>
                </a:cubicBezTo>
              </a:path>
              <a:path w="20353" h="4350">
                <a:moveTo>
                  <a:pt x="11430" y="12922"/>
                </a:moveTo>
                <a:cubicBezTo>
                  <a:pt x="11444" y="12993"/>
                  <a:pt x="11462" y="13037"/>
                  <a:pt x="11462" y="13113"/>
                </a:cubicBezTo>
                <a:cubicBezTo>
                  <a:pt x="11462" y="13208"/>
                  <a:pt x="11483" y="13281"/>
                  <a:pt x="11494" y="13367"/>
                </a:cubicBezTo>
                <a:cubicBezTo>
                  <a:pt x="11510" y="13490"/>
                  <a:pt x="11499" y="13598"/>
                  <a:pt x="11525" y="13716"/>
                </a:cubicBezTo>
                <a:cubicBezTo>
                  <a:pt x="11525" y="13748"/>
                  <a:pt x="11525" y="13759"/>
                  <a:pt x="11525" y="13780"/>
                </a:cubicBezTo>
                <a:cubicBezTo>
                  <a:pt x="11509" y="13713"/>
                  <a:pt x="11494" y="13669"/>
                  <a:pt x="11494" y="13589"/>
                </a:cubicBezTo>
                <a:cubicBezTo>
                  <a:pt x="11494" y="13488"/>
                  <a:pt x="11501" y="13337"/>
                  <a:pt x="11525" y="13240"/>
                </a:cubicBezTo>
                <a:cubicBezTo>
                  <a:pt x="11547" y="13151"/>
                  <a:pt x="11593" y="13075"/>
                  <a:pt x="11620" y="12986"/>
                </a:cubicBezTo>
                <a:cubicBezTo>
                  <a:pt x="11620" y="12954"/>
                  <a:pt x="11620" y="12943"/>
                  <a:pt x="11652" y="12954"/>
                </a:cubicBezTo>
                <a:cubicBezTo>
                  <a:pt x="11716" y="12970"/>
                  <a:pt x="11767" y="13041"/>
                  <a:pt x="11779" y="13113"/>
                </a:cubicBezTo>
                <a:cubicBezTo>
                  <a:pt x="11802" y="13248"/>
                  <a:pt x="11787" y="13391"/>
                  <a:pt x="11811" y="13526"/>
                </a:cubicBezTo>
                <a:cubicBezTo>
                  <a:pt x="11831" y="13635"/>
                  <a:pt x="11816" y="13770"/>
                  <a:pt x="11843" y="13875"/>
                </a:cubicBezTo>
                <a:cubicBezTo>
                  <a:pt x="11865" y="13960"/>
                  <a:pt x="11861" y="13968"/>
                  <a:pt x="11906" y="13938"/>
                </a:cubicBezTo>
              </a:path>
              <a:path w="20353" h="4350">
                <a:moveTo>
                  <a:pt x="12065" y="12922"/>
                </a:moveTo>
                <a:cubicBezTo>
                  <a:pt x="12011" y="12994"/>
                  <a:pt x="12033" y="13083"/>
                  <a:pt x="12033" y="13176"/>
                </a:cubicBezTo>
                <a:cubicBezTo>
                  <a:pt x="12033" y="13424"/>
                  <a:pt x="12039" y="13665"/>
                  <a:pt x="12065" y="13906"/>
                </a:cubicBezTo>
                <a:cubicBezTo>
                  <a:pt x="12077" y="14017"/>
                  <a:pt x="12059" y="13996"/>
                  <a:pt x="12128" y="14065"/>
                </a:cubicBezTo>
              </a:path>
              <a:path w="20353" h="4350">
                <a:moveTo>
                  <a:pt x="12382" y="13303"/>
                </a:moveTo>
                <a:cubicBezTo>
                  <a:pt x="12397" y="13243"/>
                  <a:pt x="12445" y="13201"/>
                  <a:pt x="12478" y="13176"/>
                </a:cubicBezTo>
                <a:cubicBezTo>
                  <a:pt x="12547" y="13124"/>
                  <a:pt x="12595" y="13047"/>
                  <a:pt x="12636" y="12986"/>
                </a:cubicBezTo>
                <a:cubicBezTo>
                  <a:pt x="12658" y="12952"/>
                  <a:pt x="12694" y="12874"/>
                  <a:pt x="12668" y="12827"/>
                </a:cubicBezTo>
                <a:cubicBezTo>
                  <a:pt x="12657" y="12816"/>
                  <a:pt x="12647" y="12806"/>
                  <a:pt x="12636" y="12795"/>
                </a:cubicBezTo>
                <a:cubicBezTo>
                  <a:pt x="12586" y="12808"/>
                  <a:pt x="12510" y="12881"/>
                  <a:pt x="12478" y="12922"/>
                </a:cubicBezTo>
                <a:cubicBezTo>
                  <a:pt x="12408" y="13011"/>
                  <a:pt x="12392" y="13139"/>
                  <a:pt x="12351" y="13240"/>
                </a:cubicBezTo>
                <a:cubicBezTo>
                  <a:pt x="12301" y="13363"/>
                  <a:pt x="12305" y="13495"/>
                  <a:pt x="12351" y="13621"/>
                </a:cubicBezTo>
                <a:cubicBezTo>
                  <a:pt x="12379" y="13699"/>
                  <a:pt x="12421" y="13790"/>
                  <a:pt x="12510" y="13811"/>
                </a:cubicBezTo>
                <a:cubicBezTo>
                  <a:pt x="12575" y="13826"/>
                  <a:pt x="12687" y="13796"/>
                  <a:pt x="12732" y="13748"/>
                </a:cubicBezTo>
                <a:cubicBezTo>
                  <a:pt x="12753" y="13716"/>
                  <a:pt x="12774" y="13684"/>
                  <a:pt x="12795" y="13652"/>
                </a:cubicBezTo>
              </a:path>
              <a:path w="20353" h="4350">
                <a:moveTo>
                  <a:pt x="13144" y="12636"/>
                </a:moveTo>
                <a:cubicBezTo>
                  <a:pt x="13036" y="12636"/>
                  <a:pt x="13070" y="12670"/>
                  <a:pt x="13018" y="12764"/>
                </a:cubicBezTo>
                <a:cubicBezTo>
                  <a:pt x="12963" y="12863"/>
                  <a:pt x="12892" y="12970"/>
                  <a:pt x="12859" y="13081"/>
                </a:cubicBezTo>
                <a:cubicBezTo>
                  <a:pt x="12859" y="13092"/>
                  <a:pt x="12859" y="13102"/>
                  <a:pt x="12859" y="13113"/>
                </a:cubicBezTo>
                <a:cubicBezTo>
                  <a:pt x="12901" y="13138"/>
                  <a:pt x="12991" y="13168"/>
                  <a:pt x="13049" y="13144"/>
                </a:cubicBezTo>
                <a:cubicBezTo>
                  <a:pt x="13132" y="13110"/>
                  <a:pt x="13138" y="13106"/>
                  <a:pt x="13208" y="13176"/>
                </a:cubicBezTo>
                <a:cubicBezTo>
                  <a:pt x="13296" y="13263"/>
                  <a:pt x="13275" y="13311"/>
                  <a:pt x="13240" y="13430"/>
                </a:cubicBezTo>
                <a:cubicBezTo>
                  <a:pt x="13204" y="13550"/>
                  <a:pt x="13151" y="13681"/>
                  <a:pt x="13081" y="13780"/>
                </a:cubicBezTo>
                <a:cubicBezTo>
                  <a:pt x="13047" y="13828"/>
                  <a:pt x="12926" y="13923"/>
                  <a:pt x="12859" y="13906"/>
                </a:cubicBezTo>
                <a:cubicBezTo>
                  <a:pt x="12838" y="13896"/>
                  <a:pt x="12816" y="13885"/>
                  <a:pt x="12795" y="13875"/>
                </a:cubicBezTo>
              </a:path>
              <a:path w="20353" h="4350">
                <a:moveTo>
                  <a:pt x="9842" y="14796"/>
                </a:moveTo>
                <a:cubicBezTo>
                  <a:pt x="9825" y="14882"/>
                  <a:pt x="9811" y="14923"/>
                  <a:pt x="9811" y="15018"/>
                </a:cubicBezTo>
                <a:cubicBezTo>
                  <a:pt x="9811" y="15297"/>
                  <a:pt x="9806" y="15571"/>
                  <a:pt x="9842" y="15843"/>
                </a:cubicBezTo>
                <a:cubicBezTo>
                  <a:pt x="9850" y="15904"/>
                  <a:pt x="9842" y="15973"/>
                  <a:pt x="9842" y="16034"/>
                </a:cubicBezTo>
                <a:cubicBezTo>
                  <a:pt x="9808" y="15963"/>
                  <a:pt x="9797" y="15934"/>
                  <a:pt x="9811" y="15875"/>
                </a:cubicBezTo>
              </a:path>
              <a:path w="20353" h="4350">
                <a:moveTo>
                  <a:pt x="9747" y="14859"/>
                </a:moveTo>
                <a:cubicBezTo>
                  <a:pt x="9797" y="14847"/>
                  <a:pt x="9854" y="14844"/>
                  <a:pt x="9906" y="14827"/>
                </a:cubicBezTo>
                <a:cubicBezTo>
                  <a:pt x="9979" y="14803"/>
                  <a:pt x="10059" y="14787"/>
                  <a:pt x="10128" y="14764"/>
                </a:cubicBezTo>
                <a:cubicBezTo>
                  <a:pt x="10200" y="14740"/>
                  <a:pt x="10243" y="14732"/>
                  <a:pt x="10319" y="14732"/>
                </a:cubicBezTo>
                <a:cubicBezTo>
                  <a:pt x="10329" y="14732"/>
                  <a:pt x="10340" y="14732"/>
                  <a:pt x="10350" y="14732"/>
                </a:cubicBezTo>
              </a:path>
              <a:path w="20353" h="4350">
                <a:moveTo>
                  <a:pt x="9779" y="15430"/>
                </a:moveTo>
                <a:cubicBezTo>
                  <a:pt x="9832" y="15391"/>
                  <a:pt x="9881" y="15398"/>
                  <a:pt x="9938" y="15367"/>
                </a:cubicBezTo>
                <a:cubicBezTo>
                  <a:pt x="10010" y="15328"/>
                  <a:pt x="10093" y="15287"/>
                  <a:pt x="10160" y="15240"/>
                </a:cubicBezTo>
                <a:cubicBezTo>
                  <a:pt x="10171" y="15229"/>
                  <a:pt x="10181" y="15219"/>
                  <a:pt x="10192" y="15208"/>
                </a:cubicBezTo>
              </a:path>
              <a:path w="20353" h="4350">
                <a:moveTo>
                  <a:pt x="10319" y="15081"/>
                </a:moveTo>
                <a:cubicBezTo>
                  <a:pt x="10336" y="15185"/>
                  <a:pt x="10371" y="15293"/>
                  <a:pt x="10382" y="15399"/>
                </a:cubicBezTo>
                <a:cubicBezTo>
                  <a:pt x="10395" y="15525"/>
                  <a:pt x="10381" y="15658"/>
                  <a:pt x="10414" y="15780"/>
                </a:cubicBezTo>
                <a:cubicBezTo>
                  <a:pt x="10425" y="15820"/>
                  <a:pt x="10446" y="16059"/>
                  <a:pt x="10446" y="15907"/>
                </a:cubicBezTo>
                <a:cubicBezTo>
                  <a:pt x="10446" y="15783"/>
                  <a:pt x="10465" y="15676"/>
                  <a:pt x="10478" y="15558"/>
                </a:cubicBezTo>
                <a:cubicBezTo>
                  <a:pt x="10491" y="15438"/>
                  <a:pt x="10482" y="15324"/>
                  <a:pt x="10509" y="15208"/>
                </a:cubicBezTo>
                <a:cubicBezTo>
                  <a:pt x="10518" y="15167"/>
                  <a:pt x="10559" y="15009"/>
                  <a:pt x="10604" y="14986"/>
                </a:cubicBezTo>
                <a:cubicBezTo>
                  <a:pt x="10655" y="14960"/>
                  <a:pt x="10697" y="15006"/>
                  <a:pt x="10732" y="15018"/>
                </a:cubicBezTo>
                <a:cubicBezTo>
                  <a:pt x="10742" y="15018"/>
                  <a:pt x="10753" y="15018"/>
                  <a:pt x="10763" y="15018"/>
                </a:cubicBezTo>
              </a:path>
              <a:path w="20353" h="4350">
                <a:moveTo>
                  <a:pt x="10986" y="14922"/>
                </a:moveTo>
                <a:cubicBezTo>
                  <a:pt x="11005" y="15001"/>
                  <a:pt x="11017" y="15049"/>
                  <a:pt x="11017" y="15145"/>
                </a:cubicBezTo>
                <a:cubicBezTo>
                  <a:pt x="11017" y="15284"/>
                  <a:pt x="11030" y="15393"/>
                  <a:pt x="11049" y="15526"/>
                </a:cubicBezTo>
                <a:cubicBezTo>
                  <a:pt x="11057" y="15584"/>
                  <a:pt x="11057" y="15698"/>
                  <a:pt x="11081" y="15748"/>
                </a:cubicBezTo>
                <a:cubicBezTo>
                  <a:pt x="11091" y="15759"/>
                  <a:pt x="11102" y="15769"/>
                  <a:pt x="11112" y="15780"/>
                </a:cubicBezTo>
              </a:path>
              <a:path w="20353" h="4350">
                <a:moveTo>
                  <a:pt x="11398" y="14637"/>
                </a:moveTo>
                <a:cubicBezTo>
                  <a:pt x="11443" y="14603"/>
                  <a:pt x="11438" y="14605"/>
                  <a:pt x="11494" y="14605"/>
                </a:cubicBezTo>
                <a:cubicBezTo>
                  <a:pt x="11511" y="14676"/>
                  <a:pt x="11545" y="14745"/>
                  <a:pt x="11557" y="14827"/>
                </a:cubicBezTo>
                <a:cubicBezTo>
                  <a:pt x="11576" y="14962"/>
                  <a:pt x="11585" y="15103"/>
                  <a:pt x="11589" y="15240"/>
                </a:cubicBezTo>
                <a:cubicBezTo>
                  <a:pt x="11592" y="15351"/>
                  <a:pt x="11613" y="15451"/>
                  <a:pt x="11620" y="15558"/>
                </a:cubicBezTo>
                <a:cubicBezTo>
                  <a:pt x="11624" y="15623"/>
                  <a:pt x="11638" y="15630"/>
                  <a:pt x="11652" y="15684"/>
                </a:cubicBezTo>
                <a:cubicBezTo>
                  <a:pt x="11640" y="15638"/>
                  <a:pt x="11618" y="15570"/>
                  <a:pt x="11589" y="15526"/>
                </a:cubicBezTo>
                <a:cubicBezTo>
                  <a:pt x="11551" y="15469"/>
                  <a:pt x="11511" y="15416"/>
                  <a:pt x="11462" y="15367"/>
                </a:cubicBezTo>
                <a:cubicBezTo>
                  <a:pt x="11422" y="15327"/>
                  <a:pt x="11390" y="15278"/>
                  <a:pt x="11335" y="15272"/>
                </a:cubicBezTo>
                <a:cubicBezTo>
                  <a:pt x="11281" y="15266"/>
                  <a:pt x="11257" y="15283"/>
                  <a:pt x="11240" y="15335"/>
                </a:cubicBezTo>
                <a:cubicBezTo>
                  <a:pt x="11207" y="15436"/>
                  <a:pt x="11231" y="15625"/>
                  <a:pt x="11271" y="15716"/>
                </a:cubicBezTo>
                <a:cubicBezTo>
                  <a:pt x="11296" y="15772"/>
                  <a:pt x="11335" y="15879"/>
                  <a:pt x="11398" y="15907"/>
                </a:cubicBezTo>
                <a:cubicBezTo>
                  <a:pt x="11428" y="15921"/>
                  <a:pt x="11530" y="15827"/>
                  <a:pt x="11557" y="15812"/>
                </a:cubicBezTo>
              </a:path>
              <a:path w="20353" h="4350">
                <a:moveTo>
                  <a:pt x="11938" y="15113"/>
                </a:moveTo>
                <a:cubicBezTo>
                  <a:pt x="11915" y="15099"/>
                  <a:pt x="11908" y="15066"/>
                  <a:pt x="11843" y="15081"/>
                </a:cubicBezTo>
                <a:cubicBezTo>
                  <a:pt x="11740" y="15105"/>
                  <a:pt x="11774" y="15189"/>
                  <a:pt x="11748" y="15272"/>
                </a:cubicBezTo>
                <a:cubicBezTo>
                  <a:pt x="11721" y="15359"/>
                  <a:pt x="11709" y="15438"/>
                  <a:pt x="11748" y="15526"/>
                </a:cubicBezTo>
                <a:cubicBezTo>
                  <a:pt x="11777" y="15591"/>
                  <a:pt x="11829" y="15621"/>
                  <a:pt x="11874" y="15653"/>
                </a:cubicBezTo>
                <a:cubicBezTo>
                  <a:pt x="11939" y="15588"/>
                  <a:pt x="11956" y="15525"/>
                  <a:pt x="11970" y="15430"/>
                </a:cubicBezTo>
                <a:cubicBezTo>
                  <a:pt x="11987" y="15312"/>
                  <a:pt x="12002" y="15204"/>
                  <a:pt x="12002" y="15081"/>
                </a:cubicBezTo>
                <a:cubicBezTo>
                  <a:pt x="12002" y="15039"/>
                  <a:pt x="12002" y="15060"/>
                  <a:pt x="12002" y="15018"/>
                </a:cubicBezTo>
                <a:cubicBezTo>
                  <a:pt x="12009" y="15037"/>
                  <a:pt x="12047" y="15158"/>
                  <a:pt x="12065" y="15208"/>
                </a:cubicBezTo>
                <a:cubicBezTo>
                  <a:pt x="12102" y="15309"/>
                  <a:pt x="12110" y="15394"/>
                  <a:pt x="12160" y="15494"/>
                </a:cubicBezTo>
                <a:cubicBezTo>
                  <a:pt x="12195" y="15564"/>
                  <a:pt x="12219" y="15598"/>
                  <a:pt x="12287" y="15621"/>
                </a:cubicBezTo>
                <a:cubicBezTo>
                  <a:pt x="12298" y="15621"/>
                  <a:pt x="12308" y="15621"/>
                  <a:pt x="12319" y="15621"/>
                </a:cubicBezTo>
                <a:cubicBezTo>
                  <a:pt x="12358" y="15524"/>
                  <a:pt x="12378" y="15443"/>
                  <a:pt x="12382" y="15335"/>
                </a:cubicBezTo>
                <a:cubicBezTo>
                  <a:pt x="12388" y="15177"/>
                  <a:pt x="12382" y="15017"/>
                  <a:pt x="12382" y="14859"/>
                </a:cubicBezTo>
                <a:cubicBezTo>
                  <a:pt x="12433" y="14935"/>
                  <a:pt x="12428" y="14987"/>
                  <a:pt x="12446" y="15081"/>
                </a:cubicBezTo>
                <a:cubicBezTo>
                  <a:pt x="12474" y="15222"/>
                  <a:pt x="12525" y="15361"/>
                  <a:pt x="12573" y="15494"/>
                </a:cubicBezTo>
                <a:cubicBezTo>
                  <a:pt x="12586" y="15529"/>
                  <a:pt x="12638" y="15661"/>
                  <a:pt x="12668" y="15684"/>
                </a:cubicBezTo>
                <a:cubicBezTo>
                  <a:pt x="12679" y="15684"/>
                  <a:pt x="12689" y="15684"/>
                  <a:pt x="12700" y="15684"/>
                </a:cubicBezTo>
                <a:cubicBezTo>
                  <a:pt x="12741" y="15633"/>
                  <a:pt x="12765" y="15579"/>
                  <a:pt x="12795" y="15526"/>
                </a:cubicBezTo>
                <a:cubicBezTo>
                  <a:pt x="12832" y="15459"/>
                  <a:pt x="12832" y="15439"/>
                  <a:pt x="12859" y="15399"/>
                </a:cubicBezTo>
                <a:cubicBezTo>
                  <a:pt x="12934" y="15459"/>
                  <a:pt x="12920" y="15430"/>
                  <a:pt x="12954" y="15526"/>
                </a:cubicBezTo>
                <a:cubicBezTo>
                  <a:pt x="13000" y="15654"/>
                  <a:pt x="12994" y="15745"/>
                  <a:pt x="13018" y="15875"/>
                </a:cubicBezTo>
                <a:cubicBezTo>
                  <a:pt x="13041" y="16004"/>
                  <a:pt x="13071" y="16098"/>
                  <a:pt x="13018" y="16224"/>
                </a:cubicBezTo>
                <a:cubicBezTo>
                  <a:pt x="12996" y="16277"/>
                  <a:pt x="12981" y="16332"/>
                  <a:pt x="12922" y="16351"/>
                </a:cubicBezTo>
                <a:cubicBezTo>
                  <a:pt x="12829" y="16380"/>
                  <a:pt x="12778" y="16292"/>
                  <a:pt x="12732" y="16224"/>
                </a:cubicBezTo>
                <a:cubicBezTo>
                  <a:pt x="12644" y="16092"/>
                  <a:pt x="12632" y="15993"/>
                  <a:pt x="12605" y="15843"/>
                </a:cubicBezTo>
                <a:cubicBezTo>
                  <a:pt x="12580" y="15704"/>
                  <a:pt x="12566" y="15566"/>
                  <a:pt x="12541" y="15430"/>
                </a:cubicBezTo>
                <a:cubicBezTo>
                  <a:pt x="12522" y="15323"/>
                  <a:pt x="12510" y="15255"/>
                  <a:pt x="12510" y="15145"/>
                </a:cubicBezTo>
                <a:cubicBezTo>
                  <a:pt x="12510" y="15088"/>
                  <a:pt x="12513" y="15098"/>
                  <a:pt x="12541" y="15050"/>
                </a:cubicBezTo>
              </a:path>
              <a:path w="20353" h="4350">
                <a:moveTo>
                  <a:pt x="13780" y="14383"/>
                </a:moveTo>
                <a:cubicBezTo>
                  <a:pt x="13780" y="14422"/>
                  <a:pt x="13807" y="14419"/>
                  <a:pt x="13843" y="14446"/>
                </a:cubicBezTo>
              </a:path>
              <a:path w="20353" h="4350">
                <a:moveTo>
                  <a:pt x="13938" y="14954"/>
                </a:moveTo>
                <a:cubicBezTo>
                  <a:pt x="13889" y="15019"/>
                  <a:pt x="13926" y="15032"/>
                  <a:pt x="13938" y="15113"/>
                </a:cubicBezTo>
              </a:path>
              <a:path w="20353" h="4350">
                <a:moveTo>
                  <a:pt x="15113" y="12541"/>
                </a:moveTo>
                <a:cubicBezTo>
                  <a:pt x="15054" y="12498"/>
                  <a:pt x="15024" y="12529"/>
                  <a:pt x="15050" y="12510"/>
                </a:cubicBezTo>
                <a:cubicBezTo>
                  <a:pt x="15090" y="12481"/>
                  <a:pt x="15186" y="12456"/>
                  <a:pt x="15240" y="12446"/>
                </a:cubicBezTo>
                <a:cubicBezTo>
                  <a:pt x="15332" y="12430"/>
                  <a:pt x="15446" y="12429"/>
                  <a:pt x="15526" y="12414"/>
                </a:cubicBezTo>
                <a:cubicBezTo>
                  <a:pt x="15595" y="12401"/>
                  <a:pt x="15646" y="12446"/>
                  <a:pt x="15716" y="12446"/>
                </a:cubicBezTo>
                <a:cubicBezTo>
                  <a:pt x="15748" y="12446"/>
                  <a:pt x="15759" y="12446"/>
                  <a:pt x="15780" y="12446"/>
                </a:cubicBezTo>
                <a:cubicBezTo>
                  <a:pt x="15780" y="12525"/>
                  <a:pt x="15732" y="12563"/>
                  <a:pt x="15716" y="12636"/>
                </a:cubicBezTo>
                <a:cubicBezTo>
                  <a:pt x="15693" y="12737"/>
                  <a:pt x="15664" y="12850"/>
                  <a:pt x="15653" y="12954"/>
                </a:cubicBezTo>
                <a:cubicBezTo>
                  <a:pt x="15638" y="13088"/>
                  <a:pt x="15577" y="13203"/>
                  <a:pt x="15558" y="13335"/>
                </a:cubicBezTo>
                <a:cubicBezTo>
                  <a:pt x="15548" y="13407"/>
                  <a:pt x="15540" y="13458"/>
                  <a:pt x="15526" y="13526"/>
                </a:cubicBezTo>
              </a:path>
              <a:path w="20353" h="4350">
                <a:moveTo>
                  <a:pt x="14542" y="14256"/>
                </a:moveTo>
                <a:cubicBezTo>
                  <a:pt x="14523" y="14199"/>
                  <a:pt x="14547" y="14233"/>
                  <a:pt x="14637" y="14192"/>
                </a:cubicBezTo>
                <a:cubicBezTo>
                  <a:pt x="14791" y="14123"/>
                  <a:pt x="14920" y="14108"/>
                  <a:pt x="15081" y="14065"/>
                </a:cubicBezTo>
                <a:cubicBezTo>
                  <a:pt x="15244" y="14022"/>
                  <a:pt x="15395" y="13997"/>
                  <a:pt x="15558" y="13970"/>
                </a:cubicBezTo>
                <a:cubicBezTo>
                  <a:pt x="15731" y="13941"/>
                  <a:pt x="15892" y="13936"/>
                  <a:pt x="16066" y="13970"/>
                </a:cubicBezTo>
                <a:cubicBezTo>
                  <a:pt x="16163" y="13989"/>
                  <a:pt x="16254" y="14010"/>
                  <a:pt x="16351" y="14034"/>
                </a:cubicBezTo>
              </a:path>
              <a:path w="20353" h="4350">
                <a:moveTo>
                  <a:pt x="15081" y="14891"/>
                </a:moveTo>
                <a:cubicBezTo>
                  <a:pt x="15040" y="14834"/>
                  <a:pt x="15055" y="14824"/>
                  <a:pt x="15081" y="14764"/>
                </a:cubicBezTo>
                <a:cubicBezTo>
                  <a:pt x="15115" y="14686"/>
                  <a:pt x="15201" y="14592"/>
                  <a:pt x="15272" y="14542"/>
                </a:cubicBezTo>
                <a:cubicBezTo>
                  <a:pt x="15352" y="14486"/>
                  <a:pt x="15402" y="14453"/>
                  <a:pt x="15494" y="14510"/>
                </a:cubicBezTo>
                <a:cubicBezTo>
                  <a:pt x="15552" y="14546"/>
                  <a:pt x="15556" y="14704"/>
                  <a:pt x="15558" y="14764"/>
                </a:cubicBezTo>
                <a:cubicBezTo>
                  <a:pt x="15564" y="14925"/>
                  <a:pt x="15540" y="15054"/>
                  <a:pt x="15494" y="15208"/>
                </a:cubicBezTo>
                <a:cubicBezTo>
                  <a:pt x="15460" y="15319"/>
                  <a:pt x="15467" y="15426"/>
                  <a:pt x="15399" y="15526"/>
                </a:cubicBezTo>
                <a:cubicBezTo>
                  <a:pt x="15368" y="15571"/>
                  <a:pt x="15348" y="15601"/>
                  <a:pt x="15335" y="15653"/>
                </a:cubicBezTo>
                <a:cubicBezTo>
                  <a:pt x="15386" y="15665"/>
                  <a:pt x="15411" y="15706"/>
                  <a:pt x="15430" y="15716"/>
                </a:cubicBezTo>
                <a:cubicBezTo>
                  <a:pt x="15496" y="15749"/>
                  <a:pt x="15603" y="15701"/>
                  <a:pt x="15653" y="15684"/>
                </a:cubicBezTo>
                <a:cubicBezTo>
                  <a:pt x="15721" y="15661"/>
                  <a:pt x="15820" y="15722"/>
                  <a:pt x="15843" y="15653"/>
                </a:cubicBezTo>
              </a:path>
              <a:path w="20353" h="4350">
                <a:moveTo>
                  <a:pt x="15780" y="14796"/>
                </a:moveTo>
                <a:cubicBezTo>
                  <a:pt x="15815" y="14749"/>
                  <a:pt x="15819" y="14733"/>
                  <a:pt x="15843" y="14700"/>
                </a:cubicBezTo>
                <a:cubicBezTo>
                  <a:pt x="15890" y="14637"/>
                  <a:pt x="15886" y="14651"/>
                  <a:pt x="15938" y="14573"/>
                </a:cubicBezTo>
                <a:cubicBezTo>
                  <a:pt x="15952" y="14553"/>
                  <a:pt x="16034" y="14470"/>
                  <a:pt x="16066" y="14510"/>
                </a:cubicBezTo>
                <a:cubicBezTo>
                  <a:pt x="16119" y="14576"/>
                  <a:pt x="16076" y="14618"/>
                  <a:pt x="16066" y="14700"/>
                </a:cubicBezTo>
                <a:cubicBezTo>
                  <a:pt x="16054" y="14801"/>
                  <a:pt x="16034" y="14883"/>
                  <a:pt x="16034" y="14986"/>
                </a:cubicBezTo>
                <a:cubicBezTo>
                  <a:pt x="16034" y="14997"/>
                  <a:pt x="16034" y="15007"/>
                  <a:pt x="16034" y="15018"/>
                </a:cubicBezTo>
                <a:cubicBezTo>
                  <a:pt x="16082" y="15006"/>
                  <a:pt x="16123" y="14989"/>
                  <a:pt x="16161" y="14954"/>
                </a:cubicBezTo>
                <a:cubicBezTo>
                  <a:pt x="16183" y="14934"/>
                  <a:pt x="16256" y="14877"/>
                  <a:pt x="16288" y="14891"/>
                </a:cubicBezTo>
                <a:cubicBezTo>
                  <a:pt x="16353" y="14919"/>
                  <a:pt x="16380" y="14991"/>
                  <a:pt x="16383" y="15050"/>
                </a:cubicBezTo>
                <a:cubicBezTo>
                  <a:pt x="16390" y="15162"/>
                  <a:pt x="16395" y="15266"/>
                  <a:pt x="16351" y="15367"/>
                </a:cubicBezTo>
                <a:cubicBezTo>
                  <a:pt x="16328" y="15418"/>
                  <a:pt x="16315" y="15500"/>
                  <a:pt x="16256" y="15526"/>
                </a:cubicBezTo>
                <a:cubicBezTo>
                  <a:pt x="16227" y="15539"/>
                  <a:pt x="16161" y="15526"/>
                  <a:pt x="16129" y="15526"/>
                </a:cubicBezTo>
                <a:cubicBezTo>
                  <a:pt x="16129" y="15484"/>
                  <a:pt x="16129" y="15441"/>
                  <a:pt x="16129" y="15399"/>
                </a:cubicBezTo>
              </a:path>
              <a:path w="20353" h="4350">
                <a:moveTo>
                  <a:pt x="17018" y="13589"/>
                </a:moveTo>
                <a:cubicBezTo>
                  <a:pt x="16968" y="13622"/>
                  <a:pt x="16986" y="13702"/>
                  <a:pt x="16986" y="13780"/>
                </a:cubicBezTo>
              </a:path>
              <a:path w="20353" h="4350">
                <a:moveTo>
                  <a:pt x="17145" y="14542"/>
                </a:moveTo>
                <a:cubicBezTo>
                  <a:pt x="17095" y="14617"/>
                  <a:pt x="17081" y="14588"/>
                  <a:pt x="17113" y="14637"/>
                </a:cubicBezTo>
              </a:path>
              <a:path w="20353" h="4350">
                <a:moveTo>
                  <a:pt x="16828" y="13875"/>
                </a:moveTo>
                <a:cubicBezTo>
                  <a:pt x="16796" y="13875"/>
                  <a:pt x="16785" y="13875"/>
                  <a:pt x="16764" y="13875"/>
                </a:cubicBezTo>
                <a:cubicBezTo>
                  <a:pt x="16808" y="13860"/>
                  <a:pt x="16803" y="13830"/>
                  <a:pt x="16859" y="13811"/>
                </a:cubicBezTo>
                <a:cubicBezTo>
                  <a:pt x="16915" y="13792"/>
                  <a:pt x="16970" y="13787"/>
                  <a:pt x="17018" y="13748"/>
                </a:cubicBezTo>
                <a:cubicBezTo>
                  <a:pt x="17070" y="13706"/>
                  <a:pt x="17145" y="13690"/>
                  <a:pt x="17208" y="13652"/>
                </a:cubicBezTo>
                <a:cubicBezTo>
                  <a:pt x="17249" y="13628"/>
                  <a:pt x="17324" y="13594"/>
                  <a:pt x="17367" y="13589"/>
                </a:cubicBezTo>
                <a:cubicBezTo>
                  <a:pt x="17378" y="13589"/>
                  <a:pt x="17388" y="13589"/>
                  <a:pt x="17399" y="13589"/>
                </a:cubicBezTo>
                <a:cubicBezTo>
                  <a:pt x="17457" y="13589"/>
                  <a:pt x="17369" y="13592"/>
                  <a:pt x="17336" y="13621"/>
                </a:cubicBezTo>
                <a:cubicBezTo>
                  <a:pt x="17287" y="13664"/>
                  <a:pt x="17207" y="13678"/>
                  <a:pt x="17145" y="13716"/>
                </a:cubicBezTo>
                <a:cubicBezTo>
                  <a:pt x="17067" y="13764"/>
                  <a:pt x="16977" y="13792"/>
                  <a:pt x="16891" y="13811"/>
                </a:cubicBezTo>
                <a:cubicBezTo>
                  <a:pt x="16808" y="13830"/>
                  <a:pt x="16841" y="13837"/>
                  <a:pt x="16764" y="13811"/>
                </a:cubicBezTo>
                <a:cubicBezTo>
                  <a:pt x="16753" y="13811"/>
                  <a:pt x="16743" y="13811"/>
                  <a:pt x="16732" y="13811"/>
                </a:cubicBezTo>
                <a:cubicBezTo>
                  <a:pt x="16782" y="13763"/>
                  <a:pt x="16822" y="13733"/>
                  <a:pt x="16891" y="13716"/>
                </a:cubicBezTo>
                <a:cubicBezTo>
                  <a:pt x="16948" y="13702"/>
                  <a:pt x="16990" y="13688"/>
                  <a:pt x="17050" y="13684"/>
                </a:cubicBezTo>
                <a:cubicBezTo>
                  <a:pt x="17120" y="13680"/>
                  <a:pt x="17171" y="13661"/>
                  <a:pt x="17240" y="13652"/>
                </a:cubicBezTo>
              </a:path>
              <a:path w="20353" h="4350">
                <a:moveTo>
                  <a:pt x="16954" y="14732"/>
                </a:moveTo>
                <a:cubicBezTo>
                  <a:pt x="16923" y="14732"/>
                  <a:pt x="16912" y="14732"/>
                  <a:pt x="16923" y="14764"/>
                </a:cubicBezTo>
                <a:cubicBezTo>
                  <a:pt x="16942" y="14685"/>
                  <a:pt x="16987" y="14684"/>
                  <a:pt x="17050" y="14637"/>
                </a:cubicBezTo>
                <a:cubicBezTo>
                  <a:pt x="17129" y="14579"/>
                  <a:pt x="17186" y="14571"/>
                  <a:pt x="17272" y="14542"/>
                </a:cubicBezTo>
                <a:cubicBezTo>
                  <a:pt x="17346" y="14517"/>
                  <a:pt x="17427" y="14459"/>
                  <a:pt x="17494" y="14446"/>
                </a:cubicBezTo>
                <a:cubicBezTo>
                  <a:pt x="17559" y="14433"/>
                  <a:pt x="17618" y="14414"/>
                  <a:pt x="17685" y="14414"/>
                </a:cubicBezTo>
                <a:cubicBezTo>
                  <a:pt x="17717" y="14414"/>
                  <a:pt x="17748" y="14414"/>
                  <a:pt x="17780" y="14414"/>
                </a:cubicBezTo>
                <a:cubicBezTo>
                  <a:pt x="17707" y="14414"/>
                  <a:pt x="17648" y="14434"/>
                  <a:pt x="17590" y="14446"/>
                </a:cubicBezTo>
                <a:cubicBezTo>
                  <a:pt x="17511" y="14462"/>
                  <a:pt x="17438" y="14485"/>
                  <a:pt x="17367" y="14510"/>
                </a:cubicBezTo>
                <a:cubicBezTo>
                  <a:pt x="17287" y="14538"/>
                  <a:pt x="17183" y="14589"/>
                  <a:pt x="17113" y="14637"/>
                </a:cubicBezTo>
                <a:cubicBezTo>
                  <a:pt x="17065" y="14670"/>
                  <a:pt x="17006" y="14740"/>
                  <a:pt x="16954" y="14764"/>
                </a:cubicBezTo>
                <a:cubicBezTo>
                  <a:pt x="16923" y="14764"/>
                  <a:pt x="16912" y="14764"/>
                  <a:pt x="16923" y="14796"/>
                </a:cubicBezTo>
                <a:cubicBezTo>
                  <a:pt x="16933" y="14766"/>
                  <a:pt x="16976" y="14727"/>
                  <a:pt x="17018" y="14700"/>
                </a:cubicBezTo>
                <a:cubicBezTo>
                  <a:pt x="17082" y="14668"/>
                  <a:pt x="17103" y="14658"/>
                  <a:pt x="17145" y="14637"/>
                </a:cubicBezTo>
              </a:path>
              <a:path w="20353" h="4350">
                <a:moveTo>
                  <a:pt x="18320" y="14637"/>
                </a:moveTo>
                <a:cubicBezTo>
                  <a:pt x="18272" y="14653"/>
                  <a:pt x="18288" y="14675"/>
                  <a:pt x="18288" y="14732"/>
                </a:cubicBezTo>
                <a:cubicBezTo>
                  <a:pt x="18288" y="14797"/>
                  <a:pt x="18302" y="14807"/>
                  <a:pt x="18320" y="14859"/>
                </a:cubicBezTo>
                <a:cubicBezTo>
                  <a:pt x="18320" y="14891"/>
                  <a:pt x="18320" y="14902"/>
                  <a:pt x="18352" y="14891"/>
                </a:cubicBezTo>
                <a:cubicBezTo>
                  <a:pt x="18371" y="14811"/>
                  <a:pt x="18376" y="14838"/>
                  <a:pt x="18352" y="14764"/>
                </a:cubicBezTo>
                <a:cubicBezTo>
                  <a:pt x="18344" y="14739"/>
                  <a:pt x="18352" y="14694"/>
                  <a:pt x="18352" y="14668"/>
                </a:cubicBezTo>
                <a:cubicBezTo>
                  <a:pt x="18298" y="14686"/>
                  <a:pt x="18320" y="14730"/>
                  <a:pt x="18320" y="14796"/>
                </a:cubicBezTo>
                <a:cubicBezTo>
                  <a:pt x="18320" y="14818"/>
                  <a:pt x="18359" y="14954"/>
                  <a:pt x="18383" y="14922"/>
                </a:cubicBezTo>
                <a:cubicBezTo>
                  <a:pt x="18383" y="14891"/>
                  <a:pt x="18383" y="14880"/>
                  <a:pt x="18383" y="14859"/>
                </a:cubicBezTo>
              </a:path>
              <a:path w="20353" h="4350">
                <a:moveTo>
                  <a:pt x="18701" y="13018"/>
                </a:moveTo>
                <a:cubicBezTo>
                  <a:pt x="18680" y="13060"/>
                  <a:pt x="18658" y="13103"/>
                  <a:pt x="18637" y="13144"/>
                </a:cubicBezTo>
                <a:cubicBezTo>
                  <a:pt x="18620" y="13115"/>
                  <a:pt x="18585" y="13064"/>
                  <a:pt x="18606" y="12986"/>
                </a:cubicBezTo>
                <a:cubicBezTo>
                  <a:pt x="18632" y="12889"/>
                  <a:pt x="18687" y="12791"/>
                  <a:pt x="18732" y="12700"/>
                </a:cubicBezTo>
                <a:cubicBezTo>
                  <a:pt x="18781" y="12602"/>
                  <a:pt x="18824" y="12557"/>
                  <a:pt x="18923" y="12541"/>
                </a:cubicBezTo>
                <a:cubicBezTo>
                  <a:pt x="18982" y="12532"/>
                  <a:pt x="19047" y="12554"/>
                  <a:pt x="19082" y="12605"/>
                </a:cubicBezTo>
                <a:cubicBezTo>
                  <a:pt x="19132" y="12677"/>
                  <a:pt x="19098" y="12875"/>
                  <a:pt x="19082" y="12954"/>
                </a:cubicBezTo>
                <a:cubicBezTo>
                  <a:pt x="19051" y="13106"/>
                  <a:pt x="19002" y="13283"/>
                  <a:pt x="18955" y="13430"/>
                </a:cubicBezTo>
                <a:cubicBezTo>
                  <a:pt x="18932" y="13503"/>
                  <a:pt x="18900" y="13546"/>
                  <a:pt x="18891" y="13621"/>
                </a:cubicBezTo>
                <a:cubicBezTo>
                  <a:pt x="18904" y="13610"/>
                  <a:pt x="18947" y="13564"/>
                  <a:pt x="18986" y="13557"/>
                </a:cubicBezTo>
                <a:cubicBezTo>
                  <a:pt x="19058" y="13544"/>
                  <a:pt x="19189" y="13545"/>
                  <a:pt x="19240" y="13589"/>
                </a:cubicBezTo>
                <a:cubicBezTo>
                  <a:pt x="19327" y="13663"/>
                  <a:pt x="19314" y="13747"/>
                  <a:pt x="19336" y="13843"/>
                </a:cubicBezTo>
                <a:cubicBezTo>
                  <a:pt x="19362" y="13955"/>
                  <a:pt x="19390" y="14074"/>
                  <a:pt x="19368" y="14192"/>
                </a:cubicBezTo>
                <a:cubicBezTo>
                  <a:pt x="19344" y="14321"/>
                  <a:pt x="19315" y="14462"/>
                  <a:pt x="19240" y="14573"/>
                </a:cubicBezTo>
                <a:cubicBezTo>
                  <a:pt x="19191" y="14645"/>
                  <a:pt x="19072" y="14772"/>
                  <a:pt x="18986" y="14796"/>
                </a:cubicBezTo>
                <a:cubicBezTo>
                  <a:pt x="18920" y="14814"/>
                  <a:pt x="18845" y="14793"/>
                  <a:pt x="18796" y="14764"/>
                </a:cubicBezTo>
                <a:cubicBezTo>
                  <a:pt x="18721" y="14719"/>
                  <a:pt x="18742" y="14692"/>
                  <a:pt x="18732" y="14605"/>
                </a:cubicBezTo>
              </a:path>
              <a:path w="20353" h="4350">
                <a:moveTo>
                  <a:pt x="19685" y="12764"/>
                </a:moveTo>
                <a:cubicBezTo>
                  <a:pt x="19655" y="12832"/>
                  <a:pt x="19641" y="12909"/>
                  <a:pt x="19622" y="12986"/>
                </a:cubicBezTo>
                <a:cubicBezTo>
                  <a:pt x="19579" y="13159"/>
                  <a:pt x="19558" y="13281"/>
                  <a:pt x="19558" y="13462"/>
                </a:cubicBezTo>
                <a:cubicBezTo>
                  <a:pt x="19558" y="13655"/>
                  <a:pt x="19568" y="13816"/>
                  <a:pt x="19622" y="14002"/>
                </a:cubicBezTo>
                <a:cubicBezTo>
                  <a:pt x="19657" y="14122"/>
                  <a:pt x="19701" y="14252"/>
                  <a:pt x="19780" y="14351"/>
                </a:cubicBezTo>
                <a:cubicBezTo>
                  <a:pt x="19854" y="14444"/>
                  <a:pt x="19894" y="14468"/>
                  <a:pt x="20002" y="14478"/>
                </a:cubicBezTo>
                <a:cubicBezTo>
                  <a:pt x="20099" y="14487"/>
                  <a:pt x="20134" y="14403"/>
                  <a:pt x="20161" y="14319"/>
                </a:cubicBezTo>
                <a:cubicBezTo>
                  <a:pt x="20208" y="14173"/>
                  <a:pt x="20241" y="13962"/>
                  <a:pt x="20225" y="13811"/>
                </a:cubicBezTo>
                <a:cubicBezTo>
                  <a:pt x="20204" y="13610"/>
                  <a:pt x="20172" y="13408"/>
                  <a:pt x="20130" y="13208"/>
                </a:cubicBezTo>
                <a:cubicBezTo>
                  <a:pt x="20101" y="13071"/>
                  <a:pt x="20077" y="12870"/>
                  <a:pt x="19971" y="12764"/>
                </a:cubicBezTo>
                <a:cubicBezTo>
                  <a:pt x="19923" y="12716"/>
                  <a:pt x="19827" y="12627"/>
                  <a:pt x="19748" y="12636"/>
                </a:cubicBezTo>
                <a:cubicBezTo>
                  <a:pt x="19661" y="12646"/>
                  <a:pt x="19638" y="12704"/>
                  <a:pt x="19590" y="12764"/>
                </a:cubicBezTo>
              </a:path>
              <a:path w="20353" h="4350">
                <a:moveTo>
                  <a:pt x="20764" y="13272"/>
                </a:moveTo>
                <a:cubicBezTo>
                  <a:pt x="20829" y="13336"/>
                  <a:pt x="20825" y="13361"/>
                  <a:pt x="20860" y="13430"/>
                </a:cubicBezTo>
                <a:cubicBezTo>
                  <a:pt x="20884" y="13478"/>
                  <a:pt x="20910" y="13504"/>
                  <a:pt x="20923" y="13557"/>
                </a:cubicBezTo>
                <a:cubicBezTo>
                  <a:pt x="20955" y="13557"/>
                  <a:pt x="20966" y="13557"/>
                  <a:pt x="20955" y="13589"/>
                </a:cubicBezTo>
              </a:path>
              <a:path w="20353" h="4350">
                <a:moveTo>
                  <a:pt x="21018" y="13240"/>
                </a:moveTo>
                <a:cubicBezTo>
                  <a:pt x="20998" y="13345"/>
                  <a:pt x="20992" y="13453"/>
                  <a:pt x="20955" y="13557"/>
                </a:cubicBezTo>
                <a:cubicBezTo>
                  <a:pt x="20931" y="13625"/>
                  <a:pt x="20900" y="13730"/>
                  <a:pt x="20860" y="13780"/>
                </a:cubicBezTo>
                <a:cubicBezTo>
                  <a:pt x="20831" y="13808"/>
                  <a:pt x="20820" y="13814"/>
                  <a:pt x="20828" y="13843"/>
                </a:cubicBezTo>
              </a:path>
              <a:path w="20353" h="4350">
                <a:moveTo>
                  <a:pt x="21304" y="12859"/>
                </a:moveTo>
                <a:cubicBezTo>
                  <a:pt x="21304" y="13021"/>
                  <a:pt x="21284" y="13176"/>
                  <a:pt x="21272" y="13335"/>
                </a:cubicBezTo>
                <a:cubicBezTo>
                  <a:pt x="21261" y="13485"/>
                  <a:pt x="21248" y="13632"/>
                  <a:pt x="21241" y="13780"/>
                </a:cubicBezTo>
                <a:cubicBezTo>
                  <a:pt x="21237" y="13864"/>
                  <a:pt x="21232" y="13934"/>
                  <a:pt x="21272" y="14002"/>
                </a:cubicBezTo>
              </a:path>
              <a:path w="20353" h="4350">
                <a:moveTo>
                  <a:pt x="21526" y="12890"/>
                </a:moveTo>
                <a:cubicBezTo>
                  <a:pt x="21475" y="12908"/>
                  <a:pt x="21480" y="13044"/>
                  <a:pt x="21463" y="13113"/>
                </a:cubicBezTo>
                <a:cubicBezTo>
                  <a:pt x="21415" y="13305"/>
                  <a:pt x="21374" y="13486"/>
                  <a:pt x="21368" y="13684"/>
                </a:cubicBezTo>
                <a:cubicBezTo>
                  <a:pt x="21365" y="13792"/>
                  <a:pt x="21356" y="13937"/>
                  <a:pt x="21400" y="14034"/>
                </a:cubicBezTo>
                <a:cubicBezTo>
                  <a:pt x="21410" y="14044"/>
                  <a:pt x="21421" y="14055"/>
                  <a:pt x="21431" y="14065"/>
                </a:cubicBezTo>
                <a:cubicBezTo>
                  <a:pt x="21502" y="14065"/>
                  <a:pt x="21547" y="14068"/>
                  <a:pt x="21590" y="14002"/>
                </a:cubicBezTo>
                <a:cubicBezTo>
                  <a:pt x="21646" y="13915"/>
                  <a:pt x="21704" y="13754"/>
                  <a:pt x="21717" y="13652"/>
                </a:cubicBezTo>
                <a:cubicBezTo>
                  <a:pt x="21745" y="13427"/>
                  <a:pt x="21724" y="13173"/>
                  <a:pt x="21685" y="12954"/>
                </a:cubicBezTo>
                <a:cubicBezTo>
                  <a:pt x="21671" y="12876"/>
                  <a:pt x="21667" y="12859"/>
                  <a:pt x="21590" y="12859"/>
                </a:cubicBezTo>
                <a:cubicBezTo>
                  <a:pt x="21558" y="12859"/>
                  <a:pt x="21547" y="12859"/>
                  <a:pt x="21526" y="12859"/>
                </a:cubicBezTo>
              </a:path>
              <a:path w="20353" h="4350">
                <a:moveTo>
                  <a:pt x="21971" y="12764"/>
                </a:moveTo>
                <a:cubicBezTo>
                  <a:pt x="21933" y="12839"/>
                  <a:pt x="21890" y="12986"/>
                  <a:pt x="21876" y="13081"/>
                </a:cubicBezTo>
                <a:cubicBezTo>
                  <a:pt x="21854" y="13229"/>
                  <a:pt x="21844" y="13373"/>
                  <a:pt x="21844" y="13526"/>
                </a:cubicBezTo>
                <a:cubicBezTo>
                  <a:pt x="21844" y="13669"/>
                  <a:pt x="21862" y="13867"/>
                  <a:pt x="21908" y="14002"/>
                </a:cubicBezTo>
                <a:cubicBezTo>
                  <a:pt x="21927" y="14057"/>
                  <a:pt x="22048" y="14085"/>
                  <a:pt x="22098" y="14065"/>
                </a:cubicBezTo>
                <a:cubicBezTo>
                  <a:pt x="22153" y="14043"/>
                  <a:pt x="22201" y="13952"/>
                  <a:pt x="22225" y="13906"/>
                </a:cubicBezTo>
                <a:cubicBezTo>
                  <a:pt x="22281" y="13800"/>
                  <a:pt x="22285" y="13645"/>
                  <a:pt x="22288" y="13526"/>
                </a:cubicBezTo>
                <a:cubicBezTo>
                  <a:pt x="22292" y="13358"/>
                  <a:pt x="22242" y="13211"/>
                  <a:pt x="22225" y="13049"/>
                </a:cubicBezTo>
                <a:cubicBezTo>
                  <a:pt x="22217" y="12973"/>
                  <a:pt x="22220" y="12867"/>
                  <a:pt x="22130" y="12827"/>
                </a:cubicBezTo>
                <a:cubicBezTo>
                  <a:pt x="22101" y="12814"/>
                  <a:pt x="22035" y="12827"/>
                  <a:pt x="22003" y="12827"/>
                </a:cubicBezTo>
              </a:path>
              <a:path w="20353" h="4350">
                <a:moveTo>
                  <a:pt x="22447" y="13240"/>
                </a:moveTo>
                <a:cubicBezTo>
                  <a:pt x="22512" y="13188"/>
                  <a:pt x="22573" y="13178"/>
                  <a:pt x="22638" y="13144"/>
                </a:cubicBezTo>
                <a:cubicBezTo>
                  <a:pt x="22659" y="13134"/>
                  <a:pt x="22680" y="13123"/>
                  <a:pt x="22701" y="13113"/>
                </a:cubicBezTo>
              </a:path>
              <a:path w="20353" h="4350">
                <a:moveTo>
                  <a:pt x="22574" y="13748"/>
                </a:moveTo>
                <a:cubicBezTo>
                  <a:pt x="22574" y="13759"/>
                  <a:pt x="22574" y="13769"/>
                  <a:pt x="22574" y="13780"/>
                </a:cubicBezTo>
                <a:cubicBezTo>
                  <a:pt x="22633" y="13765"/>
                  <a:pt x="22674" y="13715"/>
                  <a:pt x="22733" y="13684"/>
                </a:cubicBezTo>
                <a:cubicBezTo>
                  <a:pt x="22827" y="13634"/>
                  <a:pt x="22907" y="13564"/>
                  <a:pt x="22987" y="13494"/>
                </a:cubicBezTo>
              </a:path>
              <a:path w="20353" h="4350">
                <a:moveTo>
                  <a:pt x="23114" y="12890"/>
                </a:moveTo>
                <a:cubicBezTo>
                  <a:pt x="23092" y="12832"/>
                  <a:pt x="23079" y="12799"/>
                  <a:pt x="23114" y="12700"/>
                </a:cubicBezTo>
                <a:cubicBezTo>
                  <a:pt x="23159" y="12571"/>
                  <a:pt x="23166" y="12527"/>
                  <a:pt x="23241" y="12414"/>
                </a:cubicBezTo>
                <a:cubicBezTo>
                  <a:pt x="23280" y="12356"/>
                  <a:pt x="23337" y="12221"/>
                  <a:pt x="23432" y="12256"/>
                </a:cubicBezTo>
                <a:cubicBezTo>
                  <a:pt x="23521" y="12288"/>
                  <a:pt x="23495" y="12391"/>
                  <a:pt x="23495" y="12478"/>
                </a:cubicBezTo>
                <a:cubicBezTo>
                  <a:pt x="23495" y="12660"/>
                  <a:pt x="23424" y="12845"/>
                  <a:pt x="23368" y="13018"/>
                </a:cubicBezTo>
                <a:cubicBezTo>
                  <a:pt x="23352" y="13066"/>
                  <a:pt x="23309" y="13208"/>
                  <a:pt x="23273" y="13240"/>
                </a:cubicBezTo>
                <a:cubicBezTo>
                  <a:pt x="23262" y="13240"/>
                  <a:pt x="23252" y="13240"/>
                  <a:pt x="23241" y="13240"/>
                </a:cubicBezTo>
                <a:cubicBezTo>
                  <a:pt x="23268" y="13218"/>
                  <a:pt x="23318" y="13174"/>
                  <a:pt x="23368" y="13144"/>
                </a:cubicBezTo>
                <a:cubicBezTo>
                  <a:pt x="23417" y="13115"/>
                  <a:pt x="23500" y="13094"/>
                  <a:pt x="23558" y="13113"/>
                </a:cubicBezTo>
                <a:cubicBezTo>
                  <a:pt x="23625" y="13135"/>
                  <a:pt x="23708" y="13229"/>
                  <a:pt x="23717" y="13303"/>
                </a:cubicBezTo>
                <a:cubicBezTo>
                  <a:pt x="23739" y="13487"/>
                  <a:pt x="23732" y="13629"/>
                  <a:pt x="23717" y="13811"/>
                </a:cubicBezTo>
                <a:cubicBezTo>
                  <a:pt x="23702" y="13992"/>
                  <a:pt x="23650" y="14157"/>
                  <a:pt x="23558" y="14319"/>
                </a:cubicBezTo>
                <a:cubicBezTo>
                  <a:pt x="23478" y="14460"/>
                  <a:pt x="23354" y="14484"/>
                  <a:pt x="23209" y="14446"/>
                </a:cubicBezTo>
                <a:cubicBezTo>
                  <a:pt x="23070" y="14410"/>
                  <a:pt x="22938" y="14276"/>
                  <a:pt x="22860" y="14160"/>
                </a:cubicBezTo>
                <a:cubicBezTo>
                  <a:pt x="22815" y="14093"/>
                  <a:pt x="22762" y="14011"/>
                  <a:pt x="22828" y="13938"/>
                </a:cubicBezTo>
                <a:cubicBezTo>
                  <a:pt x="22875" y="13886"/>
                  <a:pt x="22961" y="13848"/>
                  <a:pt x="23019" y="13811"/>
                </a:cubicBezTo>
              </a:path>
              <a:path w="20353" h="4350">
                <a:moveTo>
                  <a:pt x="24035" y="12287"/>
                </a:moveTo>
                <a:cubicBezTo>
                  <a:pt x="23978" y="12344"/>
                  <a:pt x="23985" y="12355"/>
                  <a:pt x="23940" y="12478"/>
                </a:cubicBezTo>
                <a:cubicBezTo>
                  <a:pt x="23858" y="12701"/>
                  <a:pt x="23800" y="12937"/>
                  <a:pt x="23781" y="13176"/>
                </a:cubicBezTo>
                <a:cubicBezTo>
                  <a:pt x="23761" y="13423"/>
                  <a:pt x="23791" y="13665"/>
                  <a:pt x="23844" y="13906"/>
                </a:cubicBezTo>
                <a:cubicBezTo>
                  <a:pt x="23874" y="14042"/>
                  <a:pt x="23883" y="14175"/>
                  <a:pt x="24035" y="14192"/>
                </a:cubicBezTo>
                <a:cubicBezTo>
                  <a:pt x="24180" y="14208"/>
                  <a:pt x="24215" y="14082"/>
                  <a:pt x="24257" y="13970"/>
                </a:cubicBezTo>
                <a:cubicBezTo>
                  <a:pt x="24321" y="13798"/>
                  <a:pt x="24359" y="13548"/>
                  <a:pt x="24352" y="13367"/>
                </a:cubicBezTo>
                <a:cubicBezTo>
                  <a:pt x="24344" y="13156"/>
                  <a:pt x="24316" y="12936"/>
                  <a:pt x="24257" y="12732"/>
                </a:cubicBezTo>
                <a:cubicBezTo>
                  <a:pt x="24234" y="12651"/>
                  <a:pt x="24158" y="12499"/>
                  <a:pt x="24066" y="12478"/>
                </a:cubicBezTo>
                <a:cubicBezTo>
                  <a:pt x="23995" y="12462"/>
                  <a:pt x="23960" y="12484"/>
                  <a:pt x="23908" y="12510"/>
                </a:cubicBezTo>
              </a:path>
              <a:path w="20353" h="4350">
                <a:moveTo>
                  <a:pt x="24606" y="12192"/>
                </a:moveTo>
                <a:cubicBezTo>
                  <a:pt x="24595" y="12113"/>
                  <a:pt x="24591" y="12140"/>
                  <a:pt x="24543" y="12097"/>
                </a:cubicBezTo>
                <a:cubicBezTo>
                  <a:pt x="24504" y="12062"/>
                  <a:pt x="24477" y="12013"/>
                  <a:pt x="24416" y="12033"/>
                </a:cubicBezTo>
                <a:cubicBezTo>
                  <a:pt x="24352" y="12055"/>
                  <a:pt x="24322" y="12139"/>
                  <a:pt x="24320" y="12192"/>
                </a:cubicBezTo>
                <a:cubicBezTo>
                  <a:pt x="24318" y="12231"/>
                  <a:pt x="24321" y="12332"/>
                  <a:pt x="24352" y="12351"/>
                </a:cubicBezTo>
                <a:cubicBezTo>
                  <a:pt x="24399" y="12380"/>
                  <a:pt x="24478" y="12337"/>
                  <a:pt x="24511" y="12319"/>
                </a:cubicBezTo>
                <a:cubicBezTo>
                  <a:pt x="24596" y="12273"/>
                  <a:pt x="24655" y="12183"/>
                  <a:pt x="24702" y="12097"/>
                </a:cubicBezTo>
                <a:cubicBezTo>
                  <a:pt x="24716" y="12071"/>
                  <a:pt x="24721" y="12030"/>
                  <a:pt x="24733" y="12002"/>
                </a:cubicBezTo>
                <a:cubicBezTo>
                  <a:pt x="24751" y="12120"/>
                  <a:pt x="24742" y="12099"/>
                  <a:pt x="24733" y="12224"/>
                </a:cubicBezTo>
                <a:cubicBezTo>
                  <a:pt x="24718" y="12424"/>
                  <a:pt x="24716" y="12629"/>
                  <a:pt x="24702" y="12827"/>
                </a:cubicBezTo>
                <a:cubicBezTo>
                  <a:pt x="24686" y="13063"/>
                  <a:pt x="24646" y="13291"/>
                  <a:pt x="24606" y="13526"/>
                </a:cubicBezTo>
                <a:cubicBezTo>
                  <a:pt x="24570" y="13742"/>
                  <a:pt x="24475" y="13942"/>
                  <a:pt x="24448" y="14160"/>
                </a:cubicBezTo>
                <a:cubicBezTo>
                  <a:pt x="24433" y="14280"/>
                  <a:pt x="24393" y="14320"/>
                  <a:pt x="24448" y="14319"/>
                </a:cubicBezTo>
              </a:path>
              <a:path w="20353" h="4350">
                <a:moveTo>
                  <a:pt x="24860" y="13367"/>
                </a:moveTo>
                <a:cubicBezTo>
                  <a:pt x="24860" y="13482"/>
                  <a:pt x="24851" y="13605"/>
                  <a:pt x="24828" y="13716"/>
                </a:cubicBezTo>
                <a:cubicBezTo>
                  <a:pt x="24810" y="13802"/>
                  <a:pt x="24763" y="13943"/>
                  <a:pt x="24797" y="14034"/>
                </a:cubicBezTo>
                <a:cubicBezTo>
                  <a:pt x="24825" y="14062"/>
                  <a:pt x="24832" y="14073"/>
                  <a:pt x="24860" y="14065"/>
                </a:cubicBezTo>
                <a:cubicBezTo>
                  <a:pt x="24923" y="13987"/>
                  <a:pt x="24954" y="13907"/>
                  <a:pt x="24987" y="13811"/>
                </a:cubicBezTo>
                <a:cubicBezTo>
                  <a:pt x="25006" y="13756"/>
                  <a:pt x="25050" y="13619"/>
                  <a:pt x="25019" y="13557"/>
                </a:cubicBezTo>
                <a:cubicBezTo>
                  <a:pt x="24988" y="13496"/>
                  <a:pt x="24980" y="13477"/>
                  <a:pt x="24924" y="13526"/>
                </a:cubicBezTo>
                <a:cubicBezTo>
                  <a:pt x="24913" y="13536"/>
                  <a:pt x="24903" y="13547"/>
                  <a:pt x="24892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33"/>
          <p:cNvSpPr/>
          <p:nvPr/>
        </p:nvSpPr>
        <p:spPr>
          <a:xfrm>
            <a:off x="3121200" y="5132520"/>
            <a:ext cx="1714320" cy="125280"/>
          </a:xfrm>
          <a:custGeom>
            <a:avLst/>
            <a:gdLst/>
            <a:ahLst/>
            <a:rect l="l" t="t" r="r" b="b"/>
            <a:pathLst>
              <a:path w="4763" h="350">
                <a:moveTo>
                  <a:pt x="8731" y="14446"/>
                </a:moveTo>
                <a:cubicBezTo>
                  <a:pt x="8700" y="14446"/>
                  <a:pt x="8689" y="14446"/>
                  <a:pt x="8668" y="14446"/>
                </a:cubicBezTo>
                <a:cubicBezTo>
                  <a:pt x="8722" y="14429"/>
                  <a:pt x="8765" y="14398"/>
                  <a:pt x="8826" y="14383"/>
                </a:cubicBezTo>
                <a:cubicBezTo>
                  <a:pt x="8923" y="14359"/>
                  <a:pt x="9044" y="14333"/>
                  <a:pt x="9144" y="14319"/>
                </a:cubicBezTo>
                <a:cubicBezTo>
                  <a:pt x="9289" y="14299"/>
                  <a:pt x="9444" y="14316"/>
                  <a:pt x="9588" y="14288"/>
                </a:cubicBezTo>
                <a:cubicBezTo>
                  <a:pt x="9758" y="14255"/>
                  <a:pt x="9920" y="14256"/>
                  <a:pt x="10096" y="14256"/>
                </a:cubicBezTo>
                <a:cubicBezTo>
                  <a:pt x="10301" y="14256"/>
                  <a:pt x="10527" y="14266"/>
                  <a:pt x="10732" y="14288"/>
                </a:cubicBezTo>
                <a:cubicBezTo>
                  <a:pt x="11016" y="14318"/>
                  <a:pt x="11305" y="14317"/>
                  <a:pt x="11589" y="14351"/>
                </a:cubicBezTo>
                <a:cubicBezTo>
                  <a:pt x="11822" y="14379"/>
                  <a:pt x="12058" y="14406"/>
                  <a:pt x="12287" y="14446"/>
                </a:cubicBezTo>
                <a:cubicBezTo>
                  <a:pt x="12521" y="14487"/>
                  <a:pt x="12750" y="14551"/>
                  <a:pt x="12986" y="14573"/>
                </a:cubicBezTo>
                <a:cubicBezTo>
                  <a:pt x="13116" y="14585"/>
                  <a:pt x="13240" y="14587"/>
                  <a:pt x="13367" y="14605"/>
                </a:cubicBezTo>
                <a:cubicBezTo>
                  <a:pt x="13388" y="14605"/>
                  <a:pt x="13409" y="14605"/>
                  <a:pt x="13430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34"/>
          <p:cNvSpPr/>
          <p:nvPr/>
        </p:nvSpPr>
        <p:spPr>
          <a:xfrm>
            <a:off x="1211400" y="3681360"/>
            <a:ext cx="2388960" cy="925560"/>
          </a:xfrm>
          <a:custGeom>
            <a:avLst/>
            <a:gdLst/>
            <a:ahLst/>
            <a:rect l="l" t="t" r="r" b="b"/>
            <a:pathLst>
              <a:path w="6636" h="2572">
                <a:moveTo>
                  <a:pt x="6223" y="10763"/>
                </a:moveTo>
                <a:cubicBezTo>
                  <a:pt x="6145" y="10733"/>
                  <a:pt x="6125" y="10718"/>
                  <a:pt x="6032" y="10700"/>
                </a:cubicBezTo>
                <a:cubicBezTo>
                  <a:pt x="5932" y="10680"/>
                  <a:pt x="5856" y="10670"/>
                  <a:pt x="5747" y="10668"/>
                </a:cubicBezTo>
                <a:cubicBezTo>
                  <a:pt x="5520" y="10663"/>
                  <a:pt x="5300" y="10671"/>
                  <a:pt x="5080" y="10700"/>
                </a:cubicBezTo>
                <a:cubicBezTo>
                  <a:pt x="4930" y="10720"/>
                  <a:pt x="4783" y="10719"/>
                  <a:pt x="4636" y="10763"/>
                </a:cubicBezTo>
                <a:cubicBezTo>
                  <a:pt x="4499" y="10804"/>
                  <a:pt x="4354" y="10859"/>
                  <a:pt x="4223" y="10922"/>
                </a:cubicBezTo>
                <a:cubicBezTo>
                  <a:pt x="4093" y="10984"/>
                  <a:pt x="4058" y="11037"/>
                  <a:pt x="3969" y="11144"/>
                </a:cubicBezTo>
                <a:cubicBezTo>
                  <a:pt x="3888" y="11242"/>
                  <a:pt x="3820" y="11333"/>
                  <a:pt x="3810" y="11462"/>
                </a:cubicBezTo>
                <a:cubicBezTo>
                  <a:pt x="3803" y="11549"/>
                  <a:pt x="3820" y="11636"/>
                  <a:pt x="3842" y="11716"/>
                </a:cubicBezTo>
                <a:cubicBezTo>
                  <a:pt x="3873" y="11831"/>
                  <a:pt x="3950" y="11870"/>
                  <a:pt x="4032" y="11938"/>
                </a:cubicBezTo>
                <a:cubicBezTo>
                  <a:pt x="4117" y="12008"/>
                  <a:pt x="4209" y="12066"/>
                  <a:pt x="4318" y="12097"/>
                </a:cubicBezTo>
                <a:cubicBezTo>
                  <a:pt x="4441" y="12132"/>
                  <a:pt x="4572" y="12166"/>
                  <a:pt x="4699" y="12192"/>
                </a:cubicBezTo>
                <a:cubicBezTo>
                  <a:pt x="4837" y="12220"/>
                  <a:pt x="4972" y="12261"/>
                  <a:pt x="5112" y="12287"/>
                </a:cubicBezTo>
                <a:cubicBezTo>
                  <a:pt x="5268" y="12316"/>
                  <a:pt x="5430" y="12301"/>
                  <a:pt x="5588" y="12319"/>
                </a:cubicBezTo>
                <a:cubicBezTo>
                  <a:pt x="5779" y="12340"/>
                  <a:pt x="5969" y="12333"/>
                  <a:pt x="6160" y="12351"/>
                </a:cubicBezTo>
                <a:cubicBezTo>
                  <a:pt x="6353" y="12370"/>
                  <a:pt x="6535" y="12379"/>
                  <a:pt x="6731" y="12382"/>
                </a:cubicBezTo>
                <a:cubicBezTo>
                  <a:pt x="7209" y="12390"/>
                  <a:pt x="7686" y="12379"/>
                  <a:pt x="8160" y="12351"/>
                </a:cubicBezTo>
                <a:cubicBezTo>
                  <a:pt x="8384" y="12338"/>
                  <a:pt x="8642" y="12320"/>
                  <a:pt x="8858" y="12256"/>
                </a:cubicBezTo>
                <a:cubicBezTo>
                  <a:pt x="8995" y="12215"/>
                  <a:pt x="9154" y="12152"/>
                  <a:pt x="9271" y="12065"/>
                </a:cubicBezTo>
                <a:cubicBezTo>
                  <a:pt x="9392" y="11976"/>
                  <a:pt x="9467" y="11885"/>
                  <a:pt x="9525" y="11748"/>
                </a:cubicBezTo>
                <a:cubicBezTo>
                  <a:pt x="9575" y="11629"/>
                  <a:pt x="9564" y="11521"/>
                  <a:pt x="9525" y="11398"/>
                </a:cubicBezTo>
                <a:cubicBezTo>
                  <a:pt x="9480" y="11259"/>
                  <a:pt x="9397" y="11157"/>
                  <a:pt x="9303" y="11049"/>
                </a:cubicBezTo>
                <a:cubicBezTo>
                  <a:pt x="9198" y="10929"/>
                  <a:pt x="9092" y="10849"/>
                  <a:pt x="8954" y="10763"/>
                </a:cubicBezTo>
                <a:cubicBezTo>
                  <a:pt x="8805" y="10670"/>
                  <a:pt x="8612" y="10593"/>
                  <a:pt x="8446" y="10541"/>
                </a:cubicBezTo>
                <a:cubicBezTo>
                  <a:pt x="8176" y="10456"/>
                  <a:pt x="7895" y="10427"/>
                  <a:pt x="7620" y="10382"/>
                </a:cubicBezTo>
                <a:cubicBezTo>
                  <a:pt x="7416" y="10348"/>
                  <a:pt x="7224" y="10350"/>
                  <a:pt x="7017" y="10350"/>
                </a:cubicBezTo>
                <a:cubicBezTo>
                  <a:pt x="6821" y="10350"/>
                  <a:pt x="6639" y="10378"/>
                  <a:pt x="6445" y="10382"/>
                </a:cubicBezTo>
                <a:cubicBezTo>
                  <a:pt x="6200" y="10387"/>
                  <a:pt x="5958" y="10447"/>
                  <a:pt x="5715" y="10478"/>
                </a:cubicBezTo>
                <a:cubicBezTo>
                  <a:pt x="5531" y="10502"/>
                  <a:pt x="5358" y="10536"/>
                  <a:pt x="5175" y="10573"/>
                </a:cubicBezTo>
                <a:cubicBezTo>
                  <a:pt x="4847" y="10639"/>
                  <a:pt x="4523" y="10716"/>
                  <a:pt x="4223" y="10858"/>
                </a:cubicBezTo>
                <a:cubicBezTo>
                  <a:pt x="4081" y="10925"/>
                  <a:pt x="3896" y="11002"/>
                  <a:pt x="3778" y="11112"/>
                </a:cubicBezTo>
                <a:cubicBezTo>
                  <a:pt x="3693" y="11191"/>
                  <a:pt x="3593" y="11304"/>
                  <a:pt x="3524" y="11398"/>
                </a:cubicBezTo>
                <a:cubicBezTo>
                  <a:pt x="3461" y="11484"/>
                  <a:pt x="3387" y="11611"/>
                  <a:pt x="3366" y="11716"/>
                </a:cubicBezTo>
                <a:cubicBezTo>
                  <a:pt x="3349" y="11802"/>
                  <a:pt x="3358" y="11925"/>
                  <a:pt x="3397" y="12002"/>
                </a:cubicBezTo>
                <a:cubicBezTo>
                  <a:pt x="3463" y="12132"/>
                  <a:pt x="3685" y="12237"/>
                  <a:pt x="3810" y="12287"/>
                </a:cubicBezTo>
                <a:cubicBezTo>
                  <a:pt x="3961" y="12347"/>
                  <a:pt x="4130" y="12403"/>
                  <a:pt x="4286" y="12446"/>
                </a:cubicBezTo>
                <a:cubicBezTo>
                  <a:pt x="4518" y="12510"/>
                  <a:pt x="4751" y="12535"/>
                  <a:pt x="4985" y="12573"/>
                </a:cubicBezTo>
                <a:cubicBezTo>
                  <a:pt x="5188" y="12606"/>
                  <a:pt x="5387" y="12639"/>
                  <a:pt x="5588" y="12668"/>
                </a:cubicBezTo>
                <a:cubicBezTo>
                  <a:pt x="5810" y="12700"/>
                  <a:pt x="6032" y="12750"/>
                  <a:pt x="6255" y="12764"/>
                </a:cubicBezTo>
                <a:cubicBezTo>
                  <a:pt x="6479" y="12778"/>
                  <a:pt x="6696" y="12795"/>
                  <a:pt x="6922" y="12795"/>
                </a:cubicBezTo>
                <a:cubicBezTo>
                  <a:pt x="7137" y="12795"/>
                  <a:pt x="7374" y="12788"/>
                  <a:pt x="7588" y="12764"/>
                </a:cubicBezTo>
                <a:cubicBezTo>
                  <a:pt x="8157" y="12700"/>
                  <a:pt x="8751" y="12530"/>
                  <a:pt x="9303" y="12382"/>
                </a:cubicBezTo>
                <a:cubicBezTo>
                  <a:pt x="9450" y="12342"/>
                  <a:pt x="9582" y="12294"/>
                  <a:pt x="9716" y="12224"/>
                </a:cubicBezTo>
                <a:cubicBezTo>
                  <a:pt x="9848" y="12155"/>
                  <a:pt x="9912" y="12102"/>
                  <a:pt x="9970" y="11970"/>
                </a:cubicBezTo>
                <a:cubicBezTo>
                  <a:pt x="10025" y="11846"/>
                  <a:pt x="9996" y="11745"/>
                  <a:pt x="9970" y="11620"/>
                </a:cubicBezTo>
                <a:cubicBezTo>
                  <a:pt x="9936" y="11457"/>
                  <a:pt x="9875" y="11343"/>
                  <a:pt x="9779" y="11208"/>
                </a:cubicBezTo>
                <a:cubicBezTo>
                  <a:pt x="9682" y="11071"/>
                  <a:pt x="9557" y="10964"/>
                  <a:pt x="9430" y="10858"/>
                </a:cubicBezTo>
                <a:cubicBezTo>
                  <a:pt x="9284" y="10736"/>
                  <a:pt x="9123" y="10657"/>
                  <a:pt x="8954" y="10573"/>
                </a:cubicBezTo>
                <a:cubicBezTo>
                  <a:pt x="8783" y="10487"/>
                  <a:pt x="8600" y="10425"/>
                  <a:pt x="8414" y="10382"/>
                </a:cubicBezTo>
                <a:cubicBezTo>
                  <a:pt x="8112" y="10311"/>
                  <a:pt x="7803" y="10230"/>
                  <a:pt x="7493" y="10224"/>
                </a:cubicBezTo>
                <a:cubicBezTo>
                  <a:pt x="7146" y="10217"/>
                  <a:pt x="6787" y="10202"/>
                  <a:pt x="6445" y="10255"/>
                </a:cubicBezTo>
                <a:cubicBezTo>
                  <a:pt x="6092" y="10310"/>
                  <a:pt x="5735" y="10366"/>
                  <a:pt x="5398" y="10478"/>
                </a:cubicBezTo>
                <a:cubicBezTo>
                  <a:pt x="5209" y="10541"/>
                  <a:pt x="5010" y="10597"/>
                  <a:pt x="4826" y="10668"/>
                </a:cubicBezTo>
                <a:cubicBezTo>
                  <a:pt x="4620" y="10748"/>
                  <a:pt x="4446" y="10910"/>
                  <a:pt x="4254" y="11017"/>
                </a:cubicBezTo>
                <a:cubicBezTo>
                  <a:pt x="4112" y="11096"/>
                  <a:pt x="3995" y="11194"/>
                  <a:pt x="3874" y="11303"/>
                </a:cubicBezTo>
                <a:cubicBezTo>
                  <a:pt x="3773" y="11393"/>
                  <a:pt x="3710" y="11471"/>
                  <a:pt x="3651" y="11589"/>
                </a:cubicBezTo>
                <a:cubicBezTo>
                  <a:pt x="3604" y="11683"/>
                  <a:pt x="3614" y="11714"/>
                  <a:pt x="3588" y="11811"/>
                </a:cubicBezTo>
                <a:cubicBezTo>
                  <a:pt x="3672" y="11877"/>
                  <a:pt x="3726" y="11928"/>
                  <a:pt x="3810" y="11970"/>
                </a:cubicBezTo>
                <a:cubicBezTo>
                  <a:pt x="3913" y="12022"/>
                  <a:pt x="4047" y="12070"/>
                  <a:pt x="4159" y="12097"/>
                </a:cubicBezTo>
                <a:cubicBezTo>
                  <a:pt x="4297" y="12131"/>
                  <a:pt x="4461" y="12142"/>
                  <a:pt x="4604" y="12160"/>
                </a:cubicBezTo>
                <a:cubicBezTo>
                  <a:pt x="4836" y="12190"/>
                  <a:pt x="5071" y="12214"/>
                  <a:pt x="5302" y="12256"/>
                </a:cubicBezTo>
                <a:cubicBezTo>
                  <a:pt x="5515" y="12295"/>
                  <a:pt x="5726" y="12309"/>
                  <a:pt x="5937" y="12351"/>
                </a:cubicBezTo>
                <a:cubicBezTo>
                  <a:pt x="6141" y="12392"/>
                  <a:pt x="6337" y="12419"/>
                  <a:pt x="6540" y="12446"/>
                </a:cubicBezTo>
                <a:cubicBezTo>
                  <a:pt x="6763" y="12476"/>
                  <a:pt x="6985" y="12513"/>
                  <a:pt x="7207" y="12541"/>
                </a:cubicBezTo>
                <a:cubicBezTo>
                  <a:pt x="7421" y="12568"/>
                  <a:pt x="7624" y="12573"/>
                  <a:pt x="7842" y="12573"/>
                </a:cubicBezTo>
                <a:cubicBezTo>
                  <a:pt x="8076" y="12573"/>
                  <a:pt x="8276" y="12602"/>
                  <a:pt x="8509" y="12573"/>
                </a:cubicBezTo>
                <a:cubicBezTo>
                  <a:pt x="8784" y="12539"/>
                  <a:pt x="9066" y="12496"/>
                  <a:pt x="9334" y="12414"/>
                </a:cubicBezTo>
                <a:cubicBezTo>
                  <a:pt x="9479" y="12370"/>
                  <a:pt x="9660" y="12326"/>
                  <a:pt x="9779" y="12224"/>
                </a:cubicBezTo>
                <a:cubicBezTo>
                  <a:pt x="9866" y="12150"/>
                  <a:pt x="9978" y="11987"/>
                  <a:pt x="10001" y="11874"/>
                </a:cubicBezTo>
                <a:cubicBezTo>
                  <a:pt x="10031" y="11729"/>
                  <a:pt x="10007" y="11537"/>
                  <a:pt x="9970" y="11398"/>
                </a:cubicBezTo>
                <a:cubicBezTo>
                  <a:pt x="9921" y="11213"/>
                  <a:pt x="9825" y="11071"/>
                  <a:pt x="9716" y="10922"/>
                </a:cubicBezTo>
                <a:cubicBezTo>
                  <a:pt x="9580" y="10736"/>
                  <a:pt x="9407" y="10590"/>
                  <a:pt x="9208" y="10478"/>
                </a:cubicBezTo>
                <a:cubicBezTo>
                  <a:pt x="9036" y="10381"/>
                  <a:pt x="8828" y="10358"/>
                  <a:pt x="8636" y="10319"/>
                </a:cubicBezTo>
                <a:cubicBezTo>
                  <a:pt x="8424" y="10276"/>
                  <a:pt x="8216" y="10287"/>
                  <a:pt x="8001" y="10287"/>
                </a:cubicBezTo>
                <a:cubicBezTo>
                  <a:pt x="7779" y="10287"/>
                  <a:pt x="7553" y="10316"/>
                  <a:pt x="7334" y="10350"/>
                </a:cubicBezTo>
                <a:cubicBezTo>
                  <a:pt x="7085" y="10389"/>
                  <a:pt x="6844" y="10427"/>
                  <a:pt x="6604" y="10478"/>
                </a:cubicBezTo>
                <a:cubicBezTo>
                  <a:pt x="6307" y="10542"/>
                  <a:pt x="6005" y="10573"/>
                  <a:pt x="5715" y="10668"/>
                </a:cubicBezTo>
                <a:cubicBezTo>
                  <a:pt x="5495" y="10740"/>
                  <a:pt x="5267" y="10785"/>
                  <a:pt x="5048" y="10858"/>
                </a:cubicBezTo>
                <a:cubicBezTo>
                  <a:pt x="4693" y="10977"/>
                  <a:pt x="4376" y="11152"/>
                  <a:pt x="4064" y="11335"/>
                </a:cubicBezTo>
                <a:cubicBezTo>
                  <a:pt x="3886" y="11439"/>
                  <a:pt x="3831" y="11497"/>
                  <a:pt x="3715" y="11652"/>
                </a:cubicBezTo>
                <a:cubicBezTo>
                  <a:pt x="3704" y="11673"/>
                  <a:pt x="3694" y="11695"/>
                  <a:pt x="3683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HotCakes Café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04920" y="335268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t Hastie’s Pastries, they sold half as many pastries Friday, triple as many pastries Saturday, and a fourth of each pastry on Sunday.  Create a matrix that represents Hastie’s Pastr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71600" y="990720"/>
          <a:ext cx="5638680" cy="207324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Ink 31"/>
          <p:cNvSpPr/>
          <p:nvPr/>
        </p:nvSpPr>
        <p:spPr>
          <a:xfrm>
            <a:off x="8389800" y="1347840"/>
            <a:ext cx="525600" cy="2162160"/>
          </a:xfrm>
          <a:custGeom>
            <a:avLst/>
            <a:gdLst/>
            <a:ahLst/>
            <a:rect l="l" t="t" r="r" b="b"/>
            <a:pathLst>
              <a:path w="1462" h="6002">
                <a:moveTo>
                  <a:pt x="23717" y="4318"/>
                </a:moveTo>
                <a:cubicBezTo>
                  <a:pt x="23667" y="4305"/>
                  <a:pt x="23647" y="4286"/>
                  <a:pt x="23590" y="4286"/>
                </a:cubicBezTo>
                <a:cubicBezTo>
                  <a:pt x="23534" y="4286"/>
                  <a:pt x="23476" y="4359"/>
                  <a:pt x="23463" y="4413"/>
                </a:cubicBezTo>
                <a:cubicBezTo>
                  <a:pt x="23441" y="4504"/>
                  <a:pt x="23383" y="4608"/>
                  <a:pt x="23368" y="4699"/>
                </a:cubicBezTo>
                <a:cubicBezTo>
                  <a:pt x="23347" y="4823"/>
                  <a:pt x="23349" y="4897"/>
                  <a:pt x="23368" y="5016"/>
                </a:cubicBezTo>
                <a:cubicBezTo>
                  <a:pt x="23387" y="5133"/>
                  <a:pt x="23407" y="5166"/>
                  <a:pt x="23495" y="5239"/>
                </a:cubicBezTo>
                <a:cubicBezTo>
                  <a:pt x="23583" y="5312"/>
                  <a:pt x="23591" y="5318"/>
                  <a:pt x="23686" y="5302"/>
                </a:cubicBezTo>
                <a:cubicBezTo>
                  <a:pt x="23733" y="5294"/>
                  <a:pt x="23784" y="5251"/>
                  <a:pt x="23812" y="5207"/>
                </a:cubicBezTo>
                <a:cubicBezTo>
                  <a:pt x="23871" y="5115"/>
                  <a:pt x="23896" y="4995"/>
                  <a:pt x="23908" y="4890"/>
                </a:cubicBezTo>
                <a:cubicBezTo>
                  <a:pt x="23930" y="4693"/>
                  <a:pt x="23930" y="4430"/>
                  <a:pt x="23876" y="4254"/>
                </a:cubicBezTo>
                <a:cubicBezTo>
                  <a:pt x="23867" y="4225"/>
                  <a:pt x="23825" y="4199"/>
                  <a:pt x="23781" y="4223"/>
                </a:cubicBezTo>
                <a:cubicBezTo>
                  <a:pt x="23720" y="4256"/>
                  <a:pt x="23688" y="4327"/>
                  <a:pt x="23654" y="4382"/>
                </a:cubicBezTo>
              </a:path>
              <a:path w="1462" h="6002">
                <a:moveTo>
                  <a:pt x="23304" y="6096"/>
                </a:moveTo>
                <a:cubicBezTo>
                  <a:pt x="23315" y="6017"/>
                  <a:pt x="23331" y="6001"/>
                  <a:pt x="23368" y="5937"/>
                </a:cubicBezTo>
                <a:cubicBezTo>
                  <a:pt x="23404" y="5875"/>
                  <a:pt x="23485" y="5768"/>
                  <a:pt x="23558" y="5747"/>
                </a:cubicBezTo>
                <a:cubicBezTo>
                  <a:pt x="23655" y="5719"/>
                  <a:pt x="23681" y="5724"/>
                  <a:pt x="23781" y="5747"/>
                </a:cubicBezTo>
                <a:cubicBezTo>
                  <a:pt x="23893" y="5773"/>
                  <a:pt x="23832" y="5899"/>
                  <a:pt x="23812" y="5969"/>
                </a:cubicBezTo>
                <a:cubicBezTo>
                  <a:pt x="23765" y="6136"/>
                  <a:pt x="23706" y="6232"/>
                  <a:pt x="23622" y="6382"/>
                </a:cubicBezTo>
                <a:cubicBezTo>
                  <a:pt x="23552" y="6506"/>
                  <a:pt x="23477" y="6616"/>
                  <a:pt x="23400" y="6731"/>
                </a:cubicBezTo>
                <a:cubicBezTo>
                  <a:pt x="23358" y="6794"/>
                  <a:pt x="23372" y="6809"/>
                  <a:pt x="23304" y="6826"/>
                </a:cubicBezTo>
                <a:cubicBezTo>
                  <a:pt x="23378" y="6826"/>
                  <a:pt x="23436" y="6806"/>
                  <a:pt x="23495" y="6794"/>
                </a:cubicBezTo>
                <a:cubicBezTo>
                  <a:pt x="23562" y="6780"/>
                  <a:pt x="23621" y="6789"/>
                  <a:pt x="23686" y="6763"/>
                </a:cubicBezTo>
                <a:cubicBezTo>
                  <a:pt x="23762" y="6733"/>
                  <a:pt x="23830" y="6687"/>
                  <a:pt x="23908" y="6668"/>
                </a:cubicBezTo>
                <a:cubicBezTo>
                  <a:pt x="23980" y="6650"/>
                  <a:pt x="24014" y="6626"/>
                  <a:pt x="24066" y="6572"/>
                </a:cubicBezTo>
              </a:path>
              <a:path w="1462" h="6002">
                <a:moveTo>
                  <a:pt x="24035" y="7366"/>
                </a:moveTo>
                <a:cubicBezTo>
                  <a:pt x="23990" y="7399"/>
                  <a:pt x="23968" y="7406"/>
                  <a:pt x="23940" y="7430"/>
                </a:cubicBezTo>
                <a:cubicBezTo>
                  <a:pt x="23906" y="7460"/>
                  <a:pt x="23857" y="7490"/>
                  <a:pt x="23812" y="7493"/>
                </a:cubicBezTo>
                <a:cubicBezTo>
                  <a:pt x="23725" y="7499"/>
                  <a:pt x="23673" y="7504"/>
                  <a:pt x="23590" y="7525"/>
                </a:cubicBezTo>
                <a:cubicBezTo>
                  <a:pt x="23540" y="7538"/>
                  <a:pt x="23462" y="7495"/>
                  <a:pt x="23432" y="7556"/>
                </a:cubicBezTo>
                <a:cubicBezTo>
                  <a:pt x="23390" y="7641"/>
                  <a:pt x="23450" y="7795"/>
                  <a:pt x="23463" y="7874"/>
                </a:cubicBezTo>
                <a:cubicBezTo>
                  <a:pt x="23476" y="7954"/>
                  <a:pt x="23463" y="8047"/>
                  <a:pt x="23463" y="8128"/>
                </a:cubicBezTo>
                <a:cubicBezTo>
                  <a:pt x="23474" y="8082"/>
                  <a:pt x="23497" y="8012"/>
                  <a:pt x="23527" y="7969"/>
                </a:cubicBezTo>
                <a:cubicBezTo>
                  <a:pt x="23569" y="7908"/>
                  <a:pt x="23652" y="7879"/>
                  <a:pt x="23717" y="7874"/>
                </a:cubicBezTo>
                <a:cubicBezTo>
                  <a:pt x="23785" y="7868"/>
                  <a:pt x="23826" y="7892"/>
                  <a:pt x="23876" y="7938"/>
                </a:cubicBezTo>
                <a:cubicBezTo>
                  <a:pt x="23949" y="8006"/>
                  <a:pt x="23999" y="8098"/>
                  <a:pt x="24035" y="8192"/>
                </a:cubicBezTo>
                <a:cubicBezTo>
                  <a:pt x="24068" y="8277"/>
                  <a:pt x="24087" y="8417"/>
                  <a:pt x="24066" y="8509"/>
                </a:cubicBezTo>
                <a:cubicBezTo>
                  <a:pt x="24049" y="8584"/>
                  <a:pt x="23962" y="8716"/>
                  <a:pt x="23908" y="8763"/>
                </a:cubicBezTo>
                <a:cubicBezTo>
                  <a:pt x="23843" y="8819"/>
                  <a:pt x="23766" y="8826"/>
                  <a:pt x="23686" y="8826"/>
                </a:cubicBezTo>
                <a:cubicBezTo>
                  <a:pt x="23631" y="8826"/>
                  <a:pt x="23635" y="8828"/>
                  <a:pt x="23590" y="8795"/>
                </a:cubicBezTo>
              </a:path>
              <a:path w="1462" h="6002">
                <a:moveTo>
                  <a:pt x="23590" y="3746"/>
                </a:moveTo>
                <a:cubicBezTo>
                  <a:pt x="23660" y="3762"/>
                  <a:pt x="23726" y="3776"/>
                  <a:pt x="23812" y="3778"/>
                </a:cubicBezTo>
                <a:cubicBezTo>
                  <a:pt x="23993" y="3783"/>
                  <a:pt x="24301" y="3719"/>
                  <a:pt x="24448" y="3810"/>
                </a:cubicBezTo>
                <a:cubicBezTo>
                  <a:pt x="24544" y="3869"/>
                  <a:pt x="24574" y="3953"/>
                  <a:pt x="24606" y="4064"/>
                </a:cubicBezTo>
                <a:cubicBezTo>
                  <a:pt x="24653" y="4227"/>
                  <a:pt x="24617" y="4375"/>
                  <a:pt x="24606" y="4540"/>
                </a:cubicBezTo>
                <a:cubicBezTo>
                  <a:pt x="24590" y="4772"/>
                  <a:pt x="24578" y="5007"/>
                  <a:pt x="24574" y="5239"/>
                </a:cubicBezTo>
                <a:cubicBezTo>
                  <a:pt x="24569" y="5507"/>
                  <a:pt x="24593" y="5767"/>
                  <a:pt x="24606" y="6032"/>
                </a:cubicBezTo>
                <a:cubicBezTo>
                  <a:pt x="24621" y="6330"/>
                  <a:pt x="24632" y="6626"/>
                  <a:pt x="24670" y="6922"/>
                </a:cubicBezTo>
                <a:cubicBezTo>
                  <a:pt x="24706" y="7207"/>
                  <a:pt x="24728" y="7492"/>
                  <a:pt x="24733" y="7779"/>
                </a:cubicBezTo>
                <a:cubicBezTo>
                  <a:pt x="24737" y="8025"/>
                  <a:pt x="24765" y="8261"/>
                  <a:pt x="24765" y="8509"/>
                </a:cubicBezTo>
                <a:cubicBezTo>
                  <a:pt x="24765" y="8764"/>
                  <a:pt x="24786" y="9024"/>
                  <a:pt x="24733" y="9271"/>
                </a:cubicBezTo>
                <a:cubicBezTo>
                  <a:pt x="24702" y="9414"/>
                  <a:pt x="24741" y="9300"/>
                  <a:pt x="24670" y="9366"/>
                </a:cubicBezTo>
                <a:cubicBezTo>
                  <a:pt x="24620" y="9413"/>
                  <a:pt x="24480" y="9455"/>
                  <a:pt x="24416" y="9493"/>
                </a:cubicBezTo>
                <a:cubicBezTo>
                  <a:pt x="24250" y="9591"/>
                  <a:pt x="24087" y="9672"/>
                  <a:pt x="23908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32"/>
          <p:cNvSpPr/>
          <p:nvPr/>
        </p:nvSpPr>
        <p:spPr>
          <a:xfrm>
            <a:off x="6881760" y="1336680"/>
            <a:ext cx="514440" cy="1817640"/>
          </a:xfrm>
          <a:custGeom>
            <a:avLst/>
            <a:gdLst/>
            <a:ahLst/>
            <a:rect l="l" t="t" r="r" b="b"/>
            <a:pathLst>
              <a:path w="1429" h="5049">
                <a:moveTo>
                  <a:pt x="20193" y="3874"/>
                </a:moveTo>
                <a:cubicBezTo>
                  <a:pt x="20205" y="3839"/>
                  <a:pt x="20213" y="3813"/>
                  <a:pt x="20225" y="3778"/>
                </a:cubicBezTo>
                <a:cubicBezTo>
                  <a:pt x="20165" y="3759"/>
                  <a:pt x="20134" y="3759"/>
                  <a:pt x="20066" y="3746"/>
                </a:cubicBezTo>
                <a:cubicBezTo>
                  <a:pt x="19979" y="3729"/>
                  <a:pt x="19908" y="3703"/>
                  <a:pt x="19812" y="3715"/>
                </a:cubicBezTo>
                <a:cubicBezTo>
                  <a:pt x="19709" y="3728"/>
                  <a:pt x="19560" y="3746"/>
                  <a:pt x="19463" y="3778"/>
                </a:cubicBezTo>
                <a:cubicBezTo>
                  <a:pt x="19381" y="3805"/>
                  <a:pt x="19232" y="3870"/>
                  <a:pt x="19177" y="3937"/>
                </a:cubicBezTo>
                <a:cubicBezTo>
                  <a:pt x="19118" y="4009"/>
                  <a:pt x="19108" y="4026"/>
                  <a:pt x="19114" y="4128"/>
                </a:cubicBezTo>
                <a:cubicBezTo>
                  <a:pt x="19119" y="4230"/>
                  <a:pt x="19193" y="4341"/>
                  <a:pt x="19209" y="4445"/>
                </a:cubicBezTo>
                <a:cubicBezTo>
                  <a:pt x="19234" y="4614"/>
                  <a:pt x="19221" y="4784"/>
                  <a:pt x="19240" y="4953"/>
                </a:cubicBezTo>
                <a:cubicBezTo>
                  <a:pt x="19265" y="5167"/>
                  <a:pt x="19272" y="5371"/>
                  <a:pt x="19272" y="5588"/>
                </a:cubicBezTo>
                <a:cubicBezTo>
                  <a:pt x="19272" y="6056"/>
                  <a:pt x="19279" y="6520"/>
                  <a:pt x="19304" y="6985"/>
                </a:cubicBezTo>
                <a:cubicBezTo>
                  <a:pt x="19317" y="7228"/>
                  <a:pt x="19331" y="7472"/>
                  <a:pt x="19336" y="7715"/>
                </a:cubicBezTo>
                <a:cubicBezTo>
                  <a:pt x="19342" y="8045"/>
                  <a:pt x="19338" y="8382"/>
                  <a:pt x="19304" y="8700"/>
                </a:cubicBezTo>
                <a:cubicBezTo>
                  <a:pt x="19304" y="8731"/>
                  <a:pt x="19304" y="8742"/>
                  <a:pt x="19304" y="8763"/>
                </a:cubicBezTo>
                <a:cubicBezTo>
                  <a:pt x="19362" y="8751"/>
                  <a:pt x="19395" y="8734"/>
                  <a:pt x="19463" y="8731"/>
                </a:cubicBezTo>
                <a:cubicBezTo>
                  <a:pt x="19627" y="8725"/>
                  <a:pt x="19779" y="8737"/>
                  <a:pt x="19939" y="8700"/>
                </a:cubicBezTo>
                <a:cubicBezTo>
                  <a:pt x="20025" y="8680"/>
                  <a:pt x="20102" y="8671"/>
                  <a:pt x="20193" y="8668"/>
                </a:cubicBezTo>
                <a:cubicBezTo>
                  <a:pt x="20246" y="8668"/>
                  <a:pt x="20256" y="8668"/>
                  <a:pt x="20288" y="8668"/>
                </a:cubicBezTo>
              </a:path>
              <a:path w="1429" h="5049">
                <a:moveTo>
                  <a:pt x="19971" y="4477"/>
                </a:moveTo>
                <a:cubicBezTo>
                  <a:pt x="19971" y="4580"/>
                  <a:pt x="19997" y="4609"/>
                  <a:pt x="20002" y="4699"/>
                </a:cubicBezTo>
                <a:cubicBezTo>
                  <a:pt x="20002" y="4751"/>
                  <a:pt x="20013" y="4772"/>
                  <a:pt x="19971" y="4762"/>
                </a:cubicBezTo>
                <a:cubicBezTo>
                  <a:pt x="19971" y="4691"/>
                  <a:pt x="19950" y="4657"/>
                  <a:pt x="19939" y="4604"/>
                </a:cubicBezTo>
                <a:cubicBezTo>
                  <a:pt x="19924" y="4533"/>
                  <a:pt x="19942" y="4468"/>
                  <a:pt x="19971" y="4413"/>
                </a:cubicBezTo>
                <a:cubicBezTo>
                  <a:pt x="20013" y="4333"/>
                  <a:pt x="20017" y="4350"/>
                  <a:pt x="20098" y="4350"/>
                </a:cubicBezTo>
                <a:cubicBezTo>
                  <a:pt x="20213" y="4350"/>
                  <a:pt x="20317" y="4349"/>
                  <a:pt x="20415" y="4382"/>
                </a:cubicBezTo>
                <a:cubicBezTo>
                  <a:pt x="20503" y="4411"/>
                  <a:pt x="20515" y="4371"/>
                  <a:pt x="20542" y="4508"/>
                </a:cubicBezTo>
                <a:cubicBezTo>
                  <a:pt x="20564" y="4619"/>
                  <a:pt x="20490" y="4778"/>
                  <a:pt x="20479" y="4890"/>
                </a:cubicBezTo>
                <a:cubicBezTo>
                  <a:pt x="20463" y="5052"/>
                  <a:pt x="20401" y="5205"/>
                  <a:pt x="20384" y="5366"/>
                </a:cubicBezTo>
                <a:cubicBezTo>
                  <a:pt x="20372" y="5474"/>
                  <a:pt x="20361" y="5575"/>
                  <a:pt x="20352" y="5683"/>
                </a:cubicBezTo>
              </a:path>
              <a:path w="1429" h="5049">
                <a:moveTo>
                  <a:pt x="19971" y="6001"/>
                </a:moveTo>
                <a:cubicBezTo>
                  <a:pt x="19971" y="6172"/>
                  <a:pt x="19985" y="6358"/>
                  <a:pt x="19939" y="6509"/>
                </a:cubicBezTo>
                <a:cubicBezTo>
                  <a:pt x="19939" y="6540"/>
                  <a:pt x="19939" y="6551"/>
                  <a:pt x="19939" y="6572"/>
                </a:cubicBezTo>
                <a:cubicBezTo>
                  <a:pt x="20053" y="6572"/>
                  <a:pt x="20159" y="6583"/>
                  <a:pt x="20256" y="6604"/>
                </a:cubicBezTo>
                <a:cubicBezTo>
                  <a:pt x="20339" y="6622"/>
                  <a:pt x="20352" y="6588"/>
                  <a:pt x="20384" y="6572"/>
                </a:cubicBezTo>
                <a:cubicBezTo>
                  <a:pt x="20456" y="6535"/>
                  <a:pt x="20447" y="6598"/>
                  <a:pt x="20447" y="6477"/>
                </a:cubicBezTo>
              </a:path>
              <a:path w="1429" h="5049">
                <a:moveTo>
                  <a:pt x="20352" y="5937"/>
                </a:moveTo>
                <a:cubicBezTo>
                  <a:pt x="20336" y="6079"/>
                  <a:pt x="20320" y="6202"/>
                  <a:pt x="20320" y="6350"/>
                </a:cubicBezTo>
                <a:cubicBezTo>
                  <a:pt x="20320" y="6566"/>
                  <a:pt x="20348" y="6771"/>
                  <a:pt x="20352" y="6985"/>
                </a:cubicBezTo>
                <a:cubicBezTo>
                  <a:pt x="20352" y="7154"/>
                  <a:pt x="20352" y="7196"/>
                  <a:pt x="20352" y="7302"/>
                </a:cubicBezTo>
              </a:path>
              <a:path w="1429" h="5049">
                <a:moveTo>
                  <a:pt x="20352" y="7461"/>
                </a:moveTo>
                <a:cubicBezTo>
                  <a:pt x="20352" y="7585"/>
                  <a:pt x="20379" y="7689"/>
                  <a:pt x="20384" y="7810"/>
                </a:cubicBezTo>
                <a:cubicBezTo>
                  <a:pt x="20391" y="8011"/>
                  <a:pt x="20384" y="8213"/>
                  <a:pt x="20384" y="8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33"/>
          <p:cNvSpPr/>
          <p:nvPr/>
        </p:nvSpPr>
        <p:spPr>
          <a:xfrm>
            <a:off x="2903400" y="1428840"/>
            <a:ext cx="1874880" cy="1725480"/>
          </a:xfrm>
          <a:custGeom>
            <a:avLst/>
            <a:gdLst/>
            <a:ahLst/>
            <a:rect l="l" t="t" r="r" b="b"/>
            <a:pathLst>
              <a:path w="5209" h="4795">
                <a:moveTo>
                  <a:pt x="9334" y="3969"/>
                </a:moveTo>
                <a:cubicBezTo>
                  <a:pt x="9291" y="3983"/>
                  <a:pt x="9252" y="3986"/>
                  <a:pt x="9208" y="4000"/>
                </a:cubicBezTo>
                <a:cubicBezTo>
                  <a:pt x="9167" y="4013"/>
                  <a:pt x="9084" y="4059"/>
                  <a:pt x="9049" y="4064"/>
                </a:cubicBezTo>
                <a:cubicBezTo>
                  <a:pt x="8999" y="4072"/>
                  <a:pt x="8955" y="4043"/>
                  <a:pt x="8922" y="4096"/>
                </a:cubicBezTo>
                <a:cubicBezTo>
                  <a:pt x="8874" y="4172"/>
                  <a:pt x="8939" y="4184"/>
                  <a:pt x="8922" y="4286"/>
                </a:cubicBezTo>
                <a:cubicBezTo>
                  <a:pt x="8904" y="4394"/>
                  <a:pt x="8890" y="4487"/>
                  <a:pt x="8890" y="4604"/>
                </a:cubicBezTo>
                <a:cubicBezTo>
                  <a:pt x="8890" y="4758"/>
                  <a:pt x="8871" y="4898"/>
                  <a:pt x="8858" y="5048"/>
                </a:cubicBezTo>
                <a:cubicBezTo>
                  <a:pt x="8843" y="5229"/>
                  <a:pt x="8826" y="5405"/>
                  <a:pt x="8826" y="5588"/>
                </a:cubicBezTo>
                <a:cubicBezTo>
                  <a:pt x="8826" y="5825"/>
                  <a:pt x="8809" y="6052"/>
                  <a:pt x="8795" y="6286"/>
                </a:cubicBezTo>
                <a:cubicBezTo>
                  <a:pt x="8782" y="6505"/>
                  <a:pt x="8787" y="6735"/>
                  <a:pt x="8763" y="6953"/>
                </a:cubicBezTo>
                <a:cubicBezTo>
                  <a:pt x="8740" y="7157"/>
                  <a:pt x="8731" y="7349"/>
                  <a:pt x="8731" y="7556"/>
                </a:cubicBezTo>
                <a:cubicBezTo>
                  <a:pt x="8731" y="7720"/>
                  <a:pt x="8700" y="7868"/>
                  <a:pt x="8700" y="8033"/>
                </a:cubicBezTo>
                <a:cubicBezTo>
                  <a:pt x="8700" y="8140"/>
                  <a:pt x="8678" y="8217"/>
                  <a:pt x="8668" y="8318"/>
                </a:cubicBezTo>
                <a:cubicBezTo>
                  <a:pt x="8661" y="8395"/>
                  <a:pt x="8647" y="8474"/>
                  <a:pt x="8636" y="8509"/>
                </a:cubicBezTo>
                <a:cubicBezTo>
                  <a:pt x="8697" y="8498"/>
                  <a:pt x="8709" y="8500"/>
                  <a:pt x="8763" y="8477"/>
                </a:cubicBezTo>
                <a:cubicBezTo>
                  <a:pt x="8829" y="8449"/>
                  <a:pt x="8875" y="8427"/>
                  <a:pt x="8954" y="8414"/>
                </a:cubicBezTo>
                <a:cubicBezTo>
                  <a:pt x="9029" y="8402"/>
                  <a:pt x="9090" y="8440"/>
                  <a:pt x="9144" y="8446"/>
                </a:cubicBezTo>
                <a:cubicBezTo>
                  <a:pt x="9197" y="8446"/>
                  <a:pt x="9207" y="8446"/>
                  <a:pt x="9239" y="8446"/>
                </a:cubicBezTo>
              </a:path>
              <a:path w="5209" h="4795">
                <a:moveTo>
                  <a:pt x="10446" y="4286"/>
                </a:moveTo>
                <a:cubicBezTo>
                  <a:pt x="10435" y="4275"/>
                  <a:pt x="10425" y="4265"/>
                  <a:pt x="10414" y="4254"/>
                </a:cubicBezTo>
                <a:cubicBezTo>
                  <a:pt x="10468" y="4239"/>
                  <a:pt x="10381" y="4264"/>
                  <a:pt x="10478" y="4223"/>
                </a:cubicBezTo>
                <a:cubicBezTo>
                  <a:pt x="10547" y="4194"/>
                  <a:pt x="10624" y="4165"/>
                  <a:pt x="10700" y="4128"/>
                </a:cubicBezTo>
                <a:cubicBezTo>
                  <a:pt x="10774" y="4092"/>
                  <a:pt x="10843" y="4046"/>
                  <a:pt x="10922" y="4032"/>
                </a:cubicBezTo>
                <a:cubicBezTo>
                  <a:pt x="10988" y="4020"/>
                  <a:pt x="11046" y="4035"/>
                  <a:pt x="11081" y="4096"/>
                </a:cubicBezTo>
                <a:cubicBezTo>
                  <a:pt x="11132" y="4186"/>
                  <a:pt x="11058" y="4390"/>
                  <a:pt x="11049" y="4477"/>
                </a:cubicBezTo>
                <a:cubicBezTo>
                  <a:pt x="11034" y="4615"/>
                  <a:pt x="11044" y="4754"/>
                  <a:pt x="11017" y="4890"/>
                </a:cubicBezTo>
                <a:cubicBezTo>
                  <a:pt x="10984" y="5058"/>
                  <a:pt x="10967" y="5229"/>
                  <a:pt x="10922" y="5398"/>
                </a:cubicBezTo>
                <a:cubicBezTo>
                  <a:pt x="10875" y="5574"/>
                  <a:pt x="10839" y="5755"/>
                  <a:pt x="10827" y="5937"/>
                </a:cubicBezTo>
                <a:cubicBezTo>
                  <a:pt x="10813" y="6147"/>
                  <a:pt x="10816" y="6362"/>
                  <a:pt x="10795" y="6572"/>
                </a:cubicBezTo>
                <a:cubicBezTo>
                  <a:pt x="10767" y="6846"/>
                  <a:pt x="10770" y="7126"/>
                  <a:pt x="10732" y="7398"/>
                </a:cubicBezTo>
                <a:cubicBezTo>
                  <a:pt x="10707" y="7577"/>
                  <a:pt x="10703" y="7764"/>
                  <a:pt x="10668" y="7938"/>
                </a:cubicBezTo>
                <a:cubicBezTo>
                  <a:pt x="10641" y="8071"/>
                  <a:pt x="10609" y="8189"/>
                  <a:pt x="10573" y="8318"/>
                </a:cubicBezTo>
                <a:cubicBezTo>
                  <a:pt x="10554" y="8386"/>
                  <a:pt x="10542" y="8489"/>
                  <a:pt x="10478" y="8541"/>
                </a:cubicBezTo>
                <a:cubicBezTo>
                  <a:pt x="10440" y="8572"/>
                  <a:pt x="10336" y="8599"/>
                  <a:pt x="10287" y="8604"/>
                </a:cubicBezTo>
                <a:cubicBezTo>
                  <a:pt x="10153" y="8618"/>
                  <a:pt x="10029" y="8583"/>
                  <a:pt x="9906" y="8572"/>
                </a:cubicBezTo>
                <a:cubicBezTo>
                  <a:pt x="9798" y="8563"/>
                  <a:pt x="9692" y="8569"/>
                  <a:pt x="9588" y="8541"/>
                </a:cubicBezTo>
                <a:cubicBezTo>
                  <a:pt x="9560" y="8512"/>
                  <a:pt x="9554" y="8501"/>
                  <a:pt x="9525" y="8509"/>
                </a:cubicBezTo>
              </a:path>
              <a:path w="5209" h="4795">
                <a:moveTo>
                  <a:pt x="8382" y="5461"/>
                </a:moveTo>
                <a:cubicBezTo>
                  <a:pt x="8382" y="5608"/>
                  <a:pt x="8384" y="5737"/>
                  <a:pt x="8350" y="5874"/>
                </a:cubicBezTo>
                <a:cubicBezTo>
                  <a:pt x="8336" y="5931"/>
                  <a:pt x="8358" y="5916"/>
                  <a:pt x="8318" y="5969"/>
                </a:cubicBezTo>
              </a:path>
              <a:path w="5209" h="4795">
                <a:moveTo>
                  <a:pt x="8096" y="6255"/>
                </a:moveTo>
                <a:cubicBezTo>
                  <a:pt x="8085" y="6255"/>
                  <a:pt x="8075" y="6255"/>
                  <a:pt x="8064" y="6255"/>
                </a:cubicBezTo>
                <a:cubicBezTo>
                  <a:pt x="8121" y="6241"/>
                  <a:pt x="8202" y="6197"/>
                  <a:pt x="8255" y="6160"/>
                </a:cubicBezTo>
                <a:cubicBezTo>
                  <a:pt x="8322" y="6114"/>
                  <a:pt x="8383" y="6102"/>
                  <a:pt x="8446" y="6064"/>
                </a:cubicBezTo>
              </a:path>
              <a:path w="5209" h="4795">
                <a:moveTo>
                  <a:pt x="8096" y="6509"/>
                </a:moveTo>
                <a:cubicBezTo>
                  <a:pt x="8167" y="6491"/>
                  <a:pt x="8193" y="6424"/>
                  <a:pt x="8255" y="6382"/>
                </a:cubicBezTo>
                <a:cubicBezTo>
                  <a:pt x="8312" y="6344"/>
                  <a:pt x="8351" y="6350"/>
                  <a:pt x="8414" y="6350"/>
                </a:cubicBezTo>
                <a:cubicBezTo>
                  <a:pt x="8414" y="6442"/>
                  <a:pt x="8393" y="6460"/>
                  <a:pt x="8350" y="6540"/>
                </a:cubicBezTo>
                <a:cubicBezTo>
                  <a:pt x="8306" y="6622"/>
                  <a:pt x="8239" y="6684"/>
                  <a:pt x="8192" y="6763"/>
                </a:cubicBezTo>
                <a:cubicBezTo>
                  <a:pt x="8159" y="6818"/>
                  <a:pt x="8141" y="6845"/>
                  <a:pt x="8096" y="6890"/>
                </a:cubicBezTo>
                <a:cubicBezTo>
                  <a:pt x="8153" y="6919"/>
                  <a:pt x="8149" y="6890"/>
                  <a:pt x="8223" y="6890"/>
                </a:cubicBezTo>
                <a:cubicBezTo>
                  <a:pt x="8289" y="6890"/>
                  <a:pt x="8328" y="6874"/>
                  <a:pt x="8382" y="6858"/>
                </a:cubicBezTo>
                <a:cubicBezTo>
                  <a:pt x="8442" y="6840"/>
                  <a:pt x="8465" y="6875"/>
                  <a:pt x="8509" y="6890"/>
                </a:cubicBezTo>
                <a:cubicBezTo>
                  <a:pt x="8551" y="6904"/>
                  <a:pt x="8623" y="6890"/>
                  <a:pt x="8668" y="6890"/>
                </a:cubicBezTo>
              </a:path>
              <a:path w="5209" h="4795">
                <a:moveTo>
                  <a:pt x="12192" y="4128"/>
                </a:moveTo>
                <a:cubicBezTo>
                  <a:pt x="12134" y="4142"/>
                  <a:pt x="12090" y="4141"/>
                  <a:pt x="12033" y="4159"/>
                </a:cubicBezTo>
                <a:cubicBezTo>
                  <a:pt x="11989" y="4172"/>
                  <a:pt x="11952" y="4177"/>
                  <a:pt x="11906" y="4191"/>
                </a:cubicBezTo>
                <a:cubicBezTo>
                  <a:pt x="11849" y="4208"/>
                  <a:pt x="11805" y="4208"/>
                  <a:pt x="11748" y="4223"/>
                </a:cubicBezTo>
                <a:cubicBezTo>
                  <a:pt x="11765" y="4280"/>
                  <a:pt x="11764" y="4319"/>
                  <a:pt x="11779" y="4382"/>
                </a:cubicBezTo>
                <a:cubicBezTo>
                  <a:pt x="11798" y="4465"/>
                  <a:pt x="11808" y="4513"/>
                  <a:pt x="11811" y="4604"/>
                </a:cubicBezTo>
                <a:cubicBezTo>
                  <a:pt x="11815" y="4729"/>
                  <a:pt x="11792" y="4834"/>
                  <a:pt x="11779" y="4953"/>
                </a:cubicBezTo>
                <a:cubicBezTo>
                  <a:pt x="11763" y="5097"/>
                  <a:pt x="11772" y="5256"/>
                  <a:pt x="11748" y="5398"/>
                </a:cubicBezTo>
                <a:cubicBezTo>
                  <a:pt x="11723" y="5548"/>
                  <a:pt x="11688" y="5687"/>
                  <a:pt x="11684" y="5842"/>
                </a:cubicBezTo>
                <a:cubicBezTo>
                  <a:pt x="11679" y="6026"/>
                  <a:pt x="11657" y="6199"/>
                  <a:pt x="11652" y="6382"/>
                </a:cubicBezTo>
                <a:cubicBezTo>
                  <a:pt x="11648" y="6555"/>
                  <a:pt x="11625" y="6719"/>
                  <a:pt x="11620" y="6890"/>
                </a:cubicBezTo>
                <a:cubicBezTo>
                  <a:pt x="11610" y="7251"/>
                  <a:pt x="11620" y="7618"/>
                  <a:pt x="11589" y="7969"/>
                </a:cubicBezTo>
                <a:cubicBezTo>
                  <a:pt x="11579" y="8083"/>
                  <a:pt x="11568" y="8222"/>
                  <a:pt x="11557" y="8318"/>
                </a:cubicBezTo>
                <a:cubicBezTo>
                  <a:pt x="11550" y="8381"/>
                  <a:pt x="11534" y="8429"/>
                  <a:pt x="11525" y="8477"/>
                </a:cubicBezTo>
                <a:cubicBezTo>
                  <a:pt x="11525" y="8509"/>
                  <a:pt x="11525" y="8520"/>
                  <a:pt x="11525" y="8541"/>
                </a:cubicBezTo>
                <a:cubicBezTo>
                  <a:pt x="11570" y="8526"/>
                  <a:pt x="11598" y="8504"/>
                  <a:pt x="11652" y="8509"/>
                </a:cubicBezTo>
                <a:cubicBezTo>
                  <a:pt x="11708" y="8515"/>
                  <a:pt x="11744" y="8538"/>
                  <a:pt x="11811" y="8541"/>
                </a:cubicBezTo>
                <a:cubicBezTo>
                  <a:pt x="11885" y="8544"/>
                  <a:pt x="11933" y="8555"/>
                  <a:pt x="12002" y="8572"/>
                </a:cubicBezTo>
              </a:path>
              <a:path w="5209" h="4795">
                <a:moveTo>
                  <a:pt x="12827" y="4286"/>
                </a:moveTo>
                <a:cubicBezTo>
                  <a:pt x="12852" y="4273"/>
                  <a:pt x="12885" y="4235"/>
                  <a:pt x="12922" y="4223"/>
                </a:cubicBezTo>
                <a:cubicBezTo>
                  <a:pt x="12978" y="4204"/>
                  <a:pt x="13014" y="4194"/>
                  <a:pt x="13081" y="4191"/>
                </a:cubicBezTo>
                <a:cubicBezTo>
                  <a:pt x="13155" y="4188"/>
                  <a:pt x="13183" y="4188"/>
                  <a:pt x="13240" y="4223"/>
                </a:cubicBezTo>
                <a:cubicBezTo>
                  <a:pt x="13281" y="4248"/>
                  <a:pt x="13281" y="4276"/>
                  <a:pt x="13272" y="4350"/>
                </a:cubicBezTo>
                <a:cubicBezTo>
                  <a:pt x="13266" y="4405"/>
                  <a:pt x="13223" y="4506"/>
                  <a:pt x="13208" y="4572"/>
                </a:cubicBezTo>
                <a:cubicBezTo>
                  <a:pt x="13181" y="4690"/>
                  <a:pt x="13176" y="4794"/>
                  <a:pt x="13176" y="4921"/>
                </a:cubicBezTo>
                <a:cubicBezTo>
                  <a:pt x="13176" y="5473"/>
                  <a:pt x="13170" y="6025"/>
                  <a:pt x="13208" y="6572"/>
                </a:cubicBezTo>
                <a:cubicBezTo>
                  <a:pt x="13223" y="6788"/>
                  <a:pt x="13181" y="6993"/>
                  <a:pt x="13176" y="7207"/>
                </a:cubicBezTo>
                <a:cubicBezTo>
                  <a:pt x="13167" y="7570"/>
                  <a:pt x="13179" y="7929"/>
                  <a:pt x="13144" y="8287"/>
                </a:cubicBezTo>
                <a:cubicBezTo>
                  <a:pt x="13130" y="8426"/>
                  <a:pt x="13185" y="8614"/>
                  <a:pt x="13113" y="8731"/>
                </a:cubicBezTo>
                <a:cubicBezTo>
                  <a:pt x="13090" y="8769"/>
                  <a:pt x="13081" y="8768"/>
                  <a:pt x="13018" y="8763"/>
                </a:cubicBezTo>
                <a:cubicBezTo>
                  <a:pt x="12946" y="8757"/>
                  <a:pt x="12868" y="8709"/>
                  <a:pt x="12795" y="8700"/>
                </a:cubicBezTo>
                <a:cubicBezTo>
                  <a:pt x="12711" y="8690"/>
                  <a:pt x="12647" y="8714"/>
                  <a:pt x="12573" y="8731"/>
                </a:cubicBezTo>
              </a:path>
              <a:path w="5209" h="4795">
                <a:moveTo>
                  <a:pt x="11176" y="6318"/>
                </a:moveTo>
                <a:cubicBezTo>
                  <a:pt x="11206" y="6308"/>
                  <a:pt x="11244" y="6265"/>
                  <a:pt x="11271" y="6223"/>
                </a:cubicBezTo>
                <a:cubicBezTo>
                  <a:pt x="11316" y="6154"/>
                  <a:pt x="11354" y="6147"/>
                  <a:pt x="11430" y="6128"/>
                </a:cubicBezTo>
                <a:cubicBezTo>
                  <a:pt x="11475" y="6203"/>
                  <a:pt x="11470" y="6244"/>
                  <a:pt x="11430" y="6318"/>
                </a:cubicBezTo>
                <a:cubicBezTo>
                  <a:pt x="11386" y="6400"/>
                  <a:pt x="11392" y="6463"/>
                  <a:pt x="11335" y="6540"/>
                </a:cubicBezTo>
                <a:cubicBezTo>
                  <a:pt x="11306" y="6569"/>
                  <a:pt x="11295" y="6575"/>
                  <a:pt x="11303" y="6604"/>
                </a:cubicBezTo>
                <a:cubicBezTo>
                  <a:pt x="11315" y="6567"/>
                  <a:pt x="11346" y="6546"/>
                  <a:pt x="11398" y="6540"/>
                </a:cubicBezTo>
                <a:cubicBezTo>
                  <a:pt x="11442" y="6535"/>
                  <a:pt x="11486" y="6600"/>
                  <a:pt x="11494" y="6636"/>
                </a:cubicBezTo>
                <a:cubicBezTo>
                  <a:pt x="11518" y="6745"/>
                  <a:pt x="11506" y="6919"/>
                  <a:pt x="11462" y="7017"/>
                </a:cubicBezTo>
                <a:cubicBezTo>
                  <a:pt x="11428" y="7092"/>
                  <a:pt x="11432" y="7210"/>
                  <a:pt x="11366" y="7271"/>
                </a:cubicBezTo>
                <a:cubicBezTo>
                  <a:pt x="11310" y="7323"/>
                  <a:pt x="11263" y="7350"/>
                  <a:pt x="11208" y="7302"/>
                </a:cubicBezTo>
                <a:cubicBezTo>
                  <a:pt x="11140" y="7242"/>
                  <a:pt x="11143" y="7096"/>
                  <a:pt x="11176" y="7017"/>
                </a:cubicBezTo>
                <a:cubicBezTo>
                  <a:pt x="11187" y="7006"/>
                  <a:pt x="11197" y="6996"/>
                  <a:pt x="11208" y="6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34"/>
          <p:cNvSpPr/>
          <p:nvPr/>
        </p:nvSpPr>
        <p:spPr>
          <a:xfrm>
            <a:off x="5132520" y="1474920"/>
            <a:ext cx="1371600" cy="1736640"/>
          </a:xfrm>
          <a:custGeom>
            <a:avLst/>
            <a:gdLst/>
            <a:ahLst/>
            <a:rect l="l" t="t" r="r" b="b"/>
            <a:pathLst>
              <a:path w="3811" h="4827">
                <a:moveTo>
                  <a:pt x="16097" y="4096"/>
                </a:moveTo>
                <a:cubicBezTo>
                  <a:pt x="16012" y="4096"/>
                  <a:pt x="15944" y="4112"/>
                  <a:pt x="15875" y="4128"/>
                </a:cubicBezTo>
                <a:cubicBezTo>
                  <a:pt x="15783" y="4149"/>
                  <a:pt x="15736" y="4173"/>
                  <a:pt x="15653" y="4223"/>
                </a:cubicBezTo>
                <a:cubicBezTo>
                  <a:pt x="15612" y="4248"/>
                  <a:pt x="15558" y="4265"/>
                  <a:pt x="15526" y="4318"/>
                </a:cubicBezTo>
                <a:cubicBezTo>
                  <a:pt x="15481" y="4392"/>
                  <a:pt x="15450" y="4475"/>
                  <a:pt x="15462" y="4572"/>
                </a:cubicBezTo>
                <a:cubicBezTo>
                  <a:pt x="15476" y="4681"/>
                  <a:pt x="15494" y="4774"/>
                  <a:pt x="15494" y="4890"/>
                </a:cubicBezTo>
                <a:cubicBezTo>
                  <a:pt x="15494" y="5043"/>
                  <a:pt x="15475" y="5184"/>
                  <a:pt x="15462" y="5334"/>
                </a:cubicBezTo>
                <a:cubicBezTo>
                  <a:pt x="15447" y="5514"/>
                  <a:pt x="15411" y="5693"/>
                  <a:pt x="15399" y="5874"/>
                </a:cubicBezTo>
                <a:cubicBezTo>
                  <a:pt x="15386" y="6075"/>
                  <a:pt x="15371" y="6277"/>
                  <a:pt x="15367" y="6477"/>
                </a:cubicBezTo>
                <a:cubicBezTo>
                  <a:pt x="15362" y="6701"/>
                  <a:pt x="15335" y="6918"/>
                  <a:pt x="15335" y="7144"/>
                </a:cubicBezTo>
                <a:cubicBezTo>
                  <a:pt x="15335" y="7392"/>
                  <a:pt x="15323" y="7631"/>
                  <a:pt x="15304" y="7874"/>
                </a:cubicBezTo>
                <a:cubicBezTo>
                  <a:pt x="15291" y="8035"/>
                  <a:pt x="15272" y="8187"/>
                  <a:pt x="15272" y="8350"/>
                </a:cubicBezTo>
                <a:cubicBezTo>
                  <a:pt x="15272" y="8440"/>
                  <a:pt x="15257" y="8546"/>
                  <a:pt x="15240" y="8636"/>
                </a:cubicBezTo>
                <a:cubicBezTo>
                  <a:pt x="15228" y="8700"/>
                  <a:pt x="15219" y="8732"/>
                  <a:pt x="15208" y="8795"/>
                </a:cubicBezTo>
                <a:cubicBezTo>
                  <a:pt x="15208" y="8805"/>
                  <a:pt x="15208" y="8816"/>
                  <a:pt x="15208" y="8826"/>
                </a:cubicBezTo>
                <a:cubicBezTo>
                  <a:pt x="15255" y="8822"/>
                  <a:pt x="15303" y="8799"/>
                  <a:pt x="15335" y="8795"/>
                </a:cubicBezTo>
                <a:cubicBezTo>
                  <a:pt x="15441" y="8783"/>
                  <a:pt x="15492" y="8828"/>
                  <a:pt x="15589" y="8858"/>
                </a:cubicBezTo>
                <a:cubicBezTo>
                  <a:pt x="15649" y="8877"/>
                  <a:pt x="15719" y="8876"/>
                  <a:pt x="15780" y="8890"/>
                </a:cubicBezTo>
              </a:path>
              <a:path w="3811" h="4827">
                <a:moveTo>
                  <a:pt x="16891" y="4223"/>
                </a:moveTo>
                <a:cubicBezTo>
                  <a:pt x="16934" y="4210"/>
                  <a:pt x="16977" y="4169"/>
                  <a:pt x="17018" y="4159"/>
                </a:cubicBezTo>
                <a:cubicBezTo>
                  <a:pt x="17088" y="4142"/>
                  <a:pt x="17184" y="4151"/>
                  <a:pt x="17208" y="4191"/>
                </a:cubicBezTo>
                <a:cubicBezTo>
                  <a:pt x="17252" y="4263"/>
                  <a:pt x="17240" y="4319"/>
                  <a:pt x="17240" y="4413"/>
                </a:cubicBezTo>
                <a:cubicBezTo>
                  <a:pt x="17240" y="4541"/>
                  <a:pt x="17229" y="4670"/>
                  <a:pt x="17208" y="4794"/>
                </a:cubicBezTo>
                <a:cubicBezTo>
                  <a:pt x="17171" y="5012"/>
                  <a:pt x="17151" y="5239"/>
                  <a:pt x="17145" y="5461"/>
                </a:cubicBezTo>
                <a:cubicBezTo>
                  <a:pt x="17140" y="5662"/>
                  <a:pt x="17154" y="5866"/>
                  <a:pt x="17177" y="6064"/>
                </a:cubicBezTo>
                <a:cubicBezTo>
                  <a:pt x="17206" y="6312"/>
                  <a:pt x="17267" y="6544"/>
                  <a:pt x="17272" y="6794"/>
                </a:cubicBezTo>
                <a:cubicBezTo>
                  <a:pt x="17277" y="7042"/>
                  <a:pt x="17254" y="7280"/>
                  <a:pt x="17240" y="7525"/>
                </a:cubicBezTo>
                <a:cubicBezTo>
                  <a:pt x="17228" y="7739"/>
                  <a:pt x="17194" y="7948"/>
                  <a:pt x="17177" y="8160"/>
                </a:cubicBezTo>
                <a:cubicBezTo>
                  <a:pt x="17165" y="8316"/>
                  <a:pt x="17194" y="8456"/>
                  <a:pt x="17208" y="8604"/>
                </a:cubicBezTo>
                <a:cubicBezTo>
                  <a:pt x="17215" y="8683"/>
                  <a:pt x="17235" y="8831"/>
                  <a:pt x="17177" y="8890"/>
                </a:cubicBezTo>
                <a:cubicBezTo>
                  <a:pt x="17123" y="8945"/>
                  <a:pt x="17021" y="8920"/>
                  <a:pt x="16954" y="8922"/>
                </a:cubicBezTo>
                <a:cubicBezTo>
                  <a:pt x="16850" y="8925"/>
                  <a:pt x="16764" y="8905"/>
                  <a:pt x="16669" y="8890"/>
                </a:cubicBezTo>
              </a:path>
              <a:path w="3811" h="4827">
                <a:moveTo>
                  <a:pt x="14764" y="5620"/>
                </a:moveTo>
                <a:cubicBezTo>
                  <a:pt x="14749" y="5681"/>
                  <a:pt x="14711" y="5742"/>
                  <a:pt x="14700" y="5810"/>
                </a:cubicBezTo>
                <a:cubicBezTo>
                  <a:pt x="14684" y="5904"/>
                  <a:pt x="14691" y="6003"/>
                  <a:pt x="14668" y="6096"/>
                </a:cubicBezTo>
                <a:cubicBezTo>
                  <a:pt x="14640" y="6208"/>
                  <a:pt x="14637" y="6297"/>
                  <a:pt x="14637" y="6414"/>
                </a:cubicBezTo>
                <a:cubicBezTo>
                  <a:pt x="14637" y="6424"/>
                  <a:pt x="14637" y="6435"/>
                  <a:pt x="14637" y="6445"/>
                </a:cubicBezTo>
              </a:path>
              <a:path w="3811" h="4827">
                <a:moveTo>
                  <a:pt x="14288" y="6699"/>
                </a:moveTo>
                <a:cubicBezTo>
                  <a:pt x="14235" y="6699"/>
                  <a:pt x="14330" y="6699"/>
                  <a:pt x="14383" y="6699"/>
                </a:cubicBezTo>
                <a:cubicBezTo>
                  <a:pt x="14479" y="6699"/>
                  <a:pt x="14606" y="6657"/>
                  <a:pt x="14700" y="6636"/>
                </a:cubicBezTo>
                <a:cubicBezTo>
                  <a:pt x="14805" y="6612"/>
                  <a:pt x="14915" y="6589"/>
                  <a:pt x="15018" y="6572"/>
                </a:cubicBezTo>
                <a:cubicBezTo>
                  <a:pt x="15071" y="6572"/>
                  <a:pt x="15081" y="6572"/>
                  <a:pt x="15113" y="6572"/>
                </a:cubicBezTo>
              </a:path>
              <a:path w="3811" h="4827">
                <a:moveTo>
                  <a:pt x="14605" y="7080"/>
                </a:moveTo>
                <a:cubicBezTo>
                  <a:pt x="14605" y="7136"/>
                  <a:pt x="14606" y="7044"/>
                  <a:pt x="14573" y="7176"/>
                </a:cubicBezTo>
                <a:cubicBezTo>
                  <a:pt x="14559" y="7232"/>
                  <a:pt x="14561" y="7280"/>
                  <a:pt x="14542" y="7334"/>
                </a:cubicBezTo>
                <a:cubicBezTo>
                  <a:pt x="14525" y="7383"/>
                  <a:pt x="14530" y="7486"/>
                  <a:pt x="14510" y="7525"/>
                </a:cubicBezTo>
                <a:cubicBezTo>
                  <a:pt x="14499" y="7535"/>
                  <a:pt x="14489" y="7546"/>
                  <a:pt x="14478" y="7556"/>
                </a:cubicBezTo>
                <a:cubicBezTo>
                  <a:pt x="14508" y="7546"/>
                  <a:pt x="14539" y="7516"/>
                  <a:pt x="14573" y="7493"/>
                </a:cubicBezTo>
                <a:cubicBezTo>
                  <a:pt x="14624" y="7459"/>
                  <a:pt x="14637" y="7461"/>
                  <a:pt x="14700" y="7461"/>
                </a:cubicBezTo>
                <a:cubicBezTo>
                  <a:pt x="14759" y="7461"/>
                  <a:pt x="14892" y="7491"/>
                  <a:pt x="14922" y="7430"/>
                </a:cubicBezTo>
                <a:cubicBezTo>
                  <a:pt x="14922" y="7385"/>
                  <a:pt x="14928" y="7362"/>
                  <a:pt x="14954" y="7334"/>
                </a:cubicBezTo>
              </a:path>
              <a:path w="3811" h="4827">
                <a:moveTo>
                  <a:pt x="14859" y="6858"/>
                </a:moveTo>
                <a:cubicBezTo>
                  <a:pt x="14859" y="6973"/>
                  <a:pt x="14858" y="7062"/>
                  <a:pt x="14827" y="7176"/>
                </a:cubicBezTo>
                <a:cubicBezTo>
                  <a:pt x="14784" y="7333"/>
                  <a:pt x="14791" y="7493"/>
                  <a:pt x="14764" y="7652"/>
                </a:cubicBezTo>
                <a:cubicBezTo>
                  <a:pt x="14742" y="7785"/>
                  <a:pt x="14732" y="7897"/>
                  <a:pt x="14732" y="8033"/>
                </a:cubicBezTo>
              </a:path>
              <a:path w="3811" h="4827">
                <a:moveTo>
                  <a:pt x="17653" y="6318"/>
                </a:moveTo>
                <a:cubicBezTo>
                  <a:pt x="17718" y="6334"/>
                  <a:pt x="17734" y="6350"/>
                  <a:pt x="17812" y="6350"/>
                </a:cubicBezTo>
                <a:cubicBezTo>
                  <a:pt x="17901" y="6350"/>
                  <a:pt x="17972" y="6382"/>
                  <a:pt x="18066" y="6382"/>
                </a:cubicBezTo>
              </a:path>
              <a:path w="3811" h="4827">
                <a:moveTo>
                  <a:pt x="17716" y="6953"/>
                </a:moveTo>
                <a:cubicBezTo>
                  <a:pt x="17716" y="7019"/>
                  <a:pt x="17700" y="7074"/>
                  <a:pt x="17780" y="7080"/>
                </a:cubicBezTo>
                <a:cubicBezTo>
                  <a:pt x="17853" y="7085"/>
                  <a:pt x="17929" y="7080"/>
                  <a:pt x="18002" y="7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35"/>
          <p:cNvSpPr/>
          <p:nvPr/>
        </p:nvSpPr>
        <p:spPr>
          <a:xfrm>
            <a:off x="7680240" y="1554120"/>
            <a:ext cx="366840" cy="1509840"/>
          </a:xfrm>
          <a:custGeom>
            <a:avLst/>
            <a:gdLst/>
            <a:ahLst/>
            <a:rect l="l" t="t" r="r" b="b"/>
            <a:pathLst>
              <a:path w="1017" h="4192">
                <a:moveTo>
                  <a:pt x="21939" y="4604"/>
                </a:moveTo>
                <a:cubicBezTo>
                  <a:pt x="21926" y="4550"/>
                  <a:pt x="21903" y="4501"/>
                  <a:pt x="21876" y="4445"/>
                </a:cubicBezTo>
                <a:cubicBezTo>
                  <a:pt x="21835" y="4359"/>
                  <a:pt x="21808" y="4326"/>
                  <a:pt x="21717" y="4318"/>
                </a:cubicBezTo>
                <a:cubicBezTo>
                  <a:pt x="21650" y="4312"/>
                  <a:pt x="21636" y="4337"/>
                  <a:pt x="21590" y="4382"/>
                </a:cubicBezTo>
                <a:cubicBezTo>
                  <a:pt x="21519" y="4452"/>
                  <a:pt x="21523" y="4521"/>
                  <a:pt x="21495" y="4604"/>
                </a:cubicBezTo>
                <a:cubicBezTo>
                  <a:pt x="21472" y="4673"/>
                  <a:pt x="21474" y="4817"/>
                  <a:pt x="21526" y="4890"/>
                </a:cubicBezTo>
                <a:cubicBezTo>
                  <a:pt x="21535" y="4902"/>
                  <a:pt x="21627" y="4936"/>
                  <a:pt x="21654" y="4921"/>
                </a:cubicBezTo>
                <a:cubicBezTo>
                  <a:pt x="21707" y="4892"/>
                  <a:pt x="21751" y="4810"/>
                  <a:pt x="21780" y="4762"/>
                </a:cubicBezTo>
                <a:cubicBezTo>
                  <a:pt x="21837" y="4667"/>
                  <a:pt x="21871" y="4563"/>
                  <a:pt x="21939" y="4477"/>
                </a:cubicBezTo>
                <a:cubicBezTo>
                  <a:pt x="21989" y="4558"/>
                  <a:pt x="21954" y="4635"/>
                  <a:pt x="21971" y="4731"/>
                </a:cubicBezTo>
                <a:cubicBezTo>
                  <a:pt x="21996" y="4874"/>
                  <a:pt x="22003" y="4998"/>
                  <a:pt x="22003" y="5144"/>
                </a:cubicBezTo>
                <a:cubicBezTo>
                  <a:pt x="22003" y="5252"/>
                  <a:pt x="22024" y="5373"/>
                  <a:pt x="21971" y="5461"/>
                </a:cubicBezTo>
              </a:path>
              <a:path w="1017" h="4192">
                <a:moveTo>
                  <a:pt x="21717" y="5906"/>
                </a:moveTo>
                <a:cubicBezTo>
                  <a:pt x="21628" y="5906"/>
                  <a:pt x="21569" y="5913"/>
                  <a:pt x="21495" y="5937"/>
                </a:cubicBezTo>
                <a:cubicBezTo>
                  <a:pt x="21453" y="5951"/>
                  <a:pt x="21407" y="5956"/>
                  <a:pt x="21368" y="5969"/>
                </a:cubicBezTo>
                <a:cubicBezTo>
                  <a:pt x="21311" y="5988"/>
                  <a:pt x="21336" y="6060"/>
                  <a:pt x="21336" y="6128"/>
                </a:cubicBezTo>
                <a:cubicBezTo>
                  <a:pt x="21336" y="6244"/>
                  <a:pt x="21336" y="6361"/>
                  <a:pt x="21336" y="6477"/>
                </a:cubicBezTo>
                <a:cubicBezTo>
                  <a:pt x="21405" y="6454"/>
                  <a:pt x="21365" y="6448"/>
                  <a:pt x="21400" y="6382"/>
                </a:cubicBezTo>
                <a:cubicBezTo>
                  <a:pt x="21423" y="6339"/>
                  <a:pt x="21482" y="6291"/>
                  <a:pt x="21526" y="6286"/>
                </a:cubicBezTo>
                <a:cubicBezTo>
                  <a:pt x="21595" y="6278"/>
                  <a:pt x="21599" y="6366"/>
                  <a:pt x="21622" y="6414"/>
                </a:cubicBezTo>
                <a:cubicBezTo>
                  <a:pt x="21663" y="6500"/>
                  <a:pt x="21654" y="6573"/>
                  <a:pt x="21654" y="6668"/>
                </a:cubicBezTo>
                <a:cubicBezTo>
                  <a:pt x="21654" y="6749"/>
                  <a:pt x="21624" y="6855"/>
                  <a:pt x="21590" y="6922"/>
                </a:cubicBezTo>
                <a:cubicBezTo>
                  <a:pt x="21558" y="6985"/>
                  <a:pt x="21493" y="6960"/>
                  <a:pt x="21463" y="6953"/>
                </a:cubicBezTo>
                <a:cubicBezTo>
                  <a:pt x="21392" y="6937"/>
                  <a:pt x="21410" y="6933"/>
                  <a:pt x="21400" y="6858"/>
                </a:cubicBezTo>
              </a:path>
              <a:path w="1017" h="4192">
                <a:moveTo>
                  <a:pt x="21844" y="5969"/>
                </a:moveTo>
                <a:cubicBezTo>
                  <a:pt x="21909" y="5991"/>
                  <a:pt x="21876" y="6117"/>
                  <a:pt x="21876" y="6191"/>
                </a:cubicBezTo>
                <a:cubicBezTo>
                  <a:pt x="21876" y="6307"/>
                  <a:pt x="21876" y="6424"/>
                  <a:pt x="21876" y="6540"/>
                </a:cubicBezTo>
                <a:cubicBezTo>
                  <a:pt x="21925" y="6492"/>
                  <a:pt x="21935" y="6477"/>
                  <a:pt x="22003" y="6477"/>
                </a:cubicBezTo>
                <a:cubicBezTo>
                  <a:pt x="22089" y="6477"/>
                  <a:pt x="22187" y="6495"/>
                  <a:pt x="22225" y="6445"/>
                </a:cubicBezTo>
                <a:cubicBezTo>
                  <a:pt x="22254" y="6417"/>
                  <a:pt x="22265" y="6411"/>
                  <a:pt x="22257" y="6382"/>
                </a:cubicBezTo>
              </a:path>
              <a:path w="1017" h="4192">
                <a:moveTo>
                  <a:pt x="22162" y="5747"/>
                </a:moveTo>
                <a:cubicBezTo>
                  <a:pt x="22117" y="5776"/>
                  <a:pt x="22118" y="5894"/>
                  <a:pt x="22130" y="5969"/>
                </a:cubicBezTo>
                <a:cubicBezTo>
                  <a:pt x="22159" y="6147"/>
                  <a:pt x="22179" y="6330"/>
                  <a:pt x="22193" y="6509"/>
                </a:cubicBezTo>
                <a:cubicBezTo>
                  <a:pt x="22204" y="6644"/>
                  <a:pt x="22200" y="6756"/>
                  <a:pt x="22225" y="6890"/>
                </a:cubicBezTo>
              </a:path>
              <a:path w="1017" h="4192">
                <a:moveTo>
                  <a:pt x="21558" y="7588"/>
                </a:moveTo>
                <a:cubicBezTo>
                  <a:pt x="21558" y="7529"/>
                  <a:pt x="21550" y="7506"/>
                  <a:pt x="21590" y="7461"/>
                </a:cubicBezTo>
                <a:cubicBezTo>
                  <a:pt x="21645" y="7400"/>
                  <a:pt x="21668" y="7398"/>
                  <a:pt x="21749" y="7398"/>
                </a:cubicBezTo>
                <a:cubicBezTo>
                  <a:pt x="21854" y="7398"/>
                  <a:pt x="21840" y="7459"/>
                  <a:pt x="21844" y="7556"/>
                </a:cubicBezTo>
                <a:cubicBezTo>
                  <a:pt x="21850" y="7702"/>
                  <a:pt x="21819" y="7799"/>
                  <a:pt x="21780" y="7938"/>
                </a:cubicBezTo>
                <a:cubicBezTo>
                  <a:pt x="21744" y="8066"/>
                  <a:pt x="21690" y="8192"/>
                  <a:pt x="21654" y="8318"/>
                </a:cubicBezTo>
                <a:cubicBezTo>
                  <a:pt x="21654" y="8361"/>
                  <a:pt x="21654" y="8382"/>
                  <a:pt x="21654" y="8414"/>
                </a:cubicBezTo>
                <a:cubicBezTo>
                  <a:pt x="21695" y="8383"/>
                  <a:pt x="21742" y="8375"/>
                  <a:pt x="21780" y="8350"/>
                </a:cubicBezTo>
                <a:cubicBezTo>
                  <a:pt x="21820" y="8323"/>
                  <a:pt x="21882" y="8294"/>
                  <a:pt x="21939" y="8318"/>
                </a:cubicBezTo>
                <a:cubicBezTo>
                  <a:pt x="22001" y="8344"/>
                  <a:pt x="21989" y="8382"/>
                  <a:pt x="22066" y="8382"/>
                </a:cubicBezTo>
                <a:cubicBezTo>
                  <a:pt x="22142" y="8382"/>
                  <a:pt x="22113" y="8392"/>
                  <a:pt x="22162" y="8318"/>
                </a:cubicBezTo>
              </a:path>
              <a:path w="1017" h="4192">
                <a:moveTo>
                  <a:pt x="22257" y="7271"/>
                </a:moveTo>
                <a:cubicBezTo>
                  <a:pt x="22257" y="7497"/>
                  <a:pt x="22271" y="7715"/>
                  <a:pt x="22288" y="7938"/>
                </a:cubicBezTo>
                <a:cubicBezTo>
                  <a:pt x="22300" y="8100"/>
                  <a:pt x="22336" y="8254"/>
                  <a:pt x="22352" y="8414"/>
                </a:cubicBezTo>
                <a:cubicBezTo>
                  <a:pt x="22352" y="8446"/>
                  <a:pt x="22352" y="8477"/>
                  <a:pt x="22352" y="8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3:03:18Z</dcterms:created>
  <dc:creator>Sharon Fieldman</dc:creator>
  <dc:description/>
  <dc:language>en-US</dc:language>
  <cp:lastModifiedBy>njamison</cp:lastModifiedBy>
  <dcterms:modified xsi:type="dcterms:W3CDTF">2011-05-13T12:40:52Z</dcterms:modified>
  <cp:revision>27</cp:revision>
  <dc:subject/>
  <dc:title>Goal 3.01/3.02 Matrices (Yay!)</dc:title>
</cp:coreProperties>
</file>